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AB9-4910-484B-86AF-B88CBBEA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187-CA84-42FD-83DD-CB0EC71D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9DD-6B59-487C-8884-BF72702B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B76-8A9B-4FA3-8B9A-9E82BE9E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EBB9-8DBF-4CCC-A136-DFBA3B09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9A20-D980-4D82-BF5F-17342D5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6759-6E68-41B5-8E11-790EBD19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1000-0D7F-4F30-9C34-C4485733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955A-81CD-4B2A-968C-0032556D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F862-0B50-4C19-879A-13E2D33E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0583-6A51-4C97-A816-2FDCA78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65A-ECD7-45CD-A72A-F3609C4C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13DF-AB80-49B3-9EF3-0327BD5D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A1F0-51B5-46B6-BADD-9C77FF2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395B-297D-43D2-898B-7A93792E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183D-3C6A-421F-AD7D-D8031371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24F8-ADB2-4D29-9145-4C7E9DE6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BD65-0705-4DA5-9756-FC5CFE5A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CB90-3F4A-4C45-8F3D-42BFAC76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D049-0ED4-417D-B753-785398ED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AC98-E311-429F-AEFD-3B38A562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3467-67CD-47BF-8600-CE184EDB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EA1-8497-4134-A8E5-E5CB900C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5815-862D-4496-B26A-8904A9BB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44BD-EBB1-4F54-BE64-B7336F19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81B6-975E-4B52-8A93-A7342B8F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B389-3E72-40AC-822C-BB9F0FE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EB5C-1A8F-43A2-BB24-E17CE6A4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C36A-EA40-4FFD-9065-381DA5D0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2B0B-0E0A-4BA8-84A2-3FAF69FF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780D-2BDD-4ED7-9BC5-7214B425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8C91-E288-453E-8A2D-97D7C860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0AEE2-FFCD-4F9E-93D7-744CE656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86D-C3BA-4719-B9D8-C17DD6EC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DEF81-DEAF-4A37-8A85-C20F1D39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C62BB-841E-4862-9E97-EEA00A1C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FD19-5ECF-44BA-87EF-93759DE6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5A46-287C-43D5-8287-8730AE7F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09F6B-FDF3-4942-BAEF-180942FD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19D4-97F6-4296-AB7E-7D4D9178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DE81-A58C-48DB-B3AA-A24DFE21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3473-3B4F-4E88-9597-7D2EFCA6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77C1-1844-4CAA-940B-CCA7F8B0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AD1-2786-4DA9-BB12-FE7B3C7F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69F-9578-4ED4-BA47-BF2C5B73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57F-65A3-4153-AF76-9FA4868A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4F7-D8AA-4BCB-BBB4-D01C6D75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67F-0EAD-4921-BDEC-BF2CA93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D5D0-74D0-4AB1-9EF4-5DC76E73A4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D597-7FC3-4890-9113-C07D034875A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EEE1-FDAC-4AE9-B4B7-9681D9B3CE4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3851-F818-40E3-BE39-20D11594328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116000"/>
            <a:ext cx="77788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520" y="2491920"/>
            <a:ext cx="7710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285840" y="1322280"/>
            <a:ext cx="8235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285840" y="1359000"/>
            <a:ext cx="82184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E:\Фото\Фото0290.jpg"/>
          <p:cNvPicPr/>
          <p:nvPr/>
        </p:nvPicPr>
        <p:blipFill>
          <a:blip r:embed="rId1"/>
          <a:stretch/>
        </p:blipFill>
        <p:spPr>
          <a:xfrm>
            <a:off x="2916360" y="16905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1260360" y="260280"/>
            <a:ext cx="6621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E:\Фото\Фото0294.jpg"/>
          <p:cNvPicPr/>
          <p:nvPr/>
        </p:nvPicPr>
        <p:blipFill>
          <a:blip r:embed="rId1"/>
          <a:stretch/>
        </p:blipFill>
        <p:spPr>
          <a:xfrm>
            <a:off x="3059280" y="1965240"/>
            <a:ext cx="3168360" cy="4224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650880" y="620640"/>
            <a:ext cx="7305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E:\Фото\Фото0296.jpg"/>
          <p:cNvPicPr/>
          <p:nvPr/>
        </p:nvPicPr>
        <p:blipFill>
          <a:blip r:embed="rId1"/>
          <a:stretch/>
        </p:blipFill>
        <p:spPr>
          <a:xfrm>
            <a:off x="3132000" y="2133720"/>
            <a:ext cx="3125880" cy="4165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-274680" y="692280"/>
            <a:ext cx="969336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E:\Фото\Фото0304.jpg"/>
          <p:cNvPicPr/>
          <p:nvPr/>
        </p:nvPicPr>
        <p:blipFill>
          <a:blip r:embed="rId1"/>
          <a:stretch/>
        </p:blipFill>
        <p:spPr>
          <a:xfrm>
            <a:off x="2916360" y="2060640"/>
            <a:ext cx="3041640" cy="4057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990720" y="836640"/>
            <a:ext cx="703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E:\Фото\Фото0292.jpg"/>
          <p:cNvPicPr/>
          <p:nvPr/>
        </p:nvPicPr>
        <p:blipFill>
          <a:blip r:embed="rId1"/>
          <a:stretch/>
        </p:blipFill>
        <p:spPr>
          <a:xfrm>
            <a:off x="3203640" y="2421000"/>
            <a:ext cx="3052800" cy="40701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1258920" y="836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седа о происхождении  и свойствах магни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E:\Фото\Фото0298.jpg"/>
          <p:cNvPicPr/>
          <p:nvPr/>
        </p:nvPicPr>
        <p:blipFill>
          <a:blip r:embed="rId1"/>
          <a:stretch/>
        </p:blipFill>
        <p:spPr>
          <a:xfrm>
            <a:off x="3059280" y="2349360"/>
            <a:ext cx="2836800" cy="378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82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19:26:16Z</dcterms:created>
  <dc:creator>САШУЛЬКА</dc:creator>
  <dc:description/>
  <dc:language>en-US</dc:language>
  <cp:lastModifiedBy>ANDREY64</cp:lastModifiedBy>
  <dcterms:modified xsi:type="dcterms:W3CDTF">2018-02-04T14:44:33Z</dcterms:modified>
  <cp:revision>7</cp:revision>
  <dc:subject/>
  <dc:title>Мультимедийная разработка к конспекту НОД: «Волшебный магнит»</dc:title>
</cp:coreProperties>
</file>