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456-3694-4DB8-8B58-4BC0311C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5B3-0E02-4183-9219-AE5D6098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AA5-1ED9-4352-880D-8C6ACCFC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1CD-15D0-4299-8678-F58C9680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8D5-2031-43F7-B148-8574C5F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489-E31D-4F76-8445-FBABD475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646-833B-4C36-BC25-7652CCDF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A77-69C2-49A9-B6EF-0E781DD5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FBC-26C9-41B5-867B-EBC579DB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525-466B-4D03-B042-DF097FD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B96-BAC6-44FF-81D0-FF4E018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5BE-4BB4-4B4F-9F17-6369E5F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A4D55-BDA5-40BD-8202-84CFA93291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ое казенное учреждение социального обслуживания Московской области «Подольский районный реабилитационный центр для детей и подростков с ограниченными возможностями здоровья «Ягод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ого рису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Этих дней не смолкнет сла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4375080"/>
            <a:ext cx="90709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Перехожих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6 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0" anchor="ctr">
            <a:noAutofit/>
          </a:bodyPr>
          <a:p>
            <a:pPr indent="0" algn="ctr">
              <a:lnSpc>
                <a:spcPct val="86000"/>
              </a:lnSpc>
              <a:spcBef>
                <a:spcPts val="9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выставки -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любовь к отечеству, развивать патриотические чувства</a:t>
            </a:r>
            <a:br>
              <a:rPr sz="1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751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гащать детско-родительские отношения опытом совместной твор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751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творческих способностей детей через творческую совместную  деятельность детей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ения выставк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Участниками выставки являются воспитанники центра  и их родит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ыставка детского рисунка «Этих дней не смолкнет сла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81280" y="2666880"/>
            <a:ext cx="4267080" cy="273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7939080" cy="4318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3280" y="1768320"/>
            <a:ext cx="91440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396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0520" y="647640"/>
            <a:ext cx="1023840" cy="1166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3960" y="287280"/>
            <a:ext cx="4370400" cy="30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64240" y="3959280"/>
            <a:ext cx="3914640" cy="2905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19964" t="0" r="14975" b="14945"/>
          <a:stretch/>
        </p:blipFill>
        <p:spPr>
          <a:xfrm>
            <a:off x="5872320" y="592200"/>
            <a:ext cx="3098520" cy="264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76360" y="6191280"/>
            <a:ext cx="852480" cy="544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76360" y="3743280"/>
            <a:ext cx="4464000" cy="299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rcRect l="19964" t="0" r="14975" b="14945"/>
          <a:stretch/>
        </p:blipFill>
        <p:spPr>
          <a:xfrm>
            <a:off x="5872320" y="431640"/>
            <a:ext cx="3560760" cy="280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rcRect l="19964" t="0" r="14975" b="14945"/>
          <a:stretch/>
        </p:blipFill>
        <p:spPr>
          <a:xfrm>
            <a:off x="5472000" y="431640"/>
            <a:ext cx="3959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ень победы со слезами на глаз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0560" y="2009880"/>
            <a:ext cx="5689800" cy="403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1640" y="1709640"/>
            <a:ext cx="30387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2000" y="30168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48360" y="1781280"/>
            <a:ext cx="3152880" cy="426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4680" y="3600360"/>
            <a:ext cx="46083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усть помнит мир спасенный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08720" y="20685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2162160"/>
            <a:ext cx="5689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08:36:22Z</dcterms:created>
  <dc:creator>Светлана </dc:creator>
  <dc:description/>
  <dc:language>en-US</dc:language>
  <cp:lastModifiedBy>Светлана </cp:lastModifiedBy>
  <dcterms:modified xsi:type="dcterms:W3CDTF">2018-01-28T11:02:59Z</dcterms:modified>
  <cp:revision>4</cp:revision>
  <dc:subject/>
  <dc:title/>
</cp:coreProperties>
</file>