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wmf" ContentType="image/x-wmf"/>
  <Override PartName="/ppt/media/image25.wmf" ContentType="image/x-wmf"/>
  <Override PartName="/ppt/media/image6.wmf" ContentType="image/x-wmf"/>
  <Override PartName="/ppt/media/image4.jpeg" ContentType="image/jpeg"/>
  <Override PartName="/ppt/media/image31.wmf" ContentType="image/x-wmf"/>
  <Override PartName="/ppt/media/image7.jpeg" ContentType="image/jpeg"/>
  <Override PartName="/ppt/media/image12.jpeg" ContentType="image/jpeg"/>
  <Override PartName="/ppt/media/image19.jpeg" ContentType="image/jpeg"/>
  <Override PartName="/ppt/media/image2.gif" ContentType="image/gif"/>
  <Override PartName="/ppt/media/image8.jpeg" ContentType="image/jpeg"/>
  <Override PartName="/ppt/media/image10.jpeg" ContentType="image/jpeg"/>
  <Override PartName="/ppt/media/image13.wmf" ContentType="image/x-wmf"/>
  <Override PartName="/ppt/media/image9.jpeg" ContentType="image/jpeg"/>
  <Override PartName="/ppt/media/image11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29.wmf" ContentType="image/x-wmf"/>
  <Override PartName="/ppt/media/image1.png" ContentType="image/png"/>
  <Override PartName="/ppt/media/image14.jpeg" ContentType="image/jpeg"/>
  <Override PartName="/ppt/media/image15.wmf" ContentType="image/x-wmf"/>
  <Override PartName="/ppt/media/image22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32.wmf" ContentType="image/x-wmf"/>
  <Override PartName="/ppt/media/image21.jpeg" ContentType="image/jpeg"/>
  <Override PartName="/ppt/media/image30.gif" ContentType="image/gi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EB8-DE20-41FC-87E4-8E8D2E42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571E-D24F-4A1A-B942-CBB4FF4C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D07D-DDC6-4BAA-A158-CA6FB072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1843-E3AA-49A7-83A5-71CE4477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D310-6A61-45D5-A722-820A4E77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9847-5287-48B6-BA8F-E12E8DF9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AB49-3EDA-410F-81E7-424B6C53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399A-41AF-495C-8128-0E4747B3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7EFF-0F55-4630-B98E-98B4C80B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1DD4-D973-4C41-BE7A-5672F2D5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8AC8-C214-49DF-BA0E-BA5460FF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EFD-8AE8-4725-B1D2-2F18CD5C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23D1-DDAA-4EE2-829A-16E9523E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2270-E41E-4803-8844-E97E1117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5240-6B09-4E4D-8BA6-6C3823E2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953C-BC86-4CE5-AB61-49D4E331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6A66-C1DE-47A4-B064-FF527790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C80-81F7-426C-A343-2E097540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D5B-1FB3-4538-BF2F-0E84C6F1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4D1-2C8B-478C-8178-7ACF9149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8B0-7081-4C8D-867A-75A834CA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A09-EAEC-441B-AA67-650F77C6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E722-02FD-4DAC-8B5F-70996D7E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67F-0339-4F38-8364-90376EF3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EE7B-5951-40EC-B13B-69EBC4E6B6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99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00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01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07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13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5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7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19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0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25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6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31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132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135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138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141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44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47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50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53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156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8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9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4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5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5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6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7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8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9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10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11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12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13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14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15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16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17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18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19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20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21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22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23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24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25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26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27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28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29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30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31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32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33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34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335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336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37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38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39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0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341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342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3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4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5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6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7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8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9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0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1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2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3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4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5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6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7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58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1400-1815-4845-B022-A2C4F9464767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af078f"/>
                </a:solidFill>
                <a:latin typeface="Times New Roman"/>
              </a:rPr>
              <a:t>Закон и власть</a:t>
            </a:r>
            <a:endParaRPr b="0" lang="en-US" sz="8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347184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Organization Chart 20"/>
          <p:cNvGrpSpPr/>
          <p:nvPr/>
        </p:nvGrpSpPr>
        <p:grpSpPr>
          <a:xfrm>
            <a:off x="826920" y="836640"/>
            <a:ext cx="7634880" cy="5616000"/>
            <a:chOff x="826920" y="836640"/>
            <a:chExt cx="7634880" cy="5616000"/>
          </a:xfrm>
        </p:grpSpPr>
        <p:cxnSp>
          <p:nvCxnSpPr>
            <p:cNvPr id="418" name="_s1028"/>
            <p:cNvCxnSpPr>
              <a:stCxn id="419" idx="1"/>
              <a:endCxn id="420" idx="2"/>
            </p:cNvCxnSpPr>
            <p:nvPr/>
          </p:nvCxnSpPr>
          <p:spPr>
            <a:xfrm rot="10800000">
              <a:off x="3116520" y="1856880"/>
              <a:ext cx="763920" cy="4085280"/>
            </a:xfrm>
            <a:prstGeom prst="bentConnector2">
              <a:avLst/>
            </a:prstGeom>
            <a:ln w="28440">
              <a:solidFill>
                <a:srgbClr val="8383ad"/>
              </a:solidFill>
              <a:miter/>
            </a:ln>
          </p:spPr>
        </p:cxnSp>
        <p:cxnSp>
          <p:nvCxnSpPr>
            <p:cNvPr id="421" name="_s1029"/>
            <p:cNvCxnSpPr>
              <a:stCxn id="422" idx="1"/>
              <a:endCxn id="420" idx="2"/>
            </p:cNvCxnSpPr>
            <p:nvPr/>
          </p:nvCxnSpPr>
          <p:spPr>
            <a:xfrm rot="10800000">
              <a:off x="3116520" y="1856880"/>
              <a:ext cx="763920" cy="2553120"/>
            </a:xfrm>
            <a:prstGeom prst="bentConnector2">
              <a:avLst/>
            </a:prstGeom>
            <a:ln w="28440">
              <a:solidFill>
                <a:srgbClr val="8383ad"/>
              </a:solidFill>
              <a:miter/>
            </a:ln>
          </p:spPr>
        </p:cxnSp>
        <p:cxnSp>
          <p:nvCxnSpPr>
            <p:cNvPr id="423" name="_s1030"/>
            <p:cNvCxnSpPr>
              <a:stCxn id="424" idx="1"/>
              <a:endCxn id="420" idx="2"/>
            </p:cNvCxnSpPr>
            <p:nvPr/>
          </p:nvCxnSpPr>
          <p:spPr>
            <a:xfrm rot="10800000">
              <a:off x="3116520" y="1856880"/>
              <a:ext cx="763920" cy="1021680"/>
            </a:xfrm>
            <a:prstGeom prst="bentConnector2">
              <a:avLst/>
            </a:prstGeom>
            <a:ln w="28440">
              <a:solidFill>
                <a:srgbClr val="8383ad"/>
              </a:solidFill>
              <a:miter/>
            </a:ln>
          </p:spPr>
        </p:cxnSp>
        <p:sp>
          <p:nvSpPr>
            <p:cNvPr id="420" name="_s1031"/>
            <p:cNvSpPr/>
            <p:nvPr/>
          </p:nvSpPr>
          <p:spPr>
            <a:xfrm>
              <a:off x="826920" y="836640"/>
              <a:ext cx="4581000" cy="1020960"/>
            </a:xfrm>
            <a:prstGeom prst="roundRect">
              <a:avLst>
                <a:gd name="adj" fmla="val 16667"/>
              </a:avLst>
            </a:prstGeom>
            <a:solidFill>
              <a:srgbClr val="fec932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3300"/>
                  </a:solidFill>
                  <a:latin typeface="Arial"/>
                </a:rPr>
                <a:t>Ветви власти</a:t>
              </a:r>
              <a:r>
                <a:rPr b="0" lang="en-US" sz="2600" spc="-1" strike="noStrike">
                  <a:solidFill>
                    <a:srgbClr val="8383ad"/>
                  </a:solidFill>
                  <a:latin typeface="Arial"/>
                </a:rPr>
                <a:t>.</a:t>
              </a:r>
              <a:endParaRPr b="0" lang="en-US" sz="2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4" name="_s1032"/>
            <p:cNvSpPr/>
            <p:nvPr/>
          </p:nvSpPr>
          <p:spPr>
            <a:xfrm>
              <a:off x="3880800" y="2368080"/>
              <a:ext cx="4581000" cy="10209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ec932"/>
                  </a:solidFill>
                  <a:latin typeface="Arial"/>
                </a:rPr>
                <a:t>законодательная</a:t>
              </a:r>
              <a:endParaRPr b="0" lang="en-US" sz="2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2" name="_s1033"/>
            <p:cNvSpPr/>
            <p:nvPr/>
          </p:nvSpPr>
          <p:spPr>
            <a:xfrm>
              <a:off x="3880800" y="3899880"/>
              <a:ext cx="4581000" cy="102096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383ad"/>
                  </a:solidFill>
                  <a:latin typeface="Arial"/>
                </a:rPr>
                <a:t>исполнительная</a:t>
              </a:r>
              <a:endParaRPr b="0" lang="en-US" sz="2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9" name="_s1034"/>
            <p:cNvSpPr/>
            <p:nvPr/>
          </p:nvSpPr>
          <p:spPr>
            <a:xfrm>
              <a:off x="3880800" y="5431680"/>
              <a:ext cx="4581000" cy="1020960"/>
            </a:xfrm>
            <a:prstGeom prst="roundRect">
              <a:avLst>
                <a:gd name="adj" fmla="val 16667"/>
              </a:avLst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ec932"/>
                  </a:solidFill>
                  <a:latin typeface="Arial"/>
                </a:rPr>
                <a:t>судебная</a:t>
              </a:r>
              <a:endParaRPr b="0" lang="en-US" sz="26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Line 5"/>
          <p:cNvSpPr/>
          <p:nvPr/>
        </p:nvSpPr>
        <p:spPr>
          <a:xfrm>
            <a:off x="5508720" y="1989000"/>
            <a:ext cx="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PubBanner"/>
          <p:cNvSpPr/>
          <p:nvPr/>
        </p:nvSpPr>
        <p:spPr>
          <a:xfrm>
            <a:off x="900000" y="549360"/>
            <a:ext cx="6983640" cy="19429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WordArt 14"/>
          <p:cNvSpPr txBox="1"/>
          <p:nvPr/>
        </p:nvSpPr>
        <p:spPr>
          <a:xfrm>
            <a:off x="2050920" y="907920"/>
            <a:ext cx="4826160" cy="122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ысший законодательный орган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28" name="AutoShape 15"/>
          <p:cNvSpPr/>
          <p:nvPr/>
        </p:nvSpPr>
        <p:spPr>
          <a:xfrm>
            <a:off x="3851280" y="1844640"/>
            <a:ext cx="863640" cy="1224000"/>
          </a:xfrm>
          <a:prstGeom prst="downArrow">
            <a:avLst>
              <a:gd name="adj1" fmla="val 50000"/>
              <a:gd name="adj2" fmla="val 35431"/>
            </a:avLst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AutoShape 17"/>
          <p:cNvSpPr/>
          <p:nvPr/>
        </p:nvSpPr>
        <p:spPr>
          <a:xfrm>
            <a:off x="971640" y="2852640"/>
            <a:ext cx="6840360" cy="2448000"/>
          </a:xfrm>
          <a:custGeom>
            <a:avLst/>
            <a:gdLst>
              <a:gd name="textAreaLeft" fmla="*/ 0 w 6840360"/>
              <a:gd name="textAreaRight" fmla="*/ 6840720 w 6840360"/>
              <a:gd name="textAreaTop" fmla="*/ 317160 h 2448000"/>
              <a:gd name="textAreaBottom" fmla="*/ 2130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АРЛАМЕНТ -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(англ. parliament,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т франц. parler — говорить)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ысший представительный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рган власт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Rectangle 18"/>
          <p:cNvSpPr/>
          <p:nvPr/>
        </p:nvSpPr>
        <p:spPr>
          <a:xfrm>
            <a:off x="971640" y="5516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первые был образован в Англии в 13 в. как орган сословного представительства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2556000" y="620640"/>
            <a:ext cx="3744720" cy="180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Парламент-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-Федеральное собрание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611280" y="2637000"/>
            <a:ext cx="3024000" cy="172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d6"/>
                </a:solidFill>
                <a:latin typeface="Arial"/>
              </a:rPr>
              <a:t>Совет федерации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5292720" y="2637000"/>
            <a:ext cx="3168720" cy="16570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ec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3f3f7"/>
                </a:solidFill>
                <a:latin typeface="Arial"/>
              </a:rPr>
              <a:t>Государственная дума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Line 8"/>
          <p:cNvSpPr/>
          <p:nvPr/>
        </p:nvSpPr>
        <p:spPr>
          <a:xfrm>
            <a:off x="1908000" y="4365720"/>
            <a:ext cx="0" cy="503280"/>
          </a:xfrm>
          <a:prstGeom prst="line">
            <a:avLst/>
          </a:prstGeom>
          <a:ln w="7632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5" name="Line 9"/>
          <p:cNvSpPr/>
          <p:nvPr/>
        </p:nvSpPr>
        <p:spPr>
          <a:xfrm>
            <a:off x="6804000" y="4292640"/>
            <a:ext cx="0" cy="576360"/>
          </a:xfrm>
          <a:prstGeom prst="line">
            <a:avLst/>
          </a:prstGeom>
          <a:ln w="7632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436" name="AutoShape 10"/>
          <p:cNvCxnSpPr>
            <a:stCxn id="434" idx="0"/>
          </p:cNvCxnSpPr>
          <p:nvPr/>
        </p:nvCxnSpPr>
        <p:spPr>
          <a:xfrm>
            <a:off x="1908000" y="4906440"/>
            <a:ext cx="4896720" cy="1080"/>
          </a:xfrm>
          <a:prstGeom prst="straightConnector1">
            <a:avLst/>
          </a:prstGeom>
          <a:ln w="76320">
            <a:solidFill>
              <a:srgbClr val="8383ad"/>
            </a:solidFill>
            <a:miter/>
          </a:ln>
        </p:spPr>
      </p:cxnSp>
      <p:sp>
        <p:nvSpPr>
          <p:cNvPr id="437" name="Rectangle 12"/>
          <p:cNvSpPr/>
          <p:nvPr/>
        </p:nvSpPr>
        <p:spPr>
          <a:xfrm>
            <a:off x="1908000" y="5013360"/>
            <a:ext cx="4896000" cy="10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f3f7"/>
                </a:solidFill>
                <a:latin typeface="Arial"/>
              </a:rPr>
              <a:t>2 палат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Line 13"/>
          <p:cNvSpPr/>
          <p:nvPr/>
        </p:nvSpPr>
        <p:spPr>
          <a:xfrm>
            <a:off x="4211640" y="4941720"/>
            <a:ext cx="0" cy="71640"/>
          </a:xfrm>
          <a:prstGeom prst="line">
            <a:avLst/>
          </a:prstGeom>
          <a:ln w="7632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AutoShape 14"/>
          <p:cNvSpPr/>
          <p:nvPr/>
        </p:nvSpPr>
        <p:spPr>
          <a:xfrm flipH="1" rot="16200000">
            <a:off x="1438920" y="1450080"/>
            <a:ext cx="1152720" cy="935280"/>
          </a:xfrm>
          <a:custGeom>
            <a:avLst/>
            <a:gdLst>
              <a:gd name="textAreaLeft" fmla="*/ 663120 w 1152720"/>
              <a:gd name="textAreaRight" fmla="*/ 972720 w 1152720"/>
              <a:gd name="textAreaTop" fmla="*/ 126000 h 935280"/>
              <a:gd name="textAreaBottom" fmla="*/ 40032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a048e8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AutoShape 15"/>
          <p:cNvSpPr/>
          <p:nvPr/>
        </p:nvSpPr>
        <p:spPr>
          <a:xfrm rot="5400000">
            <a:off x="6264360" y="1449360"/>
            <a:ext cx="1224000" cy="1008000"/>
          </a:xfrm>
          <a:custGeom>
            <a:avLst/>
            <a:gdLst>
              <a:gd name="textAreaLeft" fmla="*/ 704160 w 1224000"/>
              <a:gd name="textAreaRight" fmla="*/ 1032840 w 1224000"/>
              <a:gd name="textAreaTop" fmla="*/ 135720 h 1008000"/>
              <a:gd name="textAreaBottom" fmla="*/ 43128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a048e8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714240" y="857160"/>
            <a:ext cx="777240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Первая Госдума в России появилась в 1906 году. Ограничивая власть царя, она сама строилась на ограничительных началах: тогда избирательных прав не имели женщины, лица моложе 25 лет, учащиеся, военные, губернаторы и др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42" name="Picture 14" descr="HH00546_"/>
          <p:cNvPicPr/>
          <p:nvPr/>
        </p:nvPicPr>
        <p:blipFill>
          <a:blip r:embed="rId1"/>
          <a:stretch/>
        </p:blipFill>
        <p:spPr>
          <a:xfrm>
            <a:off x="6372360" y="4221000"/>
            <a:ext cx="21445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5"/>
          <p:cNvSpPr/>
          <p:nvPr/>
        </p:nvSpPr>
        <p:spPr>
          <a:xfrm>
            <a:off x="571680" y="5643720"/>
            <a:ext cx="79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ва. Здание Государственной думы Российской Федер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44" name="Picture 5" descr="http://www.rb.ru/skip/upload/users/picture/624824/gosduma475_2011-11-25_11.41.03.jpg"/>
          <p:cNvPicPr/>
          <p:nvPr/>
        </p:nvPicPr>
        <p:blipFill>
          <a:blip r:embed="rId1"/>
          <a:stretch/>
        </p:blipFill>
        <p:spPr>
          <a:xfrm>
            <a:off x="1116000" y="620640"/>
            <a:ext cx="69850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Diagram 15"/>
          <p:cNvGrpSpPr/>
          <p:nvPr/>
        </p:nvGrpSpPr>
        <p:grpSpPr>
          <a:xfrm>
            <a:off x="253800" y="825120"/>
            <a:ext cx="8421120" cy="6090840"/>
            <a:chOff x="253800" y="825120"/>
            <a:chExt cx="8421120" cy="6090840"/>
          </a:xfrm>
        </p:grpSpPr>
        <p:sp>
          <p:nvSpPr>
            <p:cNvPr id="446" name="_s2052"/>
            <p:cNvSpPr/>
            <p:nvPr/>
          </p:nvSpPr>
          <p:spPr>
            <a:xfrm>
              <a:off x="2115360" y="825120"/>
              <a:ext cx="4694400" cy="3124080"/>
            </a:xfrm>
            <a:custGeom>
              <a:avLst/>
              <a:gdLst>
                <a:gd name="textAreaLeft" fmla="*/ 0 w 4694400"/>
                <a:gd name="textAreaRight" fmla="*/ 4694760 w 4694400"/>
                <a:gd name="textAreaTop" fmla="*/ 0 h 3124080"/>
                <a:gd name="textAreaBottom" fmla="*/ 3124440 h 31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7" name="_s2053"/>
            <p:cNvSpPr/>
            <p:nvPr/>
          </p:nvSpPr>
          <p:spPr>
            <a:xfrm rot="4320000">
              <a:off x="4390560" y="760320"/>
              <a:ext cx="3124080" cy="469440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4694400"/>
                <a:gd name="textAreaBottom" fmla="*/ 4694760 h 469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8" name="_s2054"/>
            <p:cNvSpPr/>
            <p:nvPr/>
          </p:nvSpPr>
          <p:spPr>
            <a:xfrm rot="8640000">
              <a:off x="3034440" y="2710440"/>
              <a:ext cx="4694400" cy="3124080"/>
            </a:xfrm>
            <a:custGeom>
              <a:avLst/>
              <a:gdLst>
                <a:gd name="textAreaLeft" fmla="*/ 0 w 4694400"/>
                <a:gd name="textAreaRight" fmla="*/ 4694760 w 4694400"/>
                <a:gd name="textAreaTop" fmla="*/ 0 h 3124080"/>
                <a:gd name="textAreaBottom" fmla="*/ 3124440 h 31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9" name="_s2055"/>
            <p:cNvSpPr/>
            <p:nvPr/>
          </p:nvSpPr>
          <p:spPr>
            <a:xfrm rot="12960000">
              <a:off x="1192320" y="2710440"/>
              <a:ext cx="4694400" cy="3124080"/>
            </a:xfrm>
            <a:custGeom>
              <a:avLst/>
              <a:gdLst>
                <a:gd name="textAreaLeft" fmla="*/ 0 w 4694400"/>
                <a:gd name="textAreaRight" fmla="*/ 4694760 w 4694400"/>
                <a:gd name="textAreaTop" fmla="*/ 0 h 3124080"/>
                <a:gd name="textAreaBottom" fmla="*/ 3124440 h 31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0" name="_s2056"/>
            <p:cNvSpPr/>
            <p:nvPr/>
          </p:nvSpPr>
          <p:spPr>
            <a:xfrm rot="17280000">
              <a:off x="1407240" y="758160"/>
              <a:ext cx="3124080" cy="469440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4694400"/>
                <a:gd name="textAreaBottom" fmla="*/ 4694760 h 469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1" name="_s2057"/>
            <p:cNvSpPr/>
            <p:nvPr/>
          </p:nvSpPr>
          <p:spPr>
            <a:xfrm>
              <a:off x="5666040" y="957600"/>
              <a:ext cx="1727640" cy="11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Arial"/>
                </a:rPr>
                <a:t>ЗАКОНЫ</a:t>
              </a:r>
              <a:endParaRPr b="0" lang="en-US" sz="27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2" name="_s2058"/>
            <p:cNvSpPr/>
            <p:nvPr/>
          </p:nvSpPr>
          <p:spPr>
            <a:xfrm>
              <a:off x="253800" y="3578400"/>
              <a:ext cx="1728360" cy="11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ff"/>
                  </a:solidFill>
                  <a:latin typeface="Arial"/>
                </a:rPr>
                <a:t>Президент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66ff"/>
                  </a:solidFill>
                  <a:latin typeface="Arial"/>
                </a:rPr>
                <a:t>может отклонить его. 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ff"/>
                  </a:solidFill>
                  <a:latin typeface="Arial"/>
                </a:rPr>
                <a:t>В таком случае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66ff"/>
                  </a:solidFill>
                  <a:latin typeface="Arial"/>
                </a:rPr>
                <a:t>парламент 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ff"/>
                  </a:solidFill>
                  <a:latin typeface="Arial"/>
                </a:rPr>
                <a:t>будет рассматривать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66ff"/>
                  </a:solidFill>
                  <a:latin typeface="Arial"/>
                </a:rPr>
                <a:t>его вновь</a:t>
              </a:r>
              <a:endParaRPr b="0" lang="en-US" sz="16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3" name="_s2059"/>
            <p:cNvSpPr/>
            <p:nvPr/>
          </p:nvSpPr>
          <p:spPr>
            <a:xfrm>
              <a:off x="1528920" y="959760"/>
              <a:ext cx="1727640" cy="11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ГОСДУМА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4" name="_s2060"/>
            <p:cNvSpPr/>
            <p:nvPr/>
          </p:nvSpPr>
          <p:spPr>
            <a:xfrm>
              <a:off x="6947280" y="3573720"/>
              <a:ext cx="1727640" cy="11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СОВЕТ 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ФЕДЕРАЦИИ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5" name="_s2061"/>
            <p:cNvSpPr/>
            <p:nvPr/>
          </p:nvSpPr>
          <p:spPr>
            <a:xfrm>
              <a:off x="3602160" y="5194440"/>
              <a:ext cx="1727640" cy="11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cc"/>
                  </a:solidFill>
                  <a:latin typeface="Arial"/>
                </a:rPr>
                <a:t>ПРЕЗИДЕНТ</a:t>
              </a:r>
              <a:endParaRPr b="0" lang="en-US" sz="19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383ad"/>
                  </a:solidFill>
                  <a:latin typeface="Arial"/>
                </a:rPr>
                <a:t>подписывает</a:t>
              </a:r>
              <a:endParaRPr b="0" lang="en-US" sz="19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383ad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8383ad"/>
                  </a:solidFill>
                  <a:latin typeface="Arial"/>
                </a:rPr>
                <a:t>закон и </a:t>
              </a:r>
              <a:endParaRPr b="0" lang="en-US" sz="19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383ad"/>
                  </a:solidFill>
                  <a:latin typeface="Arial"/>
                </a:rPr>
                <a:t>обнародует </a:t>
              </a:r>
              <a:endParaRPr b="0" lang="en-US" sz="19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383ad"/>
                  </a:solidFill>
                  <a:latin typeface="Arial"/>
                </a:rPr>
                <a:t>14 дней.</a:t>
              </a:r>
              <a:endParaRPr b="0" lang="en-US" sz="19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857160" y="857160"/>
            <a:ext cx="3240000" cy="14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ИСПОЛНИТЕЛЬНАЯ </a:t>
            </a:r>
            <a:br>
              <a:rPr sz="2400"/>
            </a:b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786200" y="903240"/>
            <a:ext cx="3024360" cy="1368360"/>
          </a:xfrm>
          <a:prstGeom prst="rect">
            <a:avLst/>
          </a:prstGeom>
          <a:solidFill>
            <a:srgbClr val="ffff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существляет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функции управления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глава государства,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авительство),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4786200" y="2487600"/>
            <a:ext cx="3024360" cy="1368360"/>
          </a:xfrm>
          <a:prstGeom prst="rect">
            <a:avLst/>
          </a:prstGeom>
          <a:solidFill>
            <a:srgbClr val="ff33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вается на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йствующих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ах и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рмативных актах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4857840" y="4071960"/>
            <a:ext cx="3168720" cy="1440000"/>
          </a:xfrm>
          <a:prstGeom prst="rect">
            <a:avLst/>
          </a:prstGeom>
          <a:solidFill>
            <a:srgbClr val="66ff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ринимает собственны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остановления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 решения во исполнение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актов законодательной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ласт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0" name="Picture 9" descr="j0195812"/>
          <p:cNvPicPr/>
          <p:nvPr/>
        </p:nvPicPr>
        <p:blipFill>
          <a:blip r:embed="rId1"/>
          <a:stretch/>
        </p:blipFill>
        <p:spPr>
          <a:xfrm>
            <a:off x="1285920" y="3143160"/>
            <a:ext cx="2450880" cy="2521080"/>
          </a:xfrm>
          <a:prstGeom prst="rect">
            <a:avLst/>
          </a:prstGeom>
          <a:ln w="0">
            <a:noFill/>
          </a:ln>
        </p:spPr>
      </p:pic>
      <p:sp>
        <p:nvSpPr>
          <p:cNvPr id="461" name="Стрелка вправо 6"/>
          <p:cNvSpPr/>
          <p:nvPr/>
        </p:nvSpPr>
        <p:spPr>
          <a:xfrm>
            <a:off x="4143240" y="1428840"/>
            <a:ext cx="5716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99ff"/>
          </a:solidFill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4"/>
          <p:cNvSpPr/>
          <p:nvPr/>
        </p:nvSpPr>
        <p:spPr>
          <a:xfrm>
            <a:off x="357120" y="100008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РАВИТЕЛЬСТВО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04176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высший орган исполнительной власти. Возглавляется главой государства (президентом) или премьер-министром (канцлером, председателем совета или кабинета министров)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3" name="Picture 5" descr="http://go-aginskoe.ru/sites/default/files/123%D0%B2%D1%8B%D0%B1%D0%BE%D1%80%D1%8B.jpg"/>
          <p:cNvPicPr/>
          <p:nvPr/>
        </p:nvPicPr>
        <p:blipFill>
          <a:blip r:embed="rId1"/>
          <a:stretch/>
        </p:blipFill>
        <p:spPr>
          <a:xfrm>
            <a:off x="2411280" y="2708280"/>
            <a:ext cx="432756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5508720" y="4653000"/>
            <a:ext cx="261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й Кириенко.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998г. – премьер -министр России.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1144440" y="46735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С. Черномырдин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1143000" y="50007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992 гг. – премьер-министр.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7" name="Picture 8" descr="http://blog.kievukraine.info/uploaded_images/5273-713293.jpg"/>
          <p:cNvPicPr/>
          <p:nvPr/>
        </p:nvPicPr>
        <p:blipFill>
          <a:blip r:embed="rId1"/>
          <a:stretch/>
        </p:blipFill>
        <p:spPr>
          <a:xfrm>
            <a:off x="611280" y="981000"/>
            <a:ext cx="3609720" cy="3610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0" descr="http://img.lenta.ru/news/2011/11/02/sign/picture.jpg"/>
          <p:cNvPicPr/>
          <p:nvPr/>
        </p:nvPicPr>
        <p:blipFill>
          <a:blip r:embed="rId2"/>
          <a:srcRect l="27906" t="0" r="0" b="20936"/>
          <a:stretch/>
        </p:blipFill>
        <p:spPr>
          <a:xfrm>
            <a:off x="4473720" y="979560"/>
            <a:ext cx="437832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642600" y="428760"/>
            <a:ext cx="763092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РЕЗИДЕНТ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(от лат. praesidens, букв. сидящий впереди) - в большинстве современных государств - выборный глава государства, достигший 35 лет и избранный открытым голосованием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755640" y="5157720"/>
            <a:ext cx="30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. С. Горбачев. Президент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ССР в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0-1991. Инициатор перестройки.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1" name="Rectangle 11"/>
          <p:cNvSpPr/>
          <p:nvPr/>
        </p:nvSpPr>
        <p:spPr>
          <a:xfrm>
            <a:off x="5286240" y="5214960"/>
            <a:ext cx="292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. Н. Ельцин.</a:t>
            </a: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ый президент Российской Федерации (1991-1999).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72" name="Picture 8" descr="http://kep.index.hu/1/0/255/2552/25529/2552948_6ffbcaa8c4a3ef52c67b401fe7551d14_wm.jpg"/>
          <p:cNvPicPr/>
          <p:nvPr/>
        </p:nvPicPr>
        <p:blipFill>
          <a:blip r:embed="rId1"/>
          <a:srcRect l="6066" t="0" r="0" b="30980"/>
          <a:stretch/>
        </p:blipFill>
        <p:spPr>
          <a:xfrm>
            <a:off x="755640" y="1989000"/>
            <a:ext cx="3100320" cy="31338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0" descr="http://viking142578.narod.ru/951.jpg"/>
          <p:cNvPicPr/>
          <p:nvPr/>
        </p:nvPicPr>
        <p:blipFill>
          <a:blip r:embed="rId2"/>
          <a:stretch/>
        </p:blipFill>
        <p:spPr>
          <a:xfrm>
            <a:off x="5292720" y="1484280"/>
            <a:ext cx="25066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288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f072b"/>
                </a:solidFill>
                <a:latin typeface="Times New Roman"/>
              </a:rPr>
              <a:t>План:</a:t>
            </a: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06292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c09e4a"/>
              </a:buClr>
              <a:buSzPct val="10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0f17"/>
                </a:solidFill>
                <a:latin typeface="Times New Roman"/>
              </a:rPr>
              <a:t>Закон и власть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09e4a"/>
              </a:buClr>
              <a:buSzPct val="10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0f17"/>
                </a:solidFill>
                <a:latin typeface="Times New Roman"/>
              </a:rPr>
              <a:t>Ветви власт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09e4a"/>
              </a:buClr>
              <a:buSzPct val="10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0f17"/>
                </a:solidFill>
                <a:latin typeface="Times New Roman"/>
              </a:rPr>
              <a:t>Устройство власти. Правительство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09e4a"/>
              </a:buClr>
              <a:buSzPct val="10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0f17"/>
                </a:solidFill>
                <a:latin typeface="Times New Roman"/>
              </a:rPr>
              <a:t>Судебная систем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09e4a"/>
              </a:buClr>
              <a:buSzPct val="10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0f17"/>
                </a:solidFill>
                <a:latin typeface="Times New Roman"/>
              </a:rPr>
              <a:t>Правоохранительные органы.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05360" y="4436640"/>
            <a:ext cx="4105440" cy="19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Д.А. Медведев, президент РФ 2008-2012 гг..</a:t>
            </a:r>
            <a:br>
              <a:rPr sz="2400"/>
            </a:b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Ныне Председатель Правительства РФ с 08.05.2012 г. Председатель партии «Единая Россия»</a:t>
            </a:r>
            <a:endParaRPr b="0" lang="en-US" sz="2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4000" y="4797360"/>
            <a:ext cx="3600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В. В. Путин, президент Российской Федерации с 2000 года. Вновь избран в 07.05.2012г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76" name="Picture 7" descr="http://viperson.ru/data/200812/putin.vv.jpg"/>
          <p:cNvPicPr/>
          <p:nvPr/>
        </p:nvPicPr>
        <p:blipFill>
          <a:blip r:embed="rId1"/>
          <a:stretch/>
        </p:blipFill>
        <p:spPr>
          <a:xfrm>
            <a:off x="1109520" y="48276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9" descr="http://gate.belta.by/7days_plus.nsf/(All)/E7C6E7ACE2A9DB93422575AE004EDFB4/$File/02.jpg?OpenElement"/>
          <p:cNvPicPr/>
          <p:nvPr/>
        </p:nvPicPr>
        <p:blipFill>
          <a:blip r:embed="rId2"/>
          <a:stretch/>
        </p:blipFill>
        <p:spPr>
          <a:xfrm>
            <a:off x="5292720" y="476280"/>
            <a:ext cx="3332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4"/>
          <p:cNvSpPr/>
          <p:nvPr/>
        </p:nvSpPr>
        <p:spPr>
          <a:xfrm>
            <a:off x="630360" y="601560"/>
            <a:ext cx="784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Чтобы стать президентом, необходимо не менее десяти лет постоянно жить в России; более двух сроков подряд занимать этот пост нельзя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Впервые институт президентства в России был введен в 1991 году. Согласно закону, президент является Верховным Главнокомандующим Вооруженными Силами 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755640" y="5667480"/>
            <a:ext cx="242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80" name="Picture 7" descr="j0115834"/>
          <p:cNvPicPr/>
          <p:nvPr/>
        </p:nvPicPr>
        <p:blipFill>
          <a:blip r:embed="rId1"/>
          <a:stretch/>
        </p:blipFill>
        <p:spPr>
          <a:xfrm>
            <a:off x="285840" y="78588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j0115834"/>
          <p:cNvPicPr/>
          <p:nvPr/>
        </p:nvPicPr>
        <p:blipFill>
          <a:blip r:embed="rId2"/>
          <a:stretch/>
        </p:blipFill>
        <p:spPr>
          <a:xfrm>
            <a:off x="285840" y="1571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10"/>
          <p:cNvSpPr/>
          <p:nvPr/>
        </p:nvSpPr>
        <p:spPr>
          <a:xfrm>
            <a:off x="2340000" y="630864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ский Кремль. Фот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83" name="Picture 9" descr="http://ermakinfo.ru/p/main/3d452d727efd0f10bf5d548a745f3533.jpg"/>
          <p:cNvPicPr/>
          <p:nvPr/>
        </p:nvPicPr>
        <p:blipFill>
          <a:blip r:embed="rId3"/>
          <a:stretch/>
        </p:blipFill>
        <p:spPr>
          <a:xfrm>
            <a:off x="1920960" y="2541600"/>
            <a:ext cx="5184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7772400" cy="18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СУДЕБНАЯ ВЛАСТЬ -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независимая система судебных органов государства, осуществляющих правосудие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85" name="Picture 9" descr="j0251301"/>
          <p:cNvPicPr/>
          <p:nvPr/>
        </p:nvPicPr>
        <p:blipFill>
          <a:blip r:embed="rId1"/>
          <a:stretch/>
        </p:blipFill>
        <p:spPr>
          <a:xfrm>
            <a:off x="3143160" y="3429000"/>
            <a:ext cx="31942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714240" y="9288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Вопрос: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Назовите полномочия правительства?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3. Судебная система.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88" name="Picture 7" descr="j0335112"/>
          <p:cNvPicPr/>
          <p:nvPr/>
        </p:nvPicPr>
        <p:blipFill>
          <a:blip r:embed="rId1"/>
          <a:stretch/>
        </p:blipFill>
        <p:spPr>
          <a:xfrm>
            <a:off x="5867280" y="3933720"/>
            <a:ext cx="26085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4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356760" y="571680"/>
            <a:ext cx="8286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СУД </a:t>
            </a: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- орган государства, рассматривающий гражданские, уголовные и др. дела на основании действующего законодательства и в соответствии с установленными процессуальными правилами 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90" name="Picture 6" descr="IMAGE071"/>
          <p:cNvPicPr/>
          <p:nvPr/>
        </p:nvPicPr>
        <p:blipFill>
          <a:blip r:embed="rId1"/>
          <a:stretch/>
        </p:blipFill>
        <p:spPr>
          <a:xfrm>
            <a:off x="3357720" y="3071880"/>
            <a:ext cx="25333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4"/>
          <p:cNvSpPr/>
          <p:nvPr/>
        </p:nvSpPr>
        <p:spPr>
          <a:xfrm>
            <a:off x="3192480" y="641520"/>
            <a:ext cx="2592360" cy="115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c"/>
                </a:solidFill>
                <a:latin typeface="Arial"/>
              </a:rPr>
              <a:t>Суды РФ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314280" y="3521160"/>
            <a:ext cx="2592360" cy="180000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c"/>
                </a:solidFill>
                <a:latin typeface="Arial"/>
              </a:rPr>
              <a:t>Суды общей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8080c"/>
                </a:solidFill>
                <a:latin typeface="Arial"/>
              </a:rPr>
              <a:t>юрисдикци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3122640" y="4602240"/>
            <a:ext cx="2881440" cy="180000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c"/>
                </a:solidFill>
                <a:latin typeface="Arial"/>
              </a:rPr>
              <a:t>Арбитражные суды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6291360" y="3736800"/>
            <a:ext cx="2592360" cy="165600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c"/>
                </a:solidFill>
                <a:latin typeface="Arial"/>
              </a:rPr>
              <a:t>Конституционный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080c"/>
                </a:solidFill>
                <a:latin typeface="Arial"/>
              </a:rPr>
              <a:t>суд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5" name="AutoShape 15"/>
          <p:cNvSpPr/>
          <p:nvPr/>
        </p:nvSpPr>
        <p:spPr>
          <a:xfrm rot="5400000">
            <a:off x="6036840" y="891720"/>
            <a:ext cx="2158920" cy="2089080"/>
          </a:xfrm>
          <a:custGeom>
            <a:avLst/>
            <a:gdLst>
              <a:gd name="textAreaLeft" fmla="*/ 1242000 w 2158920"/>
              <a:gd name="textAreaRight" fmla="*/ 1821960 w 2158920"/>
              <a:gd name="textAreaTop" fmla="*/ 281520 h 2089080"/>
              <a:gd name="textAreaBottom" fmla="*/ 89424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60f559"/>
              </a:gs>
              <a:gs pos="100000">
                <a:srgbClr val="fef917"/>
              </a:gs>
            </a:gsLst>
            <a:lin ang="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6" name="AutoShape 16"/>
          <p:cNvSpPr/>
          <p:nvPr/>
        </p:nvSpPr>
        <p:spPr>
          <a:xfrm flipH="1" rot="16200000">
            <a:off x="959760" y="784800"/>
            <a:ext cx="1943280" cy="2087640"/>
          </a:xfrm>
          <a:prstGeom prst="pie">
            <a:avLst/>
          </a:prstGeom>
          <a:gradFill rotWithShape="0">
            <a:gsLst>
              <a:gs pos="0">
                <a:srgbClr val="60f559"/>
              </a:gs>
              <a:gs pos="100000">
                <a:srgbClr val="fef917"/>
              </a:gs>
            </a:gsLst>
            <a:lin ang="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7" name="AutoShape 17"/>
          <p:cNvSpPr/>
          <p:nvPr/>
        </p:nvSpPr>
        <p:spPr>
          <a:xfrm>
            <a:off x="4129200" y="2154240"/>
            <a:ext cx="934920" cy="2160720"/>
          </a:xfrm>
          <a:prstGeom prst="downArrow">
            <a:avLst>
              <a:gd name="adj1" fmla="val 50000"/>
              <a:gd name="adj2" fmla="val 57778"/>
            </a:avLst>
          </a:prstGeom>
          <a:gradFill rotWithShape="0">
            <a:gsLst>
              <a:gs pos="0">
                <a:srgbClr val="60f559"/>
              </a:gs>
              <a:gs pos="100000">
                <a:srgbClr val="fef917"/>
              </a:gs>
            </a:gsLst>
            <a:lin ang="54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"/>
          <p:cNvSpPr/>
          <p:nvPr/>
        </p:nvSpPr>
        <p:spPr>
          <a:xfrm>
            <a:off x="395280" y="620640"/>
            <a:ext cx="3168720" cy="1224000"/>
          </a:xfrm>
          <a:prstGeom prst="rect">
            <a:avLst/>
          </a:prstGeom>
          <a:solidFill>
            <a:srgbClr val="66ff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итуционный суд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5508720" y="620640"/>
            <a:ext cx="3168720" cy="1368360"/>
          </a:xfrm>
          <a:prstGeom prst="rect">
            <a:avLst/>
          </a:prstGeom>
          <a:solidFill>
            <a:srgbClr val="6699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ed6"/>
                </a:solidFill>
                <a:latin typeface="Arial"/>
              </a:rPr>
              <a:t>Законы не соответствующи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ed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efed6"/>
                </a:solidFill>
                <a:latin typeface="Arial"/>
              </a:rPr>
              <a:t>основному закону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ed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efed6"/>
                </a:solidFill>
                <a:latin typeface="Arial"/>
              </a:rPr>
              <a:t>страны, нарушаются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ed6"/>
                </a:solidFill>
                <a:latin typeface="Arial"/>
              </a:rPr>
              <a:t>права и свободы граждан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>
            <a:off x="3924360" y="981000"/>
            <a:ext cx="1152360" cy="503280"/>
          </a:xfrm>
          <a:prstGeom prst="rightArrow">
            <a:avLst>
              <a:gd name="adj1" fmla="val 50000"/>
              <a:gd name="adj2" fmla="val 57242"/>
            </a:avLst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1619280" y="2060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33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250920" y="3357720"/>
            <a:ext cx="3313080" cy="172872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лкует Конституцию РФ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 rot="19251000">
            <a:off x="4098600" y="2954160"/>
            <a:ext cx="3744720" cy="2087640"/>
          </a:xfrm>
          <a:prstGeom prst="rect">
            <a:avLst/>
          </a:prstGeom>
          <a:solidFill>
            <a:srgbClr val="ffff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ешает споры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 соответствии всех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одательных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ов Конституции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 rot="15541200">
            <a:off x="3953160" y="29678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33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 rot="1650600">
            <a:off x="5364000" y="1989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33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77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770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77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1" dur="770" fill="hold"/>
                                        <p:tgtEl>
                                          <p:spTgt spid="5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3" dur="77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5" dur="77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77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2" dur="770" fill="hold"/>
                                        <p:tgtEl>
                                          <p:spTgt spid="5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4" dur="77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6" dur="77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AutoShape 7"/>
          <p:cNvSpPr/>
          <p:nvPr/>
        </p:nvSpPr>
        <p:spPr>
          <a:xfrm>
            <a:off x="2714760" y="1928880"/>
            <a:ext cx="3671640" cy="3097080"/>
          </a:xfrm>
          <a:prstGeom prst="pie">
            <a:avLst/>
          </a:prstGeom>
          <a:solidFill>
            <a:srgbClr val="ff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ды общей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юрисдикции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7" name="Oval 8"/>
          <p:cNvSpPr/>
          <p:nvPr/>
        </p:nvSpPr>
        <p:spPr>
          <a:xfrm>
            <a:off x="3362400" y="633240"/>
            <a:ext cx="2520720" cy="1151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ховный суд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8" name="Oval 9"/>
          <p:cNvSpPr/>
          <p:nvPr/>
        </p:nvSpPr>
        <p:spPr>
          <a:xfrm>
            <a:off x="158760" y="3008160"/>
            <a:ext cx="2521080" cy="11509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ские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айонные) суды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9" name="Oval 10"/>
          <p:cNvSpPr/>
          <p:nvPr/>
        </p:nvSpPr>
        <p:spPr>
          <a:xfrm>
            <a:off x="3290760" y="5241960"/>
            <a:ext cx="2521080" cy="1150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стные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ы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6459480" y="2865600"/>
            <a:ext cx="2521080" cy="1150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евые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ы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1" name="Rectangle 12"/>
          <p:cNvSpPr/>
          <p:nvPr/>
        </p:nvSpPr>
        <p:spPr>
          <a:xfrm>
            <a:off x="5969160" y="1674720"/>
            <a:ext cx="224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ed6"/>
                </a:solidFill>
                <a:latin typeface="Arial"/>
              </a:rPr>
              <a:t>дела  трудового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ed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efed6"/>
                </a:solidFill>
                <a:latin typeface="Arial"/>
              </a:rPr>
              <a:t>характер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2" name="Rectangle 13"/>
          <p:cNvSpPr/>
          <p:nvPr/>
        </p:nvSpPr>
        <p:spPr>
          <a:xfrm>
            <a:off x="5580000" y="443700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ed6"/>
                </a:solidFill>
                <a:latin typeface="Arial"/>
              </a:rPr>
              <a:t>дела уголовного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ed6"/>
                </a:solidFill>
                <a:latin typeface="Arial"/>
              </a:rPr>
              <a:t>характер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3" name="Rectangle 14"/>
          <p:cNvSpPr/>
          <p:nvPr/>
        </p:nvSpPr>
        <p:spPr>
          <a:xfrm>
            <a:off x="263520" y="4987800"/>
            <a:ext cx="258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ed6"/>
                </a:solidFill>
                <a:latin typeface="Arial"/>
              </a:rPr>
              <a:t>дела гражданского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ed6"/>
                </a:solidFill>
                <a:latin typeface="Arial"/>
              </a:rPr>
              <a:t>характер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247680" y="1413000"/>
            <a:ext cx="275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ed6"/>
                </a:solidFill>
                <a:latin typeface="Arial"/>
              </a:rPr>
              <a:t>дела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ed6"/>
                </a:solidFill>
                <a:latin typeface="Arial"/>
              </a:rPr>
              <a:t>Административного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ed6"/>
                </a:solidFill>
                <a:latin typeface="Arial"/>
              </a:rPr>
              <a:t>характер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5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5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5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4"/>
          <p:cNvSpPr/>
          <p:nvPr/>
        </p:nvSpPr>
        <p:spPr>
          <a:xfrm>
            <a:off x="250920" y="907920"/>
            <a:ext cx="2881080" cy="9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БИТРАЖНЫЙ СУД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6" name="AutoShape 5"/>
          <p:cNvSpPr/>
          <p:nvPr/>
        </p:nvSpPr>
        <p:spPr>
          <a:xfrm>
            <a:off x="3276720" y="1052640"/>
            <a:ext cx="1224000" cy="647640"/>
          </a:xfrm>
          <a:prstGeom prst="rightArrow">
            <a:avLst>
              <a:gd name="adj1" fmla="val 50000"/>
              <a:gd name="adj2" fmla="val 63916"/>
            </a:avLst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4572000" y="857160"/>
            <a:ext cx="4067280" cy="4392720"/>
          </a:xfrm>
          <a:prstGeom prst="rect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Российской Федерации орган,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существляющий разрешение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озникающих в процессе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едпринимательской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еятельности споров,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ытекающих из гражданских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авоотношений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экономические споры)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бо из правоотношений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сфере управления.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518" name="Picture 8" descr="BD19827_"/>
          <p:cNvPicPr/>
          <p:nvPr/>
        </p:nvPicPr>
        <p:blipFill>
          <a:blip r:embed="rId1"/>
          <a:stretch/>
        </p:blipFill>
        <p:spPr>
          <a:xfrm>
            <a:off x="857160" y="3786120"/>
            <a:ext cx="26766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77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6" dur="770" fill="hold"/>
                                        <p:tgtEl>
                                          <p:spTgt spid="5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77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770" fill="hold"/>
                                        <p:tgtEl>
                                          <p:spTgt spid="5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1" dur="77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77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770" fill="hold"/>
                                        <p:tgtEl>
                                          <p:spTgt spid="5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77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99"/>
                </a:solidFill>
                <a:latin typeface="Times New Roman"/>
              </a:rPr>
              <a:t>1. Закон и власть.</a:t>
            </a:r>
            <a:endParaRPr b="0" lang="en-US" sz="5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4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4"/>
          <p:cNvSpPr/>
          <p:nvPr/>
        </p:nvSpPr>
        <p:spPr>
          <a:xfrm>
            <a:off x="357120" y="857160"/>
            <a:ext cx="6480360" cy="1366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К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овое заявление в судебный арбитраж ил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тейский суд, обращение за защитой своего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рушенного, оспариваемого прав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охраняемого законом интереса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395280" y="4941720"/>
            <a:ext cx="7129440" cy="14385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ТЕЦ-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гражданском процесс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жданин или юридическое лицо,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ающиеся с иском в суд, арбитраж или третейский суд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2143080" y="2643120"/>
            <a:ext cx="6840720" cy="15843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ВЕТЧИ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рона спора,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атриваемого судом или арбитражем, к которой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ъявлено требование истца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5"/>
          <p:cNvSpPr/>
          <p:nvPr/>
        </p:nvSpPr>
        <p:spPr>
          <a:xfrm>
            <a:off x="857160" y="3000240"/>
            <a:ext cx="691200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e01"/>
                </a:solidFill>
                <a:latin typeface="Times New Roman"/>
              </a:rPr>
              <a:t>ПРОКУРОР</a:t>
            </a:r>
            <a:r>
              <a:rPr b="0" lang="ru-RU" sz="1800" spc="-1" strike="noStrike">
                <a:solidFill>
                  <a:srgbClr val="2e2e01"/>
                </a:solidFill>
                <a:latin typeface="Times New Roman"/>
              </a:rPr>
              <a:t> (франц. procureur, от лат. procuro -забочусь),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2e01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e2e01"/>
                </a:solidFill>
                <a:latin typeface="Times New Roman"/>
              </a:rPr>
              <a:t>должностное лицо органов прокуратуры.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2e01"/>
                </a:solidFill>
                <a:latin typeface="Times New Roman"/>
              </a:rPr>
              <a:t>Поддерживает в суде обвинение от имени государства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Rectangle 6"/>
          <p:cNvSpPr/>
          <p:nvPr/>
        </p:nvSpPr>
        <p:spPr>
          <a:xfrm>
            <a:off x="857160" y="4857840"/>
            <a:ext cx="691200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e01"/>
                </a:solidFill>
                <a:latin typeface="Arial"/>
              </a:rPr>
              <a:t>АДВОКАТ</a:t>
            </a:r>
            <a:r>
              <a:rPr b="0" lang="ru-RU" sz="1800" spc="-1" strike="noStrike">
                <a:solidFill>
                  <a:srgbClr val="2e2e01"/>
                </a:solidFill>
                <a:latin typeface="Arial"/>
              </a:rPr>
              <a:t> (лат. advocatus, от advoco - приглашаю),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2e01"/>
                </a:solidFill>
                <a:latin typeface="Arial"/>
              </a:rPr>
              <a:t>лицо, профессия которого - оказание юридической помощи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2e01"/>
                </a:solidFill>
                <a:latin typeface="Arial"/>
              </a:rPr>
              <a:t>гражданам и организациям, в т. ч. защита их интересов в су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826920" y="981000"/>
            <a:ext cx="7632720" cy="1656000"/>
          </a:xfrm>
          <a:prstGeom prst="rect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РОВОЙ СУДЬ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должностное лицо (как правило, назначаемо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альными органами государственной власти),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динолично рассматривающее дела в мировом суде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атривая мелкие уголовные и граждански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ла мировые судьи обязаны были стремиться к примирению стор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77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770" fill="hold"/>
                                        <p:tgtEl>
                                          <p:spTgt spid="5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77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В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России мировые судьи появились после судебной реформы 1864 года. Но в 1889 году институт мировых судей был большей частью упразднен. Исключение составили столицы и несколько крупных городов. В городах мировые судьи избирались городской думой. В уездах судебная власть перешла к земским начальникам. В 1912 году институт мировых судей, избираемых уездными земскими собраниями, был восстановлен и просуществовал до 1917 года, когда мировые суды были упразднены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772400" cy="25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Какие существуют виды судов? Какие дела они рассматривают?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527" name="Picture 4" descr="AN00790_"/>
          <p:cNvPicPr/>
          <p:nvPr/>
        </p:nvPicPr>
        <p:blipFill>
          <a:blip r:embed="rId1"/>
          <a:stretch/>
        </p:blipFill>
        <p:spPr>
          <a:xfrm>
            <a:off x="3429000" y="3857760"/>
            <a:ext cx="233352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77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770" fill="hold"/>
                                        <p:tgtEl>
                                          <p:spTgt spid="5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6" dur="77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8" dur="77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4</a:t>
            </a: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. Правоохранительные органы.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529" name="Picture 6" descr="торчёк"/>
          <p:cNvPicPr/>
          <p:nvPr/>
        </p:nvPicPr>
        <p:blipFill>
          <a:blip r:embed="rId1"/>
          <a:stretch/>
        </p:blipFill>
        <p:spPr>
          <a:xfrm>
            <a:off x="6643800" y="4290840"/>
            <a:ext cx="25002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2709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Правоохранительные органы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31" name="Rectangle 14"/>
          <p:cNvSpPr/>
          <p:nvPr/>
        </p:nvSpPr>
        <p:spPr>
          <a:xfrm>
            <a:off x="179280" y="1413000"/>
            <a:ext cx="23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т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зопасности РФ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2" name="Rectangle 15"/>
          <p:cNvSpPr/>
          <p:nvPr/>
        </p:nvSpPr>
        <p:spPr>
          <a:xfrm>
            <a:off x="3780000" y="1341360"/>
            <a:ext cx="51130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ет подготовку решений президента России по вопросам защиты интересов личности, общества и государства от внутренних и внешних угроз, проведения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ой государственной политики в области обеспечения безопасност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AutoShape 16"/>
          <p:cNvSpPr/>
          <p:nvPr/>
        </p:nvSpPr>
        <p:spPr>
          <a:xfrm>
            <a:off x="2771640" y="4292640"/>
            <a:ext cx="1152720" cy="358560"/>
          </a:xfrm>
          <a:prstGeom prst="rightArrow">
            <a:avLst>
              <a:gd name="adj1" fmla="val 50000"/>
              <a:gd name="adj2" fmla="val 80371"/>
            </a:avLst>
          </a:prstGeom>
          <a:solidFill>
            <a:srgbClr val="ff66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Rectangle 17"/>
          <p:cNvSpPr/>
          <p:nvPr/>
        </p:nvSpPr>
        <p:spPr>
          <a:xfrm>
            <a:off x="2520" y="4149720"/>
            <a:ext cx="26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ая служб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опасности (ФСБ)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AutoShape 18"/>
          <p:cNvSpPr/>
          <p:nvPr/>
        </p:nvSpPr>
        <p:spPr>
          <a:xfrm>
            <a:off x="2556000" y="1700280"/>
            <a:ext cx="1152360" cy="358560"/>
          </a:xfrm>
          <a:prstGeom prst="rightArrow">
            <a:avLst>
              <a:gd name="adj1" fmla="val 50000"/>
              <a:gd name="adj2" fmla="val 80346"/>
            </a:avLst>
          </a:prstGeom>
          <a:solidFill>
            <a:srgbClr val="ff66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Rectangle 19"/>
          <p:cNvSpPr/>
          <p:nvPr/>
        </p:nvSpPr>
        <p:spPr>
          <a:xfrm>
            <a:off x="3995640" y="3789360"/>
            <a:ext cx="48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имается раскрытием шпионажа,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рористических актов, коррупции, наркобизнеса (федеральный орган исполнительной власти, в пределах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их полномочий осуществляет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ое управление в области обеспечения безопасности, защиты и охраны государственной границы, охраны внутренних морских вод, территориального моря и т.д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4"/>
          <p:cNvSpPr/>
          <p:nvPr/>
        </p:nvSpPr>
        <p:spPr>
          <a:xfrm>
            <a:off x="3062160" y="549360"/>
            <a:ext cx="589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государственных органов, специальн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назначенных для публичного преследования п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овным делам. В компетенцию органов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куратуры входит возбуждение уголовных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, их расследование, а также поддержани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винения в суде от имени государств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181800" y="7650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куратур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AutoShape 6"/>
          <p:cNvSpPr/>
          <p:nvPr/>
        </p:nvSpPr>
        <p:spPr>
          <a:xfrm>
            <a:off x="1908000" y="836640"/>
            <a:ext cx="1008360" cy="360360"/>
          </a:xfrm>
          <a:prstGeom prst="rightArrow">
            <a:avLst>
              <a:gd name="adj1" fmla="val 50000"/>
              <a:gd name="adj2" fmla="val 69955"/>
            </a:avLst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059280" y="2637000"/>
            <a:ext cx="551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ые органы или частны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оры (отдельные нотариусы),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ункции которых входит удостоверение сделок,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наследственных прав и т. д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399240" y="27082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тариат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2" name="AutoShape 9"/>
          <p:cNvSpPr/>
          <p:nvPr/>
        </p:nvSpPr>
        <p:spPr>
          <a:xfrm>
            <a:off x="1908000" y="4292640"/>
            <a:ext cx="1008360" cy="360360"/>
          </a:xfrm>
          <a:prstGeom prst="rightArrow">
            <a:avLst>
              <a:gd name="adj1" fmla="val 50000"/>
              <a:gd name="adj2" fmla="val 69955"/>
            </a:avLst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3" name="AutoShape 10"/>
          <p:cNvSpPr/>
          <p:nvPr/>
        </p:nvSpPr>
        <p:spPr>
          <a:xfrm>
            <a:off x="1908000" y="2781360"/>
            <a:ext cx="1008360" cy="360360"/>
          </a:xfrm>
          <a:prstGeom prst="rightArrow">
            <a:avLst>
              <a:gd name="adj1" fmla="val 50000"/>
              <a:gd name="adj2" fmla="val 69955"/>
            </a:avLst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2987640" y="4221000"/>
            <a:ext cx="595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государственных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охранительных органов по охране общественног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ядка, защите прав и интересов граждан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преступных и иных посягательств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266040" y="42926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иция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7724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Прокуратура осуществляет надзор за судебной деятельностью, за исполнением приговоров, соблюдением законности при отбывании наказания и т. п. В Российской Федерации система органов прокуратуры возглавляется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Генеральным прокурором</a:t>
            </a: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547" name="Picture 5" descr="BS00445_"/>
          <p:cNvPicPr/>
          <p:nvPr/>
        </p:nvPicPr>
        <p:blipFill>
          <a:blip r:embed="rId2"/>
          <a:stretch/>
        </p:blipFill>
        <p:spPr>
          <a:xfrm>
            <a:off x="6804000" y="4365720"/>
            <a:ext cx="15843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28400" y="642960"/>
            <a:ext cx="7848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Важным правоохранительным органом России является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полиция.</a:t>
            </a:r>
            <a:r>
              <a:rPr b="0" i="1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49" name="Organization Chart 6"/>
          <p:cNvGrpSpPr/>
          <p:nvPr/>
        </p:nvGrpSpPr>
        <p:grpSpPr>
          <a:xfrm>
            <a:off x="1285920" y="1857240"/>
            <a:ext cx="6408000" cy="4451760"/>
            <a:chOff x="1285920" y="1857240"/>
            <a:chExt cx="6408000" cy="4451760"/>
          </a:xfrm>
        </p:grpSpPr>
        <p:cxnSp>
          <p:nvCxnSpPr>
            <p:cNvPr id="550" name="_s3076"/>
            <p:cNvCxnSpPr>
              <a:stCxn id="551" idx="0"/>
              <a:endCxn id="552" idx="2"/>
            </p:cNvCxnSpPr>
            <p:nvPr/>
          </p:nvCxnSpPr>
          <p:spPr>
            <a:xfrm flipV="1" rot="16200000">
              <a:off x="4906440" y="3219480"/>
              <a:ext cx="891000" cy="1726200"/>
            </a:xfrm>
            <a:prstGeom prst="bentConnector3">
              <a:avLst>
                <a:gd name="adj1" fmla="val 11196"/>
              </a:avLst>
            </a:prstGeom>
            <a:ln w="28440">
              <a:solidFill>
                <a:srgbClr val="8383ad"/>
              </a:solidFill>
              <a:miter/>
            </a:ln>
          </p:spPr>
        </p:cxnSp>
        <p:cxnSp>
          <p:nvCxnSpPr>
            <p:cNvPr id="553" name="_s3077"/>
            <p:cNvCxnSpPr>
              <a:stCxn id="554" idx="0"/>
              <a:endCxn id="552" idx="2"/>
            </p:cNvCxnSpPr>
            <p:nvPr/>
          </p:nvCxnSpPr>
          <p:spPr>
            <a:xfrm flipH="1" flipV="1" rot="5400000">
              <a:off x="3181320" y="3219840"/>
              <a:ext cx="891000" cy="1725480"/>
            </a:xfrm>
            <a:prstGeom prst="bentConnector3">
              <a:avLst>
                <a:gd name="adj1" fmla="val 11196"/>
              </a:avLst>
            </a:prstGeom>
            <a:ln w="28440">
              <a:solidFill>
                <a:srgbClr val="8383ad"/>
              </a:solidFill>
              <a:miter/>
            </a:ln>
          </p:spPr>
        </p:cxnSp>
        <p:sp>
          <p:nvSpPr>
            <p:cNvPr id="552" name="_s3078"/>
            <p:cNvSpPr/>
            <p:nvPr/>
          </p:nvSpPr>
          <p:spPr>
            <a:xfrm>
              <a:off x="3010680" y="1857240"/>
              <a:ext cx="2957400" cy="17805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</a:rPr>
                <a:t>ПОЛИЦИЯ РФ</a:t>
              </a:r>
              <a:endParaRPr b="0" lang="en-US" sz="31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54" name="_s3079"/>
            <p:cNvSpPr/>
            <p:nvPr/>
          </p:nvSpPr>
          <p:spPr>
            <a:xfrm>
              <a:off x="1285920" y="4528440"/>
              <a:ext cx="2957400" cy="17805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Криминальная</a:t>
              </a:r>
              <a:endParaRPr b="0" lang="en-US" sz="29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полиция</a:t>
              </a:r>
              <a:endParaRPr b="0" lang="en-US" sz="29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51" name="_s3080"/>
            <p:cNvSpPr/>
            <p:nvPr/>
          </p:nvSpPr>
          <p:spPr>
            <a:xfrm>
              <a:off x="4736520" y="4528440"/>
              <a:ext cx="2957400" cy="178056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Полиция 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общественной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безопасности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8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В Российской Федерации нотариальные действия совершают нотариусы, работающие в государственной нотариальной конторе или занимающиеся частной практикой (по лицензии)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556" name="Picture 4" descr="BS00076_"/>
          <p:cNvPicPr/>
          <p:nvPr/>
        </p:nvPicPr>
        <p:blipFill>
          <a:blip r:embed="rId2"/>
          <a:stretch/>
        </p:blipFill>
        <p:spPr>
          <a:xfrm>
            <a:off x="5580000" y="3068640"/>
            <a:ext cx="32464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714240" y="135720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048e8"/>
                </a:solidFill>
                <a:latin typeface="Times New Roman"/>
              </a:rPr>
              <a:t>А как вы думаете, 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048e8"/>
                </a:solidFill>
                <a:latin typeface="Times New Roman"/>
              </a:rPr>
              <a:t>что такое закон и власть?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06" name="Picture 10" descr="j0297749"/>
          <p:cNvPicPr/>
          <p:nvPr/>
        </p:nvPicPr>
        <p:blipFill>
          <a:blip r:embed="rId1"/>
          <a:stretch/>
        </p:blipFill>
        <p:spPr>
          <a:xfrm>
            <a:off x="2928960" y="3643200"/>
            <a:ext cx="309564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cc3300"/>
                </a:solidFill>
                <a:latin typeface="Times New Roman"/>
              </a:rPr>
              <a:t>Какую роль играют в государстве правоохранительные органы?</a:t>
            </a:r>
            <a:r>
              <a:rPr b="0" lang="ru-RU" sz="36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558" name="Picture 4" descr="тр"/>
          <p:cNvPicPr/>
          <p:nvPr/>
        </p:nvPicPr>
        <p:blipFill>
          <a:blip r:embed="rId1"/>
          <a:stretch/>
        </p:blipFill>
        <p:spPr>
          <a:xfrm>
            <a:off x="3000240" y="2714760"/>
            <a:ext cx="3086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77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5" dur="77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9" dur="77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Домашнее задание </a:t>
            </a:r>
            <a:r>
              <a:rPr b="0" lang="en-US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§</a:t>
            </a:r>
            <a:r>
              <a:rPr b="0" lang="ru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34. Вопрос 5, 6.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3"/>
          <p:cNvSpPr/>
          <p:nvPr/>
        </p:nvSpPr>
        <p:spPr>
          <a:xfrm>
            <a:off x="250920" y="126828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http://www.rb.ru/skip/upload/users/picture/624824/gosduma475_2011-11-25_11.41.03.jp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1" name="Прямоугольник 4"/>
          <p:cNvSpPr/>
          <p:nvPr/>
        </p:nvSpPr>
        <p:spPr>
          <a:xfrm>
            <a:off x="250920" y="184464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http://go-aginskoe.ru/sites/default/files/123%D0%B2%D1%8B%D0%B1%D0%BE%D1%80%D1%8B.jp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2" name="Прямоугольник 5"/>
          <p:cNvSpPr/>
          <p:nvPr/>
        </p:nvSpPr>
        <p:spPr>
          <a:xfrm>
            <a:off x="250920" y="27082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http://blog.kievukraine.info/uploaded_images/5273-713293.jp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3" name="Прямоугольник 6"/>
          <p:cNvSpPr/>
          <p:nvPr/>
        </p:nvSpPr>
        <p:spPr>
          <a:xfrm>
            <a:off x="250920" y="299736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http://img.lenta.ru/news/2011/11/02/sign/picture.jp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4" name="Прямоугольник 7"/>
          <p:cNvSpPr/>
          <p:nvPr/>
        </p:nvSpPr>
        <p:spPr>
          <a:xfrm>
            <a:off x="274320" y="3284640"/>
            <a:ext cx="38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http://viking142578.narod.ru/951.jp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5" name="Прямоугольник 8"/>
          <p:cNvSpPr/>
          <p:nvPr/>
        </p:nvSpPr>
        <p:spPr>
          <a:xfrm>
            <a:off x="267840" y="3573360"/>
            <a:ext cx="44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http://viperson.ru/data/200812/putin.vv.jp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6" name="Прямоугольник 9"/>
          <p:cNvSpPr/>
          <p:nvPr/>
        </p:nvSpPr>
        <p:spPr>
          <a:xfrm>
            <a:off x="324000" y="3860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http://gate.belta.by/7days_plus.nsf/(All)/E7C6E7ACE2A9DB93422575AE004EDFB4/$File/02.jpg?OpenElemen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7" name="Прямоугольник 10"/>
          <p:cNvSpPr/>
          <p:nvPr/>
        </p:nvSpPr>
        <p:spPr>
          <a:xfrm>
            <a:off x="324000" y="443700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http://ermakinfo.ru/p/main/3d452d727efd0f10bf5d548a745f3533.jp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8" name="TextBox 11"/>
          <p:cNvSpPr/>
          <p:nvPr/>
        </p:nvSpPr>
        <p:spPr>
          <a:xfrm>
            <a:off x="3208320" y="62064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тернет-ресурсы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9" name="Прямоугольник 12"/>
          <p:cNvSpPr/>
          <p:nvPr/>
        </p:nvSpPr>
        <p:spPr>
          <a:xfrm>
            <a:off x="250920" y="4724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http://www.moscowbooks.ru/image/ap/t0/584/584047/800/584047_110923123403.jp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j0300840"/>
          <p:cNvPicPr/>
          <p:nvPr/>
        </p:nvPicPr>
        <p:blipFill>
          <a:blip r:embed="rId1"/>
          <a:stretch/>
        </p:blipFill>
        <p:spPr>
          <a:xfrm>
            <a:off x="0" y="2708280"/>
            <a:ext cx="1619280" cy="136368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5"/>
          <p:cNvSpPr/>
          <p:nvPr/>
        </p:nvSpPr>
        <p:spPr>
          <a:xfrm>
            <a:off x="1763640" y="836640"/>
            <a:ext cx="7129440" cy="2087640"/>
          </a:xfrm>
          <a:custGeom>
            <a:avLst/>
            <a:gdLst>
              <a:gd name="textAreaLeft" fmla="*/ 0 w 7129440"/>
              <a:gd name="textAreaRight" fmla="*/ 7129800 w 712944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46" y="0"/>
                </a:lnTo>
                <a:lnTo>
                  <a:pt x="21600" y="10800"/>
                </a:lnTo>
                <a:lnTo>
                  <a:pt x="161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1"/>
                </a:solidFill>
                <a:latin typeface="Times New Roman"/>
              </a:rPr>
              <a:t>Закон - нормативный акт,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1"/>
                </a:solidFill>
                <a:latin typeface="Times New Roman"/>
              </a:rPr>
              <a:t>принятый высшим органом государственной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1"/>
                </a:solidFill>
                <a:latin typeface="Times New Roman"/>
              </a:rPr>
              <a:t>власти в установленном Конституцией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1"/>
                </a:solidFill>
                <a:latin typeface="Times New Roman"/>
              </a:rPr>
              <a:t>порядке</a:t>
            </a:r>
            <a:r>
              <a:rPr b="0" i="1" lang="ru-RU" sz="2000" spc="-1" strike="noStrike">
                <a:solidFill>
                  <a:srgbClr val="08080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AutoShape 6"/>
          <p:cNvSpPr/>
          <p:nvPr/>
        </p:nvSpPr>
        <p:spPr>
          <a:xfrm>
            <a:off x="1835280" y="3573360"/>
            <a:ext cx="6913440" cy="223200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2e2e01"/>
                </a:solidFill>
                <a:latin typeface="Times New Roman"/>
              </a:rPr>
              <a:t>Закон - постановление государственной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e2e01"/>
                </a:solidFill>
                <a:latin typeface="Times New Roman"/>
              </a:rPr>
              <a:t>власти, нормативный акт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e2e01"/>
                </a:solidFill>
                <a:latin typeface="Times New Roman"/>
              </a:rPr>
              <a:t>принятый государственной властью;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1"/>
                </a:solidFill>
                <a:latin typeface="Times New Roman"/>
              </a:rPr>
              <a:t>установленные государственной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1"/>
                </a:solidFill>
                <a:latin typeface="Times New Roman"/>
              </a:rPr>
              <a:t>властью общеобязательные правила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Oval 4"/>
          <p:cNvSpPr/>
          <p:nvPr/>
        </p:nvSpPr>
        <p:spPr>
          <a:xfrm>
            <a:off x="214200" y="857160"/>
            <a:ext cx="6048360" cy="15112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2e01"/>
                </a:solidFill>
                <a:latin typeface="Times New Roman"/>
              </a:rPr>
              <a:t>Власть - право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2e0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e2e01"/>
                </a:solidFill>
                <a:latin typeface="Times New Roman"/>
              </a:rPr>
              <a:t>и возможность распоряжаться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2e0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e2e01"/>
                </a:solidFill>
                <a:latin typeface="Times New Roman"/>
              </a:rPr>
              <a:t>кем, чем–нибудь,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2e01"/>
                </a:solidFill>
                <a:latin typeface="Times New Roman"/>
              </a:rPr>
              <a:t>подчинять своей воле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Oval 5"/>
          <p:cNvSpPr/>
          <p:nvPr/>
        </p:nvSpPr>
        <p:spPr>
          <a:xfrm>
            <a:off x="2143080" y="2643120"/>
            <a:ext cx="5761080" cy="15130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2e01"/>
                </a:solidFill>
                <a:latin typeface="Times New Roman"/>
              </a:rPr>
              <a:t>Власть - политическое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2e0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e2e01"/>
                </a:solidFill>
                <a:latin typeface="Times New Roman"/>
              </a:rPr>
              <a:t>господство,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2e01"/>
                </a:solidFill>
                <a:latin typeface="Times New Roman"/>
              </a:rPr>
              <a:t>государственное управление и его органы.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Oval 6"/>
          <p:cNvSpPr/>
          <p:nvPr/>
        </p:nvSpPr>
        <p:spPr>
          <a:xfrm>
            <a:off x="3143160" y="4500720"/>
            <a:ext cx="5905440" cy="1511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2e01"/>
                </a:solidFill>
                <a:latin typeface="Times New Roman"/>
              </a:rPr>
              <a:t>Власть, в общем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2e01"/>
                </a:solidFill>
                <a:latin typeface="Times New Roman"/>
              </a:rPr>
              <a:t>смысле, способность и возможность оказывать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2e0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e2e01"/>
                </a:solidFill>
                <a:latin typeface="Times New Roman"/>
              </a:rPr>
              <a:t>влияние авторитета, права, насилия.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2e2e01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2e2e01"/>
                </a:solidFill>
                <a:latin typeface="Times New Roman"/>
              </a:rPr>
              <a:t>Чем больше законов и чем они более запутанны, тем хуже их исполняют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1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2e2e01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2e2e01"/>
                </a:solidFill>
                <a:latin typeface="Times New Roman"/>
              </a:rPr>
              <a:t>Законы стали издавать и выполнять профессионально подготовленные люди – депутататы, которые заседают в парламенте; другие трудятся в правительстве – министры, третьи входят в состав Верховного суда.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4692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e2e01"/>
                </a:solidFill>
                <a:latin typeface="Times New Roman"/>
              </a:rPr>
              <a:t>В чем заключается взаимосвязь власти и закона?</a:t>
            </a:r>
            <a:br>
              <a:rPr sz="4000"/>
            </a:b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15" name="Picture 5" descr="http://www.moscowbooks.ru/image/ap/t0/584/584047/800/584047_110923123403.jpg"/>
          <p:cNvPicPr/>
          <p:nvPr/>
        </p:nvPicPr>
        <p:blipFill>
          <a:blip r:embed="rId1"/>
          <a:stretch/>
        </p:blipFill>
        <p:spPr>
          <a:xfrm>
            <a:off x="2124000" y="1989000"/>
            <a:ext cx="49086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e2e01"/>
                </a:solidFill>
                <a:latin typeface="Times New Roman"/>
              </a:rPr>
              <a:t>2. Ветви власти</a:t>
            </a:r>
            <a:r>
              <a:rPr b="0" lang="ru-RU" sz="4800" spc="-1" strike="noStrike">
                <a:solidFill>
                  <a:srgbClr val="2e2e01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4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1:29:21Z</dcterms:created>
  <dc:creator>Максимиус</dc:creator>
  <dc:description/>
  <dc:language>en-US</dc:language>
  <cp:lastModifiedBy>Оля</cp:lastModifiedBy>
  <dcterms:modified xsi:type="dcterms:W3CDTF">2018-02-04T11:14:10Z</dcterms:modified>
  <cp:revision>27</cp:revision>
  <dc:subject/>
  <dc:title>Закон и власть</dc:title>
</cp:coreProperties>
</file>