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26E-3729-4A41-9604-B6A34585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CE1-7CA8-4738-B944-20CDEA08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A2E-E233-4CE5-9E7A-09904A81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0CF-26B3-4E2D-B579-4FC5561C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9ED-7808-42A2-98A3-E85E3A82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06A-B982-4E7B-993D-907BBF13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29E-5D60-49BC-8D7E-3E7BEEFF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83E-C098-417C-BF1E-54795EF4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76F-EF26-4C5E-B61F-946D480B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4A0-4FA2-4B56-B877-14CEB03C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868-E74A-4093-BDA8-64351CF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71C-EC64-48FF-B239-496F05F3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C6FD-6EF0-4A46-89C3-0459BDD4E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632523"/>
                </a:solidFill>
                <a:latin typeface="Calibri"/>
              </a:rPr>
              <a:t>Здоровый</a:t>
            </a:r>
            <a:r>
              <a:rPr b="0" lang="ru-RU" sz="6000" spc="-1" strike="noStrike">
                <a:solidFill>
                  <a:srgbClr val="632523"/>
                </a:solidFill>
                <a:latin typeface="Calibri"/>
              </a:rPr>
              <a:t> образ жизн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400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русского язы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льски А.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gov.cap.ru/UserFiles/news/201409/10/123(2).jpg"/>
          <p:cNvPicPr/>
          <p:nvPr/>
        </p:nvPicPr>
        <p:blipFill>
          <a:blip r:embed="rId1"/>
          <a:stretch/>
        </p:blipFill>
        <p:spPr>
          <a:xfrm>
            <a:off x="2357280" y="2500200"/>
            <a:ext cx="4680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143080" y="571680"/>
            <a:ext cx="700092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 менее важен и </a:t>
            </a:r>
            <a:r>
              <a:rPr b="0" i="1" lang="ru-RU" sz="2300" spc="-1" strike="noStrike">
                <a:solidFill>
                  <a:srgbClr val="ff0000"/>
                </a:solidFill>
                <a:latin typeface="Calibri"/>
              </a:rPr>
              <a:t>сон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. Продолжительность сна уменьшается с возрастом: для 7-8 лет она составляет 11,5ч., 9-10 лет - 10,5-10 ч.,11-12 лет – 10ч., 13-15лет - 9,5 ч. и 16-18 лет - 8,5-8 часов. Полноценный отдых во время сна наступает только в том случае, если сон достаточно глубок. А для того, чтобы крепко спать надо ложиться в одно и то же время, перед сном избегать шумных игр, яркого света, хорошо проветривать комнату, оставлять открытой форточку на ноч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im3-tub-ru.yandex.net/i?id=1607d597fbb257a973e2c9976b7e602c&amp;n=33&amp;h=215&amp;w=323"/>
          <p:cNvPicPr/>
          <p:nvPr/>
        </p:nvPicPr>
        <p:blipFill>
          <a:blip r:embed="rId1"/>
          <a:stretch/>
        </p:blipFill>
        <p:spPr>
          <a:xfrm>
            <a:off x="5429160" y="4286160"/>
            <a:ext cx="32911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000160" y="571680"/>
            <a:ext cx="692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Берегите зр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го у некоторых развивается близорукость и можно ли ее предотвратить? Конечно, можно, если выполнять несложные правила, которые помогают сохранить зрение. При чтении и письме книги и тетради должны находиться на расстоянии не ближе 30 см от глаз. Для сохранения хорошего зрения очень важна правильная посадка за партой, рабочим столом. Вредно читать л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im2-tub-ru.yandex.net/i?id=5f8e5d213ddf2b41b40f70bb8d717b8d&amp;n=33&amp;h=215&amp;w=251"/>
          <p:cNvPicPr/>
          <p:nvPr/>
        </p:nvPicPr>
        <p:blipFill>
          <a:blip r:embed="rId1"/>
          <a:stretch/>
        </p:blipFill>
        <p:spPr>
          <a:xfrm>
            <a:off x="4929120" y="4071960"/>
            <a:ext cx="29624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500200" y="214200"/>
            <a:ext cx="621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Ос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анка — это умение человека держать свое тело в различных положениях. Правильная осанка естественна и красива: туловище выпрямлено, голова поднята, плечи расправл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у человека, который ходит, ссутулившись, опустив голову и плечи, выпятив живот, на полусогнутых ногах, осанка неправильная. Это не только некрасиво, но и вредно, так как затрудняет деятельность внутренних органов и может вызвать искривление позвоно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lh4.googleusercontent.com/VF67kAGXc3Ip_nsmwD3jR6GHb4VuqAjWrIORYHwNHCpTSKSW949U757a-wQcycUfnNaProuUyfrfVzwWNAWYhq3XdNJbsAIsUR1KF-Edq-ZZVRrlEgWuf7DKqw"/>
          <p:cNvPicPr/>
          <p:nvPr/>
        </p:nvPicPr>
        <p:blipFill>
          <a:blip r:embed="rId1"/>
          <a:stretch/>
        </p:blipFill>
        <p:spPr>
          <a:xfrm>
            <a:off x="3071880" y="4643280"/>
            <a:ext cx="47862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857240" y="428760"/>
            <a:ext cx="728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жим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ачи утверждают, что полноценное рациональное питание - важное условие сохранения здоровья и высокой работоспособности взрослых, а для детей еще и необходимое условие роста и развития. Для нормального роста, развития и поддержания жизнедеятельности организму необходимы белки, жиры, углеводы, витамины и минеральные соли в нужном ему количестве. Пища обеспечивает человека: энергией, чтобы двигаться и сохранять температуру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s://im2-tub-ru.yandex.net/i?id=1bad8b6ba61146c4c667c3252ddac9d0&amp;n=33&amp;h=215&amp;w=287"/>
          <p:cNvPicPr/>
          <p:nvPr/>
        </p:nvPicPr>
        <p:blipFill>
          <a:blip r:embed="rId1"/>
          <a:stretch/>
        </p:blipFill>
        <p:spPr>
          <a:xfrm>
            <a:off x="5143680" y="4181400"/>
            <a:ext cx="3571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143080" y="500040"/>
            <a:ext cx="650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Личная гиги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е значение в охране и укреплении здоровья принадлежит гигиеническому обучению и воспитанию. Гигиеническое воспитание — это часть общего воспитания, а гигиенические навыки — это неотъемлемая часть культурн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mediksnews.ru/gepatit/wp-content/uploads/2015/06/19114-referat-gigienicheskoe-obespechenie-v-futbole.jpg"/>
          <p:cNvPicPr/>
          <p:nvPr/>
        </p:nvPicPr>
        <p:blipFill>
          <a:blip r:embed="rId1"/>
          <a:stretch/>
        </p:blipFill>
        <p:spPr>
          <a:xfrm>
            <a:off x="3286080" y="4071960"/>
            <a:ext cx="4214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500200" y="285840"/>
            <a:ext cx="664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ая гигие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уход за своим телом и содержание его в чистоте. Кожа защищает тело человека от болезней. это уход за своим телом и содержание его в чистоте. Кожа защищает тело человека от болезней. Если кожу долго не мыть, то на ней накапливается жир и пот, на которых задерживаются частицы пыли. От этого кожа становится грязной, грубой и перестает защищать тело. Грязная кожа может принести вред здоровью и, кроме того, грязные, неряшливые люди всегда неприятны всем окружающим. Поэтому кожу нужно мыть и за ней необходимо ухажив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medloger.ru/_nw/0/83009421.jpg"/>
          <p:cNvPicPr/>
          <p:nvPr/>
        </p:nvPicPr>
        <p:blipFill>
          <a:blip r:embed="rId1"/>
          <a:stretch/>
        </p:blipFill>
        <p:spPr>
          <a:xfrm>
            <a:off x="2571840" y="457200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vetka.by/wp-content/uploads/2012/05/vetkovski_raion_children_baby_041.jpg"/>
          <p:cNvPicPr/>
          <p:nvPr/>
        </p:nvPicPr>
        <p:blipFill>
          <a:blip r:embed="rId2"/>
          <a:stretch/>
        </p:blipFill>
        <p:spPr>
          <a:xfrm>
            <a:off x="5786280" y="4643280"/>
            <a:ext cx="30956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2571840" y="428760"/>
            <a:ext cx="614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здоровым- естественное желание каждого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Самое ценное у человека – это жи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Самое ценное в жизни – здоровье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оддержания здорового образа жизни надо соблюдать несколько простых правил: соблюдать режим дня; заниматься спортом; регулярно посещать лечащего врача с целью профилактики болез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s5o.ru/storage/simple/ru/ugc/46/40/97/16/ruue1efa35c26.jpg"/>
          <p:cNvPicPr/>
          <p:nvPr/>
        </p:nvPicPr>
        <p:blipFill>
          <a:blip r:embed="rId1"/>
          <a:stretch/>
        </p:blipFill>
        <p:spPr>
          <a:xfrm>
            <a:off x="3857760" y="4203720"/>
            <a:ext cx="35906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500200" y="571680"/>
            <a:ext cx="628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Здоровый образ жизн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— это поведение или деятельность человека, направленные на укрепление своего здоровья (умеренность во всем, оптимальный двигательный режим, закаливание, правильное питание, рациональный режим жизни и отказ от вредных привыче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cs309119.vk.me/v309119298/81f1/KEWSYmUtDGY.jpg"/>
          <p:cNvPicPr/>
          <p:nvPr/>
        </p:nvPicPr>
        <p:blipFill>
          <a:blip r:embed="rId1"/>
          <a:stretch/>
        </p:blipFill>
        <p:spPr>
          <a:xfrm>
            <a:off x="4786200" y="3929040"/>
            <a:ext cx="4357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изнаками здоровья являю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8480" y="1213920"/>
            <a:ext cx="7715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сутствие чувства постоянного утомления. Утомляемость—самый заметный признак ухудшения здоров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ий аппетит. Если человек здоров, то он ест с удовольств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ий сон. Вполне здоровый человек засыпает в течение 2—3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ая памя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сность мыслей и упорядоченность поступков. У здорового человека логика мышления и поступков взаимно связаны. 6. Хорошее настро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рожелатель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ность поддерживать здоровые взаимоотношения в коллекти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оспособ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500200" y="285840"/>
            <a:ext cx="607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ть два рода болез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и происходят от заражения микробами и вирусами, проникающими в организм извне. Это инфекционные заболе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другие возникают большей частью от нарушения режима труда и отдыха, неправильного питания, от охлаждения, перегрева, плохого освещения, неправильной осанки,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img1.liveinternet.ru/images/attach/c/6/91/413/91413875_KAagard_FixMeUpDoc_Germ3.png"/>
          <p:cNvPicPr/>
          <p:nvPr/>
        </p:nvPicPr>
        <p:blipFill>
          <a:blip r:embed="rId1"/>
          <a:stretch/>
        </p:blipFill>
        <p:spPr>
          <a:xfrm>
            <a:off x="6000840" y="3965400"/>
            <a:ext cx="31431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143080" y="785880"/>
            <a:ext cx="671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человек крепок, закален, то его организм может активно сопротивляться и тем и другим болезням. У ослабленных же людей сопротивляемость снижена, и они часто бол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Итак, самое верное средство борьбы с любыми болезнями — укрепление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lazurniy.org.ua/images/pictures/foto-k-novostyam/roditelskii-klub/zakalivanie-(page-picture-large).jpg"/>
          <p:cNvPicPr/>
          <p:nvPr/>
        </p:nvPicPr>
        <p:blipFill>
          <a:blip r:embed="rId1"/>
          <a:stretch/>
        </p:blipFill>
        <p:spPr>
          <a:xfrm>
            <a:off x="3643200" y="4214880"/>
            <a:ext cx="3565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2286000" y="500040"/>
            <a:ext cx="65008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Как же его укреп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этого есть немало средств: физкультура и спорт, закаливание, соблюдение правил гигиены, хорошее 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funlib.ru/cimg/2014/102122/0728801"/>
          <p:cNvPicPr/>
          <p:nvPr/>
        </p:nvPicPr>
        <p:blipFill>
          <a:blip r:embed="rId1"/>
          <a:stretch/>
        </p:blipFill>
        <p:spPr>
          <a:xfrm>
            <a:off x="1285920" y="2643120"/>
            <a:ext cx="3027240" cy="235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gogol-mogol.su/uploads/posts/2013-09/1380484653_principy-pravilnogo-pitaniya.jpg"/>
          <p:cNvPicPr/>
          <p:nvPr/>
        </p:nvPicPr>
        <p:blipFill>
          <a:blip r:embed="rId2"/>
          <a:stretch/>
        </p:blipFill>
        <p:spPr>
          <a:xfrm>
            <a:off x="6002280" y="2786040"/>
            <a:ext cx="314172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lastochka-madou.ucoz.ru/MEDSESTRA/hygiene10.jpg"/>
          <p:cNvPicPr/>
          <p:nvPr/>
        </p:nvPicPr>
        <p:blipFill>
          <a:blip r:embed="rId3"/>
          <a:stretch/>
        </p:blipFill>
        <p:spPr>
          <a:xfrm>
            <a:off x="3929040" y="4327560"/>
            <a:ext cx="22147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143080" y="214200"/>
            <a:ext cx="671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Занятия физкультурой и спорт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нируют сердечно-сосудистую систему, делают ее выносливой к большим нагрузкам. Утренняя гимнастика, уроки физкультуры, занятия в спортивных секциях, подвижные игры и спортивные развлечения, туризм — все это укрепляет здоровье и предохраняет организм от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playing-field.ru/img/2015/052206/5444596"/>
          <p:cNvPicPr/>
          <p:nvPr/>
        </p:nvPicPr>
        <p:blipFill>
          <a:blip r:embed="rId1"/>
          <a:stretch/>
        </p:blipFill>
        <p:spPr>
          <a:xfrm>
            <a:off x="5214960" y="3759120"/>
            <a:ext cx="36669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643120" y="642960"/>
            <a:ext cx="5786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еще одна очень важная сторона физического воспитания –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закали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пециальными исследованиями доказано, что закаленные дети значительно реже болеют гриппом, ангиной, чем незакал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info-girl.ru/wp-content/uploads/2015/02/immunitet_2.jpg"/>
          <p:cNvPicPr/>
          <p:nvPr/>
        </p:nvPicPr>
        <p:blipFill>
          <a:blip r:embed="rId1"/>
          <a:stretch/>
        </p:blipFill>
        <p:spPr>
          <a:xfrm>
            <a:off x="4214880" y="3714840"/>
            <a:ext cx="4575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428920" y="428760"/>
            <a:ext cx="671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жиме дня должно быть все точно распределено: продолжительность учебных занятий и дома, прогулки, регулярность питания, сон, чередование труда и отдыха. И это не случайное треб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funlib.ru/cimg/2014/101905/2304093"/>
          <p:cNvPicPr/>
          <p:nvPr/>
        </p:nvPicPr>
        <p:blipFill>
          <a:blip r:embed="rId1"/>
          <a:stretch/>
        </p:blipFill>
        <p:spPr>
          <a:xfrm>
            <a:off x="3500280" y="3387600"/>
            <a:ext cx="4000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6:11:47Z</dcterms:created>
  <dc:creator>Master</dc:creator>
  <dc:description/>
  <dc:language>en-US</dc:language>
  <cp:lastModifiedBy>Master</cp:lastModifiedBy>
  <dcterms:modified xsi:type="dcterms:W3CDTF">2018-01-09T15:39:08Z</dcterms:modified>
  <cp:revision>8</cp:revision>
  <dc:subject/>
  <dc:title>Слайд 1</dc:title>
</cp:coreProperties>
</file>