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9.png" ContentType="image/png"/>
  <Override PartName="/ppt/media/image21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20.jpeg" ContentType="image/jpeg"/>
  <Override PartName="/ppt/media/image18.jpeg" ContentType="image/jpeg"/>
  <Override PartName="/ppt/media/image3.gif" ContentType="image/gif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5.gif" ContentType="image/gif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C128-1ABA-4616-A9F6-5AE52AC5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360" y="417276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96F8-5398-4FD1-A39E-CB2CD0C0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360" y="4172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04960" y="4172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F4DD-2C80-45E4-8ADE-DAF7BE55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37600" y="178452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84480" y="178452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360" y="417276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37600" y="417276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84480" y="417276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9E94-506A-4C6D-BC50-7D49909B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1807-F23A-4021-A6CD-1D99407E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90360" y="178452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7760"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8C8C-0482-4E1C-A595-44987DB1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402A-CCF5-4840-AD37-41D3A58C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C3DE-A045-4BBD-B62F-C9B2B2EC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C7A6-3574-4077-8326-24558249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90360" y="512640"/>
            <a:ext cx="84200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776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AC0D-F97D-4D4F-9063-80D618C6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90360" y="4172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AB26-6EF3-4A66-9DEC-65398C68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360" y="178452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7760"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C7FB-1494-413E-9A60-2BA5B415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04960" y="4172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089A-C1EC-4D6A-9419-988F41FF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90360" y="417276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46FA-87ED-4808-86F7-4AEAFC2E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90360" y="417276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D478-BFB6-4844-8925-4666FB80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90360" y="4172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04960" y="4172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792B-BCA3-476F-B204-55505FB8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37600" y="178452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84480" y="178452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90360" y="417276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37600" y="417276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84480" y="417276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1203-2E43-48B6-B694-67D650B1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8F555-597F-4A6A-A6F5-A727AF4C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90360" y="178452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7760"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E202A-F95D-4439-BA9F-E9ADF547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7613D-A877-4298-B6D4-2B7CF949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9DF28-DE83-4863-B0D3-1D00FA54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9BF60-7EFF-4F10-B14E-5B1262B7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F4BF-0DE1-44B2-A410-5BB5F5EF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90360" y="512640"/>
            <a:ext cx="84200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776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897A9-8BE7-482D-89BD-2FCDE109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90360" y="4172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EFF35-7685-401D-81B1-6DD321F5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04960" y="4172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67CCA-C518-4A57-AF85-F4F20A4A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360" y="417276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3E6C6-E706-4D57-86A1-A2ED31B5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90360" y="417276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25318-A5D8-4F1F-AF47-23F1A8E9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90360" y="4172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304960" y="4172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E86A8-AF15-4982-8ED6-74F39DE1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837600" y="178452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84480" y="178452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90360" y="417276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837600" y="417276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684480" y="417276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72011-4037-4BEB-9B69-97D62863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1A01F-E9A7-4965-BA72-B8D872B4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90360" y="178452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7760"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BB5C2-A137-40CA-8946-6C638AC9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61E34-3267-49CB-9E2F-682C4158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569E-7CCC-4743-8701-2B8F6110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0F118-E1A0-4487-A90C-5F6F8304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59220-A487-40BC-83A5-0F203CB3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90360" y="512640"/>
            <a:ext cx="84200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776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C51CA-8E50-4C2D-B9C9-98FF7778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90360" y="4172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4402D-F1D2-4402-A04C-329AC887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04960" y="4172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251B5-CAF4-4DC9-8F11-21B227D2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90360" y="417276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033FC-4CD4-4557-87FA-A2A11724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90360" y="417276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6B1C9-EDD6-49B8-8192-7BF1112A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90360" y="4172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304960" y="4172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7A550-77FE-4673-AE35-8F9973E5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837600" y="178452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84480" y="178452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90360" y="417276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837600" y="417276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684480" y="417276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B2DF5-FD85-4D42-AE28-2D2A62A7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47CCE-832F-4EF9-A063-F6BFC9E4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FAF3-0A12-4452-ACDB-27B43695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90360" y="178452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7760"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DCDC4-38E8-4A41-BDDB-5474B3AF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8FF66-C22B-4CF8-A2F4-A4EDB3C0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61893-0437-47A5-B8CC-B192BE6B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42A97-8A71-4D99-8846-60ECE3C4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90360" y="512640"/>
            <a:ext cx="84200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776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75DDA-090E-4F71-9E4A-A16AC50F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90360" y="4172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1210A-1223-4DD7-8708-204DE7E2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04960" y="4172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71D29-0F34-49DD-BF90-074165EF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90360" y="417276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4874C-23EE-4978-8BBB-B6CF7FD3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90360" y="417276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00A04-7DA9-49F7-80E9-DEB58AAA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90360" y="4172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304960" y="4172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E204E-B58A-4F69-A349-E84E9F08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360" y="512640"/>
            <a:ext cx="84200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776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D171-3111-47FE-85D6-4B39C82E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837600" y="178452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684480" y="178452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90360" y="417276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837600" y="417276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684480" y="417276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59E8A-C2AB-48E6-B7C3-93639879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3A7CF-AF22-4C19-9523-7E38ED70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90360" y="178452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7760"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C4503-761F-4087-9C65-247AB950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98C08-471C-4E91-BA57-3AFC8652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16163-9971-4292-990D-EF68F0EB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CE1A2-3628-48BC-83AC-744BE401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90360" y="512640"/>
            <a:ext cx="84200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776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DFE2F-2E5B-4399-AE00-1EEA6C4E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90360" y="4172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3D7FB-7A07-4C37-B5E2-5F969745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304960" y="4172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0B4DB-2A89-43F0-911C-16B25A1E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90360" y="417276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0A259-5930-49D6-A444-3ADE33E2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172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8E5D-4369-4845-8E8E-8DDCDA07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90360" y="417276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C2B4F-53D1-4A53-A935-63CDE14F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90360" y="4172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304960" y="4172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29FFE-F240-47FC-8C7D-6C0DA55AA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37600" y="178452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684480" y="178452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90360" y="417276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837600" y="417276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684480" y="417276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BF72E-7793-48E2-83B0-E98DF842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ED836-BFCE-4602-A661-CE922832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90360" y="178452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7760"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48B81-5CBF-4278-A5F8-091EC246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36777-F23A-4689-BFBC-FCCE507C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2D44C-61B9-4876-A3B9-34EE2162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26BDD-B2B8-4FD0-9C6F-37C4A10C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90360" y="512640"/>
            <a:ext cx="84200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776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83F8C-C97F-4E5C-9C90-0AE929B2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90360" y="4172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D3540-AE62-447D-8A83-46294401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04960" y="4172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9275-1250-4951-A6EC-6F0CA2FF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04960" y="4172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9843E-2523-416A-AFF3-1457583C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90360" y="417276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9D4E2-6EA5-4E38-9A5B-63691084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90360" y="417276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C76AC-9E2E-4381-9CB1-F1689B05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90360" y="4172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304960" y="4172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C6862-2300-47EF-BB50-564F9200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837600" y="178452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684480" y="178452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90360" y="417276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837600" y="417276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684480" y="417276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AFDED-1265-4FF1-85C9-693FEBC7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04960" y="17845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360" y="417276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FF68-D953-4657-85D1-BA6D50DF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9672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76120" y="5046840"/>
            <a:ext cx="7956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76120" y="4797360"/>
            <a:ext cx="7956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76120" y="4637160"/>
            <a:ext cx="7956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76120" y="4541760"/>
            <a:ext cx="7956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23040" bIns="2304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34800" y="681120"/>
            <a:ext cx="493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9196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7144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39760" y="681120"/>
            <a:ext cx="111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90360" y="178452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463680" indent="-385920">
              <a:spcBef>
                <a:spcPts val="788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1" marL="835200" indent="-322560">
              <a:spcBef>
                <a:spcPts val="788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2" marL="1123920" indent="-257040">
              <a:spcBef>
                <a:spcPts val="788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3" marL="1422360" indent="-257040">
              <a:spcBef>
                <a:spcPts val="788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4" marL="1670040" indent="-236520">
              <a:spcBef>
                <a:spcPts val="788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5" marL="1670040" indent="-236520">
              <a:spcBef>
                <a:spcPts val="788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6" marL="1670040" indent="-236520">
              <a:spcBef>
                <a:spcPts val="788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7016400" y="64166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b">
            <a:noAutofit/>
          </a:bodyPr>
          <a:lstStyle>
            <a:lvl1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  <a:defRPr b="0" lang="ru-RU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90360" y="6416640"/>
            <a:ext cx="6026040" cy="365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b">
            <a:noAutofit/>
          </a:bodyPr>
          <a:p>
            <a: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9327960" y="6416640"/>
            <a:ext cx="495000" cy="365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b">
            <a:noAutofit/>
          </a:bodyPr>
          <a:lstStyle>
            <a:lvl1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  <a:defRPr b="0" lang="ru-RU" sz="14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fld id="{892E86BA-F69B-4510-96EB-CAD2209FDF9E}" type="slidenum">
              <a:rPr b="0" lang="ru-RU" sz="14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1"/>
          <p:cNvSpPr/>
          <p:nvPr/>
        </p:nvSpPr>
        <p:spPr>
          <a:xfrm>
            <a:off x="0" y="0"/>
            <a:ext cx="39672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Прямоугольник 38"/>
          <p:cNvSpPr/>
          <p:nvPr/>
        </p:nvSpPr>
        <p:spPr>
          <a:xfrm>
            <a:off x="334800" y="681120"/>
            <a:ext cx="493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Прямоугольник 39"/>
          <p:cNvSpPr/>
          <p:nvPr/>
        </p:nvSpPr>
        <p:spPr>
          <a:xfrm>
            <a:off x="29196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Прямоугольник 40"/>
          <p:cNvSpPr/>
          <p:nvPr/>
        </p:nvSpPr>
        <p:spPr>
          <a:xfrm>
            <a:off x="27144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Прямоугольник 41"/>
          <p:cNvSpPr/>
          <p:nvPr/>
        </p:nvSpPr>
        <p:spPr>
          <a:xfrm>
            <a:off x="239760" y="681120"/>
            <a:ext cx="111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Прямоугольник 55"/>
          <p:cNvSpPr/>
          <p:nvPr/>
        </p:nvSpPr>
        <p:spPr>
          <a:xfrm>
            <a:off x="276120" y="5046840"/>
            <a:ext cx="7956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Прямоугольник 64"/>
          <p:cNvSpPr/>
          <p:nvPr/>
        </p:nvSpPr>
        <p:spPr>
          <a:xfrm>
            <a:off x="276120" y="4797360"/>
            <a:ext cx="7956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Прямоугольник 65"/>
          <p:cNvSpPr/>
          <p:nvPr/>
        </p:nvSpPr>
        <p:spPr>
          <a:xfrm>
            <a:off x="276120" y="4637160"/>
            <a:ext cx="7956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Прямоугольник 66"/>
          <p:cNvSpPr/>
          <p:nvPr/>
        </p:nvSpPr>
        <p:spPr>
          <a:xfrm>
            <a:off x="276120" y="4541760"/>
            <a:ext cx="7956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23040" bIns="2304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90360" y="178452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463680" indent="-385920">
              <a:spcBef>
                <a:spcPts val="788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1" marL="835200" indent="-322560">
              <a:spcBef>
                <a:spcPts val="788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2" marL="1123920" indent="-257040">
              <a:spcBef>
                <a:spcPts val="788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3" marL="1422360" indent="-257040">
              <a:spcBef>
                <a:spcPts val="788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4" marL="1670040" indent="-236520">
              <a:spcBef>
                <a:spcPts val="788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5" marL="1670040" indent="-236520">
              <a:spcBef>
                <a:spcPts val="788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6" marL="1670040" indent="-236520">
              <a:spcBef>
                <a:spcPts val="788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7016400" y="64166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b">
            <a:noAutofit/>
          </a:bodyPr>
          <a:lstStyle>
            <a:lvl1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  <a:defRPr b="0" lang="ru-RU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90360" y="6416640"/>
            <a:ext cx="6026040" cy="365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b">
            <a:noAutofit/>
          </a:bodyPr>
          <a:p>
            <a: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9327960" y="6416640"/>
            <a:ext cx="495000" cy="365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b">
            <a:noAutofit/>
          </a:bodyPr>
          <a:lstStyle>
            <a:lvl1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  <a:defRPr b="0" lang="ru-RU" sz="14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fld id="{CC7263FF-53CB-4ACB-8784-AB9CC7693D9C}" type="slidenum">
              <a:rPr b="0" lang="ru-RU" sz="14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9672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76120" y="5046840"/>
            <a:ext cx="7956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76120" y="4797360"/>
            <a:ext cx="7956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76120" y="4637160"/>
            <a:ext cx="7956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76120" y="4541760"/>
            <a:ext cx="7956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23040" bIns="2304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34800" y="681120"/>
            <a:ext cx="493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9196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7144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39760" y="681120"/>
            <a:ext cx="111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Полилиния 13"/>
          <p:cNvSpPr/>
          <p:nvPr/>
        </p:nvSpPr>
        <p:spPr>
          <a:xfrm>
            <a:off x="5230800" y="1073160"/>
            <a:ext cx="4683240" cy="5791320"/>
          </a:xfrm>
          <a:prstGeom prst="pie">
            <a:avLst/>
          </a:prstGeom>
          <a:noFill/>
          <a:ln w="3240">
            <a:solidFill>
              <a:srgbClr val="ac66bb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Полилиния 14"/>
          <p:cNvSpPr/>
          <p:nvPr/>
        </p:nvSpPr>
        <p:spPr>
          <a:xfrm>
            <a:off x="404640" y="0"/>
            <a:ext cx="5973840" cy="6615000"/>
          </a:xfrm>
          <a:prstGeom prst="pie">
            <a:avLst/>
          </a:prstGeom>
          <a:noFill/>
          <a:ln w="3240">
            <a:solidFill>
              <a:srgbClr val="ac66bb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Полилиния 12"/>
          <p:cNvSpPr/>
          <p:nvPr/>
        </p:nvSpPr>
        <p:spPr>
          <a:xfrm rot="5236200">
            <a:off x="5005440" y="1433160"/>
            <a:ext cx="4114800" cy="1288800"/>
          </a:xfrm>
          <a:prstGeom prst="pie">
            <a:avLst/>
          </a:prstGeom>
          <a:solidFill>
            <a:srgbClr val="dc32b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Полилиния 15"/>
          <p:cNvSpPr/>
          <p:nvPr/>
        </p:nvSpPr>
        <p:spPr>
          <a:xfrm>
            <a:off x="6438960" y="0"/>
            <a:ext cx="2971800" cy="42670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Полилиния 16"/>
          <p:cNvSpPr/>
          <p:nvPr/>
        </p:nvSpPr>
        <p:spPr>
          <a:xfrm>
            <a:off x="6438960" y="4267080"/>
            <a:ext cx="3467160" cy="11430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Полилиния 17"/>
          <p:cNvSpPr/>
          <p:nvPr/>
        </p:nvSpPr>
        <p:spPr>
          <a:xfrm>
            <a:off x="6438960" y="0"/>
            <a:ext cx="1485720" cy="42670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Полилиния 18"/>
          <p:cNvSpPr/>
          <p:nvPr/>
        </p:nvSpPr>
        <p:spPr>
          <a:xfrm>
            <a:off x="6443640" y="4246560"/>
            <a:ext cx="2265480" cy="261144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Полилиния 19"/>
          <p:cNvSpPr/>
          <p:nvPr/>
        </p:nvSpPr>
        <p:spPr>
          <a:xfrm>
            <a:off x="6438960" y="4267080"/>
            <a:ext cx="173340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Полилиния 20"/>
          <p:cNvSpPr/>
          <p:nvPr/>
        </p:nvSpPr>
        <p:spPr>
          <a:xfrm>
            <a:off x="6438960" y="1371600"/>
            <a:ext cx="3467160" cy="28954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Полилиния 21"/>
          <p:cNvSpPr/>
          <p:nvPr/>
        </p:nvSpPr>
        <p:spPr>
          <a:xfrm>
            <a:off x="6438960" y="1752480"/>
            <a:ext cx="3467160" cy="25146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Полилиния 22"/>
          <p:cNvSpPr/>
          <p:nvPr/>
        </p:nvSpPr>
        <p:spPr>
          <a:xfrm>
            <a:off x="1073160" y="4267080"/>
            <a:ext cx="536580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Полилиния 23"/>
          <p:cNvSpPr/>
          <p:nvPr/>
        </p:nvSpPr>
        <p:spPr>
          <a:xfrm>
            <a:off x="577800" y="4267080"/>
            <a:ext cx="577872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Полилиния 24"/>
          <p:cNvSpPr/>
          <p:nvPr/>
        </p:nvSpPr>
        <p:spPr>
          <a:xfrm>
            <a:off x="396720" y="2438280"/>
            <a:ext cx="6108840" cy="18288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Полилиния 25"/>
          <p:cNvSpPr/>
          <p:nvPr/>
        </p:nvSpPr>
        <p:spPr>
          <a:xfrm>
            <a:off x="396720" y="2133720"/>
            <a:ext cx="6108840" cy="213336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Полилиния 26"/>
          <p:cNvSpPr/>
          <p:nvPr/>
        </p:nvSpPr>
        <p:spPr>
          <a:xfrm>
            <a:off x="4952880" y="4267080"/>
            <a:ext cx="1486080" cy="2590920"/>
          </a:xfrm>
          <a:prstGeom prst="pie">
            <a:avLst/>
          </a:prstGeom>
          <a:solidFill>
            <a:srgbClr val="dc32b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393840" y="401760"/>
            <a:ext cx="9212040" cy="887400"/>
          </a:xfrm>
          <a:prstGeom prst="rect">
            <a:avLst/>
          </a:prstGeom>
          <a:solidFill>
            <a:srgbClr val="dc32b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Прямоугольник 7"/>
          <p:cNvSpPr/>
          <p:nvPr/>
        </p:nvSpPr>
        <p:spPr>
          <a:xfrm flipH="1">
            <a:off x="402480" y="681120"/>
            <a:ext cx="284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Прямоугольник 8"/>
          <p:cNvSpPr/>
          <p:nvPr/>
        </p:nvSpPr>
        <p:spPr>
          <a:xfrm flipH="1">
            <a:off x="44604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Прямоугольник 9"/>
          <p:cNvSpPr/>
          <p:nvPr/>
        </p:nvSpPr>
        <p:spPr>
          <a:xfrm flipH="1">
            <a:off x="4849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Прямоугольник 10"/>
          <p:cNvSpPr/>
          <p:nvPr/>
        </p:nvSpPr>
        <p:spPr>
          <a:xfrm flipH="1">
            <a:off x="515160" y="681120"/>
            <a:ext cx="111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542880" y="681120"/>
            <a:ext cx="381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90360" y="178452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463680" indent="-385920">
              <a:spcBef>
                <a:spcPts val="788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1" marL="835200" indent="-322560">
              <a:spcBef>
                <a:spcPts val="788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2" marL="1123920" indent="-257040">
              <a:spcBef>
                <a:spcPts val="788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3" marL="1422360" indent="-257040">
              <a:spcBef>
                <a:spcPts val="788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4" marL="1670040" indent="-236520">
              <a:spcBef>
                <a:spcPts val="788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5" marL="1670040" indent="-236520">
              <a:spcBef>
                <a:spcPts val="788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6" marL="1670040" indent="-236520">
              <a:spcBef>
                <a:spcPts val="788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7016400" y="64166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b">
            <a:noAutofit/>
          </a:bodyPr>
          <a:lstStyle>
            <a:lvl1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  <a:defRPr b="0" lang="ru-RU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90360" y="6416640"/>
            <a:ext cx="6026040" cy="365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b">
            <a:noAutofit/>
          </a:bodyPr>
          <a:p>
            <a: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9327960" y="6416640"/>
            <a:ext cx="495000" cy="365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b">
            <a:noAutofit/>
          </a:bodyPr>
          <a:lstStyle>
            <a:lvl1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  <a:defRPr b="0" lang="ru-RU" sz="14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fld id="{68E38FF0-E5E6-4A3E-8F33-8AB88B5380F3}" type="slidenum">
              <a:rPr b="0" lang="ru-RU" sz="14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90360" y="178452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463680" indent="-385920">
              <a:spcBef>
                <a:spcPts val="788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1" marL="835200" indent="-322560">
              <a:spcBef>
                <a:spcPts val="788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2" marL="1123920" indent="-257040">
              <a:spcBef>
                <a:spcPts val="788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3" marL="1422360" indent="-257040">
              <a:spcBef>
                <a:spcPts val="788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4" marL="1670040" indent="-236520">
              <a:spcBef>
                <a:spcPts val="788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5" marL="1670040" indent="-236520">
              <a:spcBef>
                <a:spcPts val="788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6" marL="1670040" indent="-236520">
              <a:spcBef>
                <a:spcPts val="788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016400" y="64166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b">
            <a:noAutofit/>
          </a:bodyPr>
          <a:lstStyle>
            <a:lvl1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  <a:defRPr b="0" lang="ru-RU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90360" y="6416640"/>
            <a:ext cx="6026040" cy="365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b">
            <a:noAutofit/>
          </a:bodyPr>
          <a:p>
            <a: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9327960" y="6416640"/>
            <a:ext cx="495000" cy="365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b">
            <a:noAutofit/>
          </a:bodyPr>
          <a:lstStyle>
            <a:lvl1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  <a:defRPr b="0" lang="ru-RU" sz="14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fld id="{A6EE5616-3FD7-4B89-B392-C455A6E20A6B}" type="slidenum">
              <a:rPr b="0" lang="ru-RU" sz="14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24"/>
          <p:cNvSpPr/>
          <p:nvPr/>
        </p:nvSpPr>
        <p:spPr>
          <a:xfrm>
            <a:off x="0" y="401760"/>
            <a:ext cx="9605880" cy="887400"/>
          </a:xfrm>
          <a:prstGeom prst="rect">
            <a:avLst/>
          </a:prstGeom>
          <a:solidFill>
            <a:srgbClr val="dc32b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Прямоугольник 15"/>
          <p:cNvSpPr/>
          <p:nvPr/>
        </p:nvSpPr>
        <p:spPr>
          <a:xfrm>
            <a:off x="95400" y="681120"/>
            <a:ext cx="4896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Прямоугольник 16"/>
          <p:cNvSpPr/>
          <p:nvPr/>
        </p:nvSpPr>
        <p:spPr>
          <a:xfrm>
            <a:off x="50760" y="681120"/>
            <a:ext cx="3024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Прямоугольник 17"/>
          <p:cNvSpPr/>
          <p:nvPr/>
        </p:nvSpPr>
        <p:spPr>
          <a:xfrm>
            <a:off x="30240" y="681120"/>
            <a:ext cx="1116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Прямоугольник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Прямоугольник 19"/>
          <p:cNvSpPr/>
          <p:nvPr/>
        </p:nvSpPr>
        <p:spPr>
          <a:xfrm flipH="1">
            <a:off x="162000" y="681120"/>
            <a:ext cx="3024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Прямоугольник 20"/>
          <p:cNvSpPr/>
          <p:nvPr/>
        </p:nvSpPr>
        <p:spPr>
          <a:xfrm flipH="1">
            <a:off x="204840" y="681120"/>
            <a:ext cx="3024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Прямоугольник 21"/>
          <p:cNvSpPr/>
          <p:nvPr/>
        </p:nvSpPr>
        <p:spPr>
          <a:xfrm flipH="1">
            <a:off x="246240" y="681120"/>
            <a:ext cx="936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Прямоугольник 28"/>
          <p:cNvSpPr/>
          <p:nvPr/>
        </p:nvSpPr>
        <p:spPr>
          <a:xfrm flipH="1">
            <a:off x="275400" y="681120"/>
            <a:ext cx="9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Прямоугольник 29"/>
          <p:cNvSpPr/>
          <p:nvPr/>
        </p:nvSpPr>
        <p:spPr>
          <a:xfrm>
            <a:off x="301680" y="681120"/>
            <a:ext cx="3960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90360" y="178452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463680" indent="-385920">
              <a:spcBef>
                <a:spcPts val="788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1" marL="835200" indent="-322560">
              <a:spcBef>
                <a:spcPts val="788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2" marL="1123920" indent="-257040">
              <a:spcBef>
                <a:spcPts val="788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3" marL="1422360" indent="-257040">
              <a:spcBef>
                <a:spcPts val="788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4" marL="1670040" indent="-236520">
              <a:spcBef>
                <a:spcPts val="788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5" marL="1670040" indent="-236520">
              <a:spcBef>
                <a:spcPts val="788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6" marL="1670040" indent="-236520">
              <a:spcBef>
                <a:spcPts val="788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7016400" y="64166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b">
            <a:noAutofit/>
          </a:bodyPr>
          <a:lstStyle>
            <a:lvl1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  <a:defRPr b="0" lang="ru-RU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90360" y="6416640"/>
            <a:ext cx="6026040" cy="365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b">
            <a:noAutofit/>
          </a:bodyPr>
          <a:p>
            <a: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9327960" y="6416640"/>
            <a:ext cx="495000" cy="365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b">
            <a:noAutofit/>
          </a:bodyPr>
          <a:lstStyle>
            <a:lvl1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  <a:defRPr b="0" lang="ru-RU" sz="14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fld id="{67E9BC4C-D8D7-4BB5-A4CC-7E32A812A9D9}" type="slidenum">
              <a:rPr b="0" lang="ru-RU" sz="14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90360" y="178452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463680" indent="-385920">
              <a:spcBef>
                <a:spcPts val="788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1" marL="835200" indent="-322560">
              <a:spcBef>
                <a:spcPts val="788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2" marL="1123920" indent="-257040">
              <a:spcBef>
                <a:spcPts val="788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3" marL="1422360" indent="-257040">
              <a:spcBef>
                <a:spcPts val="788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4" marL="1670040" indent="-236520">
              <a:spcBef>
                <a:spcPts val="788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5" marL="1670040" indent="-236520">
              <a:spcBef>
                <a:spcPts val="788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6" marL="1670040" indent="-236520">
              <a:spcBef>
                <a:spcPts val="788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7016400" y="64166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b">
            <a:noAutofit/>
          </a:bodyPr>
          <a:lstStyle>
            <a:lvl1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  <a:defRPr b="0" lang="ru-RU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90360" y="6416640"/>
            <a:ext cx="6026040" cy="365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b">
            <a:noAutofit/>
          </a:bodyPr>
          <a:p>
            <a: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9327960" y="6416640"/>
            <a:ext cx="495000" cy="365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b">
            <a:noAutofit/>
          </a:bodyPr>
          <a:lstStyle>
            <a:lvl1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  <a:defRPr b="0" lang="ru-RU" sz="14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fld id="{38B6E641-50F2-4731-8270-5F588526561A}" type="slidenum">
              <a:rPr b="0" lang="ru-RU" sz="14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9672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76120" y="5046840"/>
            <a:ext cx="7956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76120" y="4797360"/>
            <a:ext cx="7956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76120" y="4637160"/>
            <a:ext cx="7956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76120" y="4541760"/>
            <a:ext cx="7956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23040" bIns="2304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34800" y="681120"/>
            <a:ext cx="493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9196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7144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39760" y="681120"/>
            <a:ext cx="111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Прямоугольник 7"/>
          <p:cNvSpPr/>
          <p:nvPr/>
        </p:nvSpPr>
        <p:spPr>
          <a:xfrm>
            <a:off x="398520" y="0"/>
            <a:ext cx="951048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Прямая соединительная линия 8"/>
          <p:cNvSpPr/>
          <p:nvPr/>
        </p:nvSpPr>
        <p:spPr>
          <a:xfrm>
            <a:off x="393840" y="1884240"/>
            <a:ext cx="9513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Группа 9"/>
          <p:cNvGrpSpPr/>
          <p:nvPr/>
        </p:nvGrpSpPr>
        <p:grpSpPr>
          <a:xfrm>
            <a:off x="9226440" y="1217520"/>
            <a:ext cx="140040" cy="131760"/>
            <a:chOff x="9226440" y="1217520"/>
            <a:chExt cx="140040" cy="131760"/>
          </a:xfrm>
        </p:grpSpPr>
        <p:sp>
          <p:nvSpPr>
            <p:cNvPr id="316" name="Прямая соединительная линия 14"/>
            <p:cNvSpPr/>
            <p:nvPr/>
          </p:nvSpPr>
          <p:spPr>
            <a:xfrm>
              <a:off x="9287640" y="1217520"/>
              <a:ext cx="7884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Прямая соединительная линия 15"/>
            <p:cNvSpPr/>
            <p:nvPr/>
          </p:nvSpPr>
          <p:spPr>
            <a:xfrm>
              <a:off x="9226440" y="1283040"/>
              <a:ext cx="112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Прямая соединительная линия 16"/>
            <p:cNvSpPr/>
            <p:nvPr/>
          </p:nvSpPr>
          <p:spPr>
            <a:xfrm flipV="1">
              <a:off x="9287640" y="1282320"/>
              <a:ext cx="7884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Группа 13"/>
          <p:cNvGrpSpPr/>
          <p:nvPr/>
        </p:nvGrpSpPr>
        <p:grpSpPr>
          <a:xfrm>
            <a:off x="9391680" y="1370160"/>
            <a:ext cx="140040" cy="131760"/>
            <a:chOff x="9391680" y="1370160"/>
            <a:chExt cx="140040" cy="131760"/>
          </a:xfrm>
        </p:grpSpPr>
        <p:sp>
          <p:nvSpPr>
            <p:cNvPr id="320" name="Прямая соединительная линия 10"/>
            <p:cNvSpPr/>
            <p:nvPr/>
          </p:nvSpPr>
          <p:spPr>
            <a:xfrm>
              <a:off x="9452880" y="1370160"/>
              <a:ext cx="7884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Прямая соединительная линия 11"/>
            <p:cNvSpPr/>
            <p:nvPr/>
          </p:nvSpPr>
          <p:spPr>
            <a:xfrm>
              <a:off x="9391680" y="1435680"/>
              <a:ext cx="112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Прямая соединительная линия 12"/>
            <p:cNvSpPr/>
            <p:nvPr/>
          </p:nvSpPr>
          <p:spPr>
            <a:xfrm flipV="1">
              <a:off x="9452880" y="1434960"/>
              <a:ext cx="7884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Группа 17"/>
          <p:cNvGrpSpPr/>
          <p:nvPr/>
        </p:nvGrpSpPr>
        <p:grpSpPr>
          <a:xfrm>
            <a:off x="9015480" y="1473120"/>
            <a:ext cx="140040" cy="131760"/>
            <a:chOff x="9015480" y="1473120"/>
            <a:chExt cx="140040" cy="131760"/>
          </a:xfrm>
        </p:grpSpPr>
        <p:sp>
          <p:nvSpPr>
            <p:cNvPr id="324" name="Прямая соединительная линия 18"/>
            <p:cNvSpPr/>
            <p:nvPr/>
          </p:nvSpPr>
          <p:spPr>
            <a:xfrm>
              <a:off x="9076680" y="1473120"/>
              <a:ext cx="7884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Прямая соединительная линия 19"/>
            <p:cNvSpPr/>
            <p:nvPr/>
          </p:nvSpPr>
          <p:spPr>
            <a:xfrm>
              <a:off x="9015480" y="1538640"/>
              <a:ext cx="112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Прямая соединительная линия 20"/>
            <p:cNvSpPr/>
            <p:nvPr/>
          </p:nvSpPr>
          <p:spPr>
            <a:xfrm flipV="1">
              <a:off x="9076680" y="1537920"/>
              <a:ext cx="7884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90360" y="178452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463680" indent="-385920">
              <a:spcBef>
                <a:spcPts val="788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1" marL="835200" indent="-322560">
              <a:spcBef>
                <a:spcPts val="788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2" marL="1123920" indent="-257040">
              <a:spcBef>
                <a:spcPts val="788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3" marL="1422360" indent="-257040">
              <a:spcBef>
                <a:spcPts val="788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4" marL="1670040" indent="-236520">
              <a:spcBef>
                <a:spcPts val="788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5" marL="1670040" indent="-236520">
              <a:spcBef>
                <a:spcPts val="788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6" marL="1670040" indent="-236520">
              <a:spcBef>
                <a:spcPts val="788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7016400" y="55080"/>
            <a:ext cx="2311560" cy="365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b">
            <a:noAutofit/>
          </a:bodyPr>
          <a:lstStyle>
            <a:lvl1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  <a:defRPr b="0" lang="ru-RU" sz="12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90360" y="55080"/>
            <a:ext cx="6026040" cy="365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b">
            <a:noAutofit/>
          </a:bodyPr>
          <a:p>
            <a: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9327960" y="55080"/>
            <a:ext cx="495000" cy="365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b">
            <a:noAutofit/>
          </a:bodyPr>
          <a:lstStyle>
            <a:lvl1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  <a:defRPr b="0" lang="ru-RU" sz="1400" spc="-1" strike="noStrike">
                <a:solidFill>
                  <a:srgbClr val="f4e7ed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fld id="{1CA98C2A-07C9-400B-9513-490D18B83263}" type="slidenum">
              <a:rPr b="0" lang="ru-RU" sz="1400" spc="-1" strike="noStrike">
                <a:solidFill>
                  <a:srgbClr val="f4e7ed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ae0ec"/>
                </a:solidFill>
                <a:latin typeface="Consolas"/>
              </a:rPr>
              <a:t>Девиз урока:</a:t>
            </a: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90360" y="178452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463680" indent="-385920" algn="just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rbel"/>
              </a:rPr>
              <a:t>«Каждый старается в меру своих способностей» М.Монтело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Рисунок 3" descr="girlgraduating_waving_sw.gif"/>
          <p:cNvPicPr/>
          <p:nvPr/>
        </p:nvPicPr>
        <p:blipFill>
          <a:blip r:embed="rId1"/>
          <a:stretch/>
        </p:blipFill>
        <p:spPr>
          <a:xfrm>
            <a:off x="6423120" y="3600360"/>
            <a:ext cx="209556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ae0ec"/>
                </a:solidFill>
                <a:latin typeface="Consolas"/>
              </a:rPr>
              <a:t>Восприятие здорового человека</a:t>
            </a:r>
            <a:endParaRPr b="0" lang="en-US" sz="27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90360" y="178452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463680" indent="-38592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orbel"/>
              </a:rPr>
              <a:t>Иллюзия(Ошибки)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463680" indent="-38592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463680" indent="-38592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463680" indent="-38592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463680" indent="-38592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463680" indent="-38592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463680" indent="-38592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Галлюцинация – образы, которых  нет на самом деле ( при заболеваниях)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63680" indent="-38592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Иллюзия  - ошибочное, кажущееся изображение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Овал 3"/>
          <p:cNvSpPr/>
          <p:nvPr/>
        </p:nvSpPr>
        <p:spPr>
          <a:xfrm>
            <a:off x="4255920" y="3571920"/>
            <a:ext cx="2013120" cy="1071360"/>
          </a:xfrm>
          <a:prstGeom prst="ellipse">
            <a:avLst/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Образы достоверны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cxnSp>
        <p:nvCxnSpPr>
          <p:cNvPr id="410" name="Прямая со стрелкой 5"/>
          <p:cNvCxnSpPr/>
          <p:nvPr/>
        </p:nvCxnSpPr>
        <p:spPr>
          <a:xfrm>
            <a:off x="3636000" y="2286000"/>
            <a:ext cx="929160" cy="1572480"/>
          </a:xfrm>
          <a:prstGeom prst="straightConnector1">
            <a:avLst/>
          </a:prstGeom>
          <a:ln w="1188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411" name="Овал 6"/>
          <p:cNvSpPr/>
          <p:nvPr/>
        </p:nvSpPr>
        <p:spPr>
          <a:xfrm>
            <a:off x="6810480" y="2571840"/>
            <a:ext cx="2476440" cy="914400"/>
          </a:xfrm>
          <a:prstGeom prst="ellipse">
            <a:avLst/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Галлюцинации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Прямая соединительная линия 8"/>
          <p:cNvSpPr/>
          <p:nvPr/>
        </p:nvSpPr>
        <p:spPr>
          <a:xfrm>
            <a:off x="5108400" y="4286160"/>
            <a:ext cx="76320" cy="0"/>
          </a:xfrm>
          <a:prstGeom prst="line">
            <a:avLst/>
          </a:prstGeom>
          <a:ln w="118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Прямая соединительная линия 10"/>
          <p:cNvSpPr/>
          <p:nvPr/>
        </p:nvSpPr>
        <p:spPr>
          <a:xfrm>
            <a:off x="5184720" y="4286160"/>
            <a:ext cx="789120" cy="200160"/>
          </a:xfrm>
          <a:prstGeom prst="line">
            <a:avLst/>
          </a:prstGeom>
          <a:ln w="118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ae0ec"/>
                </a:solidFill>
                <a:latin typeface="Consolas"/>
              </a:rPr>
              <a:t>Иллюзия</a:t>
            </a:r>
            <a:endParaRPr b="0" lang="en-US" sz="41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990360" y="178452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463680" indent="-385920" algn="ctr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b23b7e"/>
                </a:solidFill>
                <a:latin typeface="Corbel"/>
              </a:rPr>
              <a:t>Причины иллюзии: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463680" indent="-385920" algn="ctr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orbel"/>
              </a:rPr>
              <a:t>1.Практический опыт человека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463680" indent="-385920" algn="ctr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orbel"/>
              </a:rPr>
              <a:t>2.Особенности анализаторов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463680" indent="-385920" algn="ctr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orbel"/>
              </a:rPr>
              <a:t>3.Изменение условий восприятия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463680" indent="-385920" algn="ctr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orbel"/>
              </a:rPr>
              <a:t>4.Дефекты органов чувств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463680" indent="-385920" algn="ctr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b23b7e"/>
                </a:solidFill>
                <a:latin typeface="Corbel"/>
              </a:rPr>
              <a:t>Виды иллюзии: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463680" indent="-385920" algn="ctr">
              <a:lnSpc>
                <a:spcPct val="90000"/>
              </a:lnSpc>
              <a:spcBef>
                <a:spcPts val="788"/>
              </a:spcBef>
              <a:buClr>
                <a:srgbClr val="f4e7ed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orbel"/>
              </a:rPr>
              <a:t>Зрительная иллюзия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463680" indent="-385920" algn="ctr">
              <a:lnSpc>
                <a:spcPct val="90000"/>
              </a:lnSpc>
              <a:spcBef>
                <a:spcPts val="788"/>
              </a:spcBef>
              <a:buClr>
                <a:srgbClr val="f4e7ed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Corbel"/>
              </a:rPr>
              <a:t>Связанная с перспективой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463680" indent="-385920" algn="ctr">
              <a:lnSpc>
                <a:spcPct val="90000"/>
              </a:lnSpc>
              <a:spcBef>
                <a:spcPts val="788"/>
              </a:spcBef>
              <a:buClr>
                <a:srgbClr val="f4e7ed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Corbel"/>
              </a:rPr>
              <a:t>Связанные с явлением контраста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6" name="Picture 2" descr="F:\вика\анализаторы\Scan0001.tif"/>
          <p:cNvPicPr/>
          <p:nvPr/>
        </p:nvPicPr>
        <p:blipFill>
          <a:blip r:embed="rId1"/>
          <a:stretch/>
        </p:blipFill>
        <p:spPr>
          <a:xfrm>
            <a:off x="851040" y="5400720"/>
            <a:ext cx="1625400" cy="11793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F:\вика\анализаторы\стрелки.tif"/>
          <p:cNvPicPr/>
          <p:nvPr/>
        </p:nvPicPr>
        <p:blipFill>
          <a:blip r:embed="rId2"/>
          <a:stretch/>
        </p:blipFill>
        <p:spPr>
          <a:xfrm>
            <a:off x="8204040" y="4371840"/>
            <a:ext cx="1314720" cy="857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F:\вика\анализаторы\Scan0003.tif"/>
          <p:cNvPicPr/>
          <p:nvPr/>
        </p:nvPicPr>
        <p:blipFill>
          <a:blip r:embed="rId3"/>
          <a:stretch/>
        </p:blipFill>
        <p:spPr>
          <a:xfrm>
            <a:off x="7894800" y="5400720"/>
            <a:ext cx="188244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ae0ec"/>
                </a:solidFill>
                <a:latin typeface="Consolas"/>
              </a:rPr>
              <a:t>Иллюзия</a:t>
            </a: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pic>
        <p:nvPicPr>
          <p:cNvPr id="420" name="Picture 4" descr="F:\вика\ИЛЛЮЗИЯ\flowers.jpg"/>
          <p:cNvPicPr/>
          <p:nvPr/>
        </p:nvPicPr>
        <p:blipFill>
          <a:blip r:embed="rId1"/>
          <a:stretch/>
        </p:blipFill>
        <p:spPr>
          <a:xfrm>
            <a:off x="4797360" y="1928880"/>
            <a:ext cx="2632320" cy="45003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F:\вика\ИЛЛЮЗИЯ\napoleon.jpg"/>
          <p:cNvPicPr/>
          <p:nvPr/>
        </p:nvPicPr>
        <p:blipFill>
          <a:blip r:embed="rId2"/>
          <a:stretch/>
        </p:blipFill>
        <p:spPr>
          <a:xfrm>
            <a:off x="7429680" y="1928880"/>
            <a:ext cx="2322360" cy="45003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F:\вика\ИЛЛЮЗИЯ\similar.jpg"/>
          <p:cNvPicPr/>
          <p:nvPr/>
        </p:nvPicPr>
        <p:blipFill>
          <a:blip r:embed="rId3"/>
          <a:stretch/>
        </p:blipFill>
        <p:spPr>
          <a:xfrm>
            <a:off x="463680" y="1928880"/>
            <a:ext cx="42577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512280"/>
            <a:ext cx="8420040" cy="5830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ae0ec"/>
                </a:solidFill>
                <a:latin typeface="Consolas"/>
              </a:rPr>
              <a:t>Великий немецкий композитор Людвиг Ван Бетховен, когда стал терять слух, нашел оригинальный способ слушать музыку. Он брал в зубы деревянные палочки, затем плотно прижимал их к деке рояля и слушал звуки. Объясните, почему композитор слышал музыку.</a:t>
            </a:r>
            <a:endParaRPr b="0" lang="en-US" sz="2300" spc="-1" strike="noStrike">
              <a:solidFill>
                <a:srgbClr val="fae0ec"/>
              </a:solidFill>
              <a:latin typeface="Consolas"/>
            </a:endParaRPr>
          </a:p>
        </p:txBody>
      </p:sp>
      <p:pic>
        <p:nvPicPr>
          <p:cNvPr id="424" name="Picture 2" descr="C:\Documents and Settings\Admin\Рабочий стол\b_029i.bmp"/>
          <p:cNvPicPr/>
          <p:nvPr/>
        </p:nvPicPr>
        <p:blipFill>
          <a:blip r:embed="rId1"/>
          <a:stretch/>
        </p:blipFill>
        <p:spPr>
          <a:xfrm>
            <a:off x="3637080" y="2246400"/>
            <a:ext cx="227628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512280"/>
            <a:ext cx="8420040" cy="5488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800" spc="-1" strike="noStrike">
                <a:solidFill>
                  <a:srgbClr val="fae0ec"/>
                </a:solidFill>
                <a:latin typeface="Consolas"/>
              </a:rPr>
              <a:t>«В них энергия внешнего мира перерабатывается в нервный процесс» И.П.Павлов. </a:t>
            </a:r>
            <a:br>
              <a:rPr sz="6800"/>
            </a:br>
            <a:endParaRPr b="0" lang="en-US" sz="6800" spc="-1" strike="noStrike">
              <a:solidFill>
                <a:srgbClr val="fae0ec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ae0ec"/>
                </a:solidFill>
                <a:latin typeface="Consolas"/>
              </a:rPr>
              <a:t>Фронтальный опрос:</a:t>
            </a: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990360" y="178452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 fontScale="92000"/>
          </a:bodyPr>
          <a:p>
            <a:pPr marL="426240" indent="-35496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1.Объясните высказывание И.М.Павлова: «Мозг – самое совершенное и сложное из созданий земной природы»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26240" indent="-35496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2.Объясните , почему в процессе эволюции произошло разделение функций НС на соматическую и автономную?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26240" indent="-35496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3.Проанализируйте данные о нервной системе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26240" indent="-354960">
              <a:spcBef>
                <a:spcPts val="788"/>
              </a:spcBef>
              <a:buClr>
                <a:srgbClr val="f4e7ed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Количество крови, протекающей через 100г массы головного мозга человека, составляет 136 см в 1мм, желудка – 21 см в 1мм, скелетных мышц 12-17см в 1мм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26240" indent="-354960">
              <a:spcBef>
                <a:spcPts val="788"/>
              </a:spcBef>
              <a:buClr>
                <a:srgbClr val="f4e7ed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Вода составляет 84% массы головного мозга человека и 65% массы всего тела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26240" indent="-354960">
              <a:spcBef>
                <a:spcPts val="788"/>
              </a:spcBef>
              <a:buClr>
                <a:srgbClr val="f4e7ed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Мозг потребляет кислорода в 15-20 раз больше, чем мышцы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990360" y="1784520"/>
            <a:ext cx="8420040" cy="457200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4" descr="глаз.gif"/>
          <p:cNvPicPr/>
          <p:nvPr/>
        </p:nvPicPr>
        <p:blipFill>
          <a:blip r:embed="rId2"/>
          <a:stretch/>
        </p:blipFill>
        <p:spPr>
          <a:xfrm>
            <a:off x="4514760" y="3114720"/>
            <a:ext cx="876240" cy="62856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5" descr="41.bmp"/>
          <p:cNvPicPr/>
          <p:nvPr/>
        </p:nvPicPr>
        <p:blipFill>
          <a:blip r:embed="rId3"/>
          <a:stretch/>
        </p:blipFill>
        <p:spPr>
          <a:xfrm>
            <a:off x="1469880" y="3071880"/>
            <a:ext cx="1470240" cy="100008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6" descr="смайлик.gif"/>
          <p:cNvPicPr/>
          <p:nvPr/>
        </p:nvPicPr>
        <p:blipFill>
          <a:blip r:embed="rId4"/>
          <a:stretch/>
        </p:blipFill>
        <p:spPr>
          <a:xfrm>
            <a:off x="6656400" y="2857680"/>
            <a:ext cx="2243160" cy="1190520"/>
          </a:xfrm>
          <a:prstGeom prst="rect">
            <a:avLst/>
          </a:prstGeom>
          <a:ln w="0">
            <a:noFill/>
          </a:ln>
        </p:spPr>
      </p:pic>
      <p:sp>
        <p:nvSpPr>
          <p:cNvPr id="378" name="Овал 7"/>
          <p:cNvSpPr/>
          <p:nvPr/>
        </p:nvSpPr>
        <p:spPr>
          <a:xfrm>
            <a:off x="2320920" y="785880"/>
            <a:ext cx="6269040" cy="928800"/>
          </a:xfrm>
          <a:prstGeom prst="ellipse">
            <a:avLst/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Corbel"/>
              </a:rPr>
              <a:t>Анализаторы</a:t>
            </a:r>
            <a:endParaRPr b="0" lang="en-US" sz="4100" spc="-1" strike="noStrike">
              <a:solidFill>
                <a:srgbClr val="ffffff"/>
              </a:solidFill>
              <a:latin typeface="Corbel"/>
            </a:endParaRPr>
          </a:p>
        </p:txBody>
      </p:sp>
      <p:cxnSp>
        <p:nvCxnSpPr>
          <p:cNvPr id="379" name="Прямая со стрелкой 9"/>
          <p:cNvCxnSpPr/>
          <p:nvPr/>
        </p:nvCxnSpPr>
        <p:spPr>
          <a:xfrm flipH="1">
            <a:off x="2476080" y="1785960"/>
            <a:ext cx="1007280" cy="1000800"/>
          </a:xfrm>
          <a:prstGeom prst="straightConnector1">
            <a:avLst/>
          </a:prstGeom>
          <a:ln w="1188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80" name="Прямая со стрелкой 11"/>
          <p:cNvCxnSpPr/>
          <p:nvPr/>
        </p:nvCxnSpPr>
        <p:spPr>
          <a:xfrm flipH="1">
            <a:off x="5108400" y="2000160"/>
            <a:ext cx="76680" cy="1000800"/>
          </a:xfrm>
          <a:prstGeom prst="straightConnector1">
            <a:avLst/>
          </a:prstGeom>
          <a:ln w="1188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81" name="Прямая со стрелкой 13"/>
          <p:cNvCxnSpPr/>
          <p:nvPr/>
        </p:nvCxnSpPr>
        <p:spPr>
          <a:xfrm>
            <a:off x="7042320" y="1857240"/>
            <a:ext cx="853200" cy="858240"/>
          </a:xfrm>
          <a:prstGeom prst="straightConnector1">
            <a:avLst/>
          </a:prstGeom>
          <a:ln w="1188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82" name="Прямая со стрелкой 15"/>
          <p:cNvCxnSpPr/>
          <p:nvPr/>
        </p:nvCxnSpPr>
        <p:spPr>
          <a:xfrm flipH="1">
            <a:off x="3558960" y="1928880"/>
            <a:ext cx="853200" cy="2715120"/>
          </a:xfrm>
          <a:prstGeom prst="straightConnector1">
            <a:avLst/>
          </a:prstGeom>
          <a:ln w="1188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83" name="Прямая со стрелкой 17"/>
          <p:cNvCxnSpPr/>
          <p:nvPr/>
        </p:nvCxnSpPr>
        <p:spPr>
          <a:xfrm>
            <a:off x="5959440" y="2071440"/>
            <a:ext cx="464400" cy="2215080"/>
          </a:xfrm>
          <a:prstGeom prst="straightConnector1">
            <a:avLst/>
          </a:prstGeom>
          <a:ln w="11880">
            <a:solidFill>
              <a:srgbClr val="b83d68"/>
            </a:solidFill>
            <a:miter/>
            <a:tailEnd len="med" type="arrow" w="med"/>
          </a:ln>
        </p:spPr>
      </p:cxnSp>
      <p:pic>
        <p:nvPicPr>
          <p:cNvPr id="384" name="Picture 2" descr="C:\Documents and Settings\СВН\Рабочий стол\сканирование0001.jpg"/>
          <p:cNvPicPr/>
          <p:nvPr/>
        </p:nvPicPr>
        <p:blipFill>
          <a:blip r:embed="rId5"/>
          <a:stretch/>
        </p:blipFill>
        <p:spPr>
          <a:xfrm>
            <a:off x="2940120" y="4929120"/>
            <a:ext cx="852480" cy="1116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C:\Documents and Settings\СВН\Рабочий стол\сканирование0001.jpg"/>
          <p:cNvPicPr/>
          <p:nvPr/>
        </p:nvPicPr>
        <p:blipFill>
          <a:blip r:embed="rId6"/>
          <a:stretch/>
        </p:blipFill>
        <p:spPr>
          <a:xfrm>
            <a:off x="6195960" y="4568760"/>
            <a:ext cx="909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fae0ec"/>
                </a:solidFill>
                <a:latin typeface="Consolas"/>
              </a:rPr>
              <a:t>Задачи урока:</a:t>
            </a:r>
            <a:endParaRPr b="0" lang="en-US" sz="61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90360" y="178452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 fontScale="97000"/>
          </a:bodyPr>
          <a:p>
            <a:pPr marL="637560" indent="-561960">
              <a:spcBef>
                <a:spcPts val="788"/>
              </a:spcBef>
              <a:buClr>
                <a:srgbClr val="f4e7ed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rbel"/>
              </a:rPr>
              <a:t>Знать содержание понятия анализатор;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637560" indent="-561960">
              <a:spcBef>
                <a:spcPts val="788"/>
              </a:spcBef>
              <a:buClr>
                <a:srgbClr val="f4e7ed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rbel"/>
              </a:rPr>
              <a:t>Сформировать знание о функциях и строении анализаторов и их видах, о специфичности анализаторов;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637560" indent="-561960">
              <a:spcBef>
                <a:spcPts val="788"/>
              </a:spcBef>
              <a:buClr>
                <a:srgbClr val="f4e7ed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rbel"/>
              </a:rPr>
              <a:t>Значении их частей в восприятии и анализе раздражений;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637560" indent="-561960">
              <a:spcBef>
                <a:spcPts val="788"/>
              </a:spcBef>
              <a:buClr>
                <a:srgbClr val="f4e7ed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rbel"/>
              </a:rPr>
              <a:t>Роль ощущений и восприятий в жизни человека, в познании окружающего мира.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637560" indent="-561960">
              <a:spcBef>
                <a:spcPts val="788"/>
              </a:spcBef>
              <a:buClr>
                <a:srgbClr val="f4e7ed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28440" y="500040"/>
            <a:ext cx="8420040" cy="5773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e0ec"/>
                </a:solidFill>
                <a:latin typeface="Consolas"/>
              </a:rPr>
              <a:t>Анализатор -  от латинского «</a:t>
            </a:r>
            <a:r>
              <a:rPr b="0" lang="en-US" sz="3200" spc="-1" strike="noStrike">
                <a:solidFill>
                  <a:srgbClr val="fae0ec"/>
                </a:solidFill>
                <a:latin typeface="Consolas"/>
              </a:rPr>
              <a:t>sensus</a:t>
            </a:r>
            <a:r>
              <a:rPr b="0" lang="ru-RU" sz="3200" spc="-1" strike="noStrike">
                <a:solidFill>
                  <a:srgbClr val="fae0ec"/>
                </a:solidFill>
                <a:latin typeface="Consolas"/>
              </a:rPr>
              <a:t>» – чувство, ощущение. Учение об анализаторах, или сенсорных системах создал Иван Петрович Павлов в 1909году.</a:t>
            </a:r>
            <a:br>
              <a:rPr sz="3200"/>
            </a:br>
            <a:endParaRPr b="0" lang="en-US" sz="3200" spc="-1" strike="noStrike">
              <a:solidFill>
                <a:srgbClr val="fae0ec"/>
              </a:solidFill>
              <a:latin typeface="Consolas"/>
            </a:endParaRPr>
          </a:p>
        </p:txBody>
      </p:sp>
      <p:pic>
        <p:nvPicPr>
          <p:cNvPr id="389" name="Picture 2" descr="C:\Documents and Settings\СВН\Рабочий стол\сканирование0001.jpg"/>
          <p:cNvPicPr/>
          <p:nvPr/>
        </p:nvPicPr>
        <p:blipFill>
          <a:blip r:embed="rId1"/>
          <a:stretch/>
        </p:blipFill>
        <p:spPr>
          <a:xfrm>
            <a:off x="3483000" y="2786040"/>
            <a:ext cx="23432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360" y="512280"/>
            <a:ext cx="8420040" cy="5559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ae0ec"/>
                </a:solidFill>
                <a:latin typeface="Consolas"/>
              </a:rPr>
              <a:t>Схема понятия «анализатор»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fae0ec"/>
                </a:solidFill>
                <a:latin typeface="Consolas"/>
              </a:rPr>
              <a:t>   </a:t>
            </a:r>
            <a:br>
              <a:rPr sz="2700"/>
            </a:br>
            <a:r>
              <a:rPr b="0" lang="ru-RU" sz="2700" spc="-1" strike="noStrike">
                <a:solidFill>
                  <a:srgbClr val="fae0ec"/>
                </a:solidFill>
                <a:latin typeface="Consolas"/>
              </a:rPr>
              <a:t>   </a:t>
            </a:r>
            <a:r>
              <a:rPr b="0" lang="ru-RU" sz="1400" spc="-1" strike="noStrike">
                <a:solidFill>
                  <a:srgbClr val="fae0ec"/>
                </a:solidFill>
                <a:latin typeface="Consolas"/>
              </a:rPr>
              <a:t>                    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ae0ec"/>
                </a:solidFill>
                <a:latin typeface="Consolas"/>
              </a:rPr>
              <a:t>Как вы думаете, почему И.П.Павлов назвал рецепторы своеобразными щупальцами мозга?</a:t>
            </a:r>
            <a:endParaRPr b="0" lang="en-US" sz="14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91" name="Прямоугольник 2"/>
          <p:cNvSpPr/>
          <p:nvPr/>
        </p:nvSpPr>
        <p:spPr>
          <a:xfrm>
            <a:off x="1547640" y="2228760"/>
            <a:ext cx="541440" cy="2143080"/>
          </a:xfrm>
          <a:prstGeom prst="rect">
            <a:avLst/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just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раздражител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Овал 3"/>
          <p:cNvSpPr/>
          <p:nvPr/>
        </p:nvSpPr>
        <p:spPr>
          <a:xfrm>
            <a:off x="4643280" y="2571840"/>
            <a:ext cx="1006560" cy="1285920"/>
          </a:xfrm>
          <a:prstGeom prst="ellipse">
            <a:avLst/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Орган чувств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(рецеп-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торы)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Прямоугольник 4"/>
          <p:cNvSpPr/>
          <p:nvPr/>
        </p:nvSpPr>
        <p:spPr>
          <a:xfrm>
            <a:off x="7661160" y="2714760"/>
            <a:ext cx="990720" cy="914400"/>
          </a:xfrm>
          <a:prstGeom prst="rect">
            <a:avLst/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just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Центр в коре головного мозга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Прямая соединительная линия 6"/>
          <p:cNvSpPr/>
          <p:nvPr/>
        </p:nvSpPr>
        <p:spPr>
          <a:xfrm>
            <a:off x="2089080" y="2357280"/>
            <a:ext cx="2554200" cy="857520"/>
          </a:xfrm>
          <a:prstGeom prst="line">
            <a:avLst/>
          </a:prstGeom>
          <a:ln w="118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Прямая соединительная линия 8"/>
          <p:cNvSpPr/>
          <p:nvPr/>
        </p:nvSpPr>
        <p:spPr>
          <a:xfrm flipV="1">
            <a:off x="2089080" y="3214440"/>
            <a:ext cx="2554200" cy="1214280"/>
          </a:xfrm>
          <a:prstGeom prst="line">
            <a:avLst/>
          </a:prstGeom>
          <a:ln w="118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Прямая соединительная линия 10"/>
          <p:cNvSpPr/>
          <p:nvPr/>
        </p:nvSpPr>
        <p:spPr>
          <a:xfrm flipV="1">
            <a:off x="5649840" y="3171600"/>
            <a:ext cx="2011320" cy="42840"/>
          </a:xfrm>
          <a:prstGeom prst="line">
            <a:avLst/>
          </a:prstGeom>
          <a:ln w="118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ae0ec"/>
                </a:solidFill>
                <a:latin typeface="Consolas"/>
              </a:rPr>
              <a:t>Органы чувств</a:t>
            </a:r>
            <a:endParaRPr b="0" lang="en-US" sz="4500" spc="-1" strike="noStrike">
              <a:solidFill>
                <a:srgbClr val="fae0ec"/>
              </a:solidFill>
              <a:latin typeface="Consolas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006560" y="1800360"/>
          <a:ext cx="8404200" cy="4344840"/>
        </p:xfrm>
        <a:graphic>
          <a:graphicData uri="http://schemas.openxmlformats.org/drawingml/2006/table">
            <a:tbl>
              <a:tblPr/>
              <a:tblGrid>
                <a:gridCol w="2800440"/>
                <a:gridCol w="2801880"/>
                <a:gridCol w="2801880"/>
              </a:tblGrid>
              <a:tr h="307080"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чув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9000" marR="9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рг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9000" marR="9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что воспринима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9000" marR="9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29120"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р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9000" marR="9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лаз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9000" marR="9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ветовые волн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9000" marR="9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434600"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лу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9000" marR="9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уш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9000" marR="9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лебания воздуха и жидкости внутреннего ух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9000" marR="9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29120"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ку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9000" marR="9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зы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9000" marR="9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олекулы пищ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9000" marR="9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29120"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боня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9000" marR="9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ос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9000" marR="9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па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9000" marR="9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434600"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сяз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9000" marR="9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ж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9000" marR="9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Шероховатость поверхности, давление, температур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9000" marR="9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50680" y="514440"/>
            <a:ext cx="8420040" cy="1116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ae0ec"/>
                </a:solidFill>
                <a:latin typeface="Consolas"/>
              </a:rPr>
              <a:t>Обонятельная зона коры височной доли головного мозга; зрительная зона коры затылочной доли головного мозга; осязательная зона коры теменной доли головного мозга; слуховая зона коры височной доли головного мозга; вкусовая зона коры височной доли головного мозга</a:t>
            </a:r>
            <a:endParaRPr b="0" lang="en-US" sz="2000" spc="-1" strike="noStrike">
              <a:solidFill>
                <a:srgbClr val="fae0ec"/>
              </a:solidFill>
              <a:latin typeface="Consolas"/>
            </a:endParaRPr>
          </a:p>
        </p:txBody>
      </p:sp>
      <p:pic>
        <p:nvPicPr>
          <p:cNvPr id="400" name="Picture 9" descr="U09_06"/>
          <p:cNvPicPr/>
          <p:nvPr/>
        </p:nvPicPr>
        <p:blipFill>
          <a:blip r:embed="rId1"/>
          <a:stretch/>
        </p:blipFill>
        <p:spPr>
          <a:xfrm>
            <a:off x="3946680" y="1971720"/>
            <a:ext cx="2941560" cy="22287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U12_02"/>
          <p:cNvPicPr/>
          <p:nvPr/>
        </p:nvPicPr>
        <p:blipFill>
          <a:blip r:embed="rId2"/>
          <a:srcRect l="0" t="12598" r="0" b="0"/>
          <a:stretch/>
        </p:blipFill>
        <p:spPr>
          <a:xfrm>
            <a:off x="2320920" y="4286160"/>
            <a:ext cx="2941560" cy="2143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0" descr="U13_08"/>
          <p:cNvPicPr/>
          <p:nvPr/>
        </p:nvPicPr>
        <p:blipFill>
          <a:blip r:embed="rId3"/>
          <a:stretch/>
        </p:blipFill>
        <p:spPr>
          <a:xfrm>
            <a:off x="5494320" y="4371840"/>
            <a:ext cx="3328920" cy="1971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GBI_2B13_00A"/>
          <p:cNvPicPr/>
          <p:nvPr/>
        </p:nvPicPr>
        <p:blipFill>
          <a:blip r:embed="rId4"/>
          <a:stretch/>
        </p:blipFill>
        <p:spPr>
          <a:xfrm>
            <a:off x="541440" y="1971720"/>
            <a:ext cx="2089080" cy="2143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j0284916"/>
          <p:cNvPicPr/>
          <p:nvPr/>
        </p:nvPicPr>
        <p:blipFill>
          <a:blip r:embed="rId5"/>
          <a:stretch/>
        </p:blipFill>
        <p:spPr>
          <a:xfrm>
            <a:off x="7816680" y="1886040"/>
            <a:ext cx="1935360" cy="23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1701720" y="1371600"/>
            <a:ext cx="6656400" cy="50832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360" y="51264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ae0ec"/>
                </a:solidFill>
                <a:latin typeface="Consolas"/>
              </a:rPr>
              <a:t>Значение органов чувств</a:t>
            </a:r>
            <a:endParaRPr b="0" lang="en-US" sz="2700" spc="-1" strike="noStrike">
              <a:solidFill>
                <a:srgbClr val="fae0ec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3:11:10Z</dcterms:created>
  <dc:creator>СВН</dc:creator>
  <dc:description/>
  <dc:language>en-US</dc:language>
  <cp:lastModifiedBy>Virtual PC</cp:lastModifiedBy>
  <dcterms:modified xsi:type="dcterms:W3CDTF">2011-03-20T15:14:45Z</dcterms:modified>
  <cp:revision>41</cp:revision>
  <dc:subject/>
  <dc:title>Слайд 1</dc:title>
</cp:coreProperties>
</file>