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F9FD-44E7-4456-BB96-410E53984B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D6E1-9166-446A-85A5-A58A25172E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3C9-2A0A-4563-9AB9-0E4795B0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268-E0D6-4392-A7D0-C26ACAFD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689-2B52-45B6-97D5-0099B640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79B-AA4F-4961-B9A4-B11BA8C8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5670-F941-4972-9424-9638EBA8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D245-496F-4967-A87F-ECC3E3CF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4EA9-08B9-43BC-85E5-E7BA010E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CCF6-CAE3-43CE-A5F3-A00E18E0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BDDF-6193-4ADA-938D-86AF153A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D048-3087-4037-A75C-A10F9E35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F1F6-E5D5-4E64-AE0C-754E0C04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14AC-ACC3-413F-AD5C-CBDCC315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4B83-9AED-481F-A4D2-1BC5D36B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F582-68D5-4ACE-A2CB-69EA720F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8923-0BAF-46E3-A984-740173F2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77EF-341C-462F-8CDF-BFB16D56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6507-311E-4B39-BE79-D8BC1A0C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45836-4C68-4FE9-8AD9-E78BF989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DAC3-4773-42E5-B529-76AFEFE1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79383-C0FB-48F1-A37C-4C9653CE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9C144-17FB-4E98-85B8-5613FFAE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374E4-0FE9-4E17-ACBB-9C1BBA20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5BE-7593-4C2B-82A2-D5260F02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715C1-252B-40DA-8F91-7E2ECDC5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011D-3793-4D2E-8920-3B0A4123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901A9-781F-433E-98AF-76628FB1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69E1F-3580-4D87-97EE-EC9B4E8B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F1D75-160A-4C56-8EB1-F3FC4D98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FA51E-8AF9-4B3F-B85C-CBB37C53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5925-B801-45ED-9A3F-A0EF6949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F9590-B427-4C43-88F2-A435D6BF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1A553-92AA-4BF5-8D52-9E6E34C9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DC5A1-039C-4F38-A8C5-E786FDB7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C9B-46BA-45EB-8DDE-B6A648C3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E17B-6240-4546-B8E2-0E1CC31A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14549-F55D-4CAB-AF9E-0C75ADC2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3D0E5-AB2E-4FEF-BBA9-4F43C866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39B8C-36E8-4F8C-A359-679C5742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BEA99-211A-4AE7-AAEA-EC945063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D9537-3A90-449A-938E-F2AC38B5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5EDB2-EB73-4B10-A06D-A8FE7AAB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7AEBC-9F91-4C7D-A021-9B335984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452D9-E851-43E7-9F2B-3F6BC94F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49D-60F9-40AE-96FF-300995AC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585-C2D1-4C31-864F-8B364BCC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4EE-1CAE-470D-BA7C-8DC6C1A9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5EE-4118-42EB-B34E-3BFC1328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1B2-ED9B-47E4-9254-210D5286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4925-7A94-4CA0-A939-8DCF206FA143}" type="datetime">
              <a:rPr b="1" lang="ru-RU" sz="1100" spc="-1" strike="noStrike">
                <a:solidFill>
                  <a:srgbClr val="7f7f7f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0171-C179-4C1A-8BE2-D7229ADD3134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" name="Picture 2" descr="D:\ПРОСВЕЩЕНИЕ\Картинки в пособиях\Логотипы_для_презентаций\Лого_Просвещение\Логтип из-ва.jpg"/>
          <p:cNvPicPr/>
          <p:nvPr/>
        </p:nvPicPr>
        <p:blipFill>
          <a:blip r:embed="rId6"/>
          <a:stretch/>
        </p:blipFill>
        <p:spPr>
          <a:xfrm>
            <a:off x="52560" y="6200640"/>
            <a:ext cx="1495080" cy="61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3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6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0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EA33-9BBD-4A3D-B5DE-383525943413}" type="datetime">
              <a:rPr b="1" lang="ru-RU" sz="1100" spc="-1" strike="noStrike">
                <a:solidFill>
                  <a:srgbClr val="7f7f7f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D175-A201-482E-A486-6EB5112E9DB8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3" name="Picture 2" descr="D:\ПРОСВЕЩЕНИЕ\Картинки в пособиях\Логотипы_для_презентаций\Лого_Просвещение\Логтип из-ва.jpg"/>
          <p:cNvPicPr/>
          <p:nvPr/>
        </p:nvPicPr>
        <p:blipFill>
          <a:blip r:embed="rId6"/>
          <a:stretch/>
        </p:blipFill>
        <p:spPr>
          <a:xfrm>
            <a:off x="52560" y="6200640"/>
            <a:ext cx="1495080" cy="613080"/>
          </a:xfrm>
          <a:prstGeom prst="rect">
            <a:avLst/>
          </a:prstGeom>
          <a:ln w="0">
            <a:noFill/>
          </a:ln>
        </p:spPr>
      </p:pic>
      <p:grpSp>
        <p:nvGrpSpPr>
          <p:cNvPr id="114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5" name="Rectangle 6" descr=""/>
            <p:cNvPicPr/>
            <p:nvPr/>
          </p:nvPicPr>
          <p:blipFill>
            <a:blip r:embed="rId7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8" name="Rectangle 7" descr="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2" name="Oval 9" descr=""/>
            <p:cNvPicPr/>
            <p:nvPr/>
          </p:nvPicPr>
          <p:blipFill>
            <a:blip r:embed="rId9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8499-AA7F-4E84-9C68-1E1E8FFEF317}" type="datetime">
              <a:rPr b="1" lang="ru-RU" sz="1100" spc="-1" strike="noStrike">
                <a:solidFill>
                  <a:srgbClr val="7f7f7f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64E1-1550-454B-BFF1-8A0593A1159D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9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3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ADAC-FAD2-406D-9AF5-7DD7F9786084}" type="datetime">
              <a:rPr b="1" lang="ru-RU" sz="1100" spc="-1" strike="noStrike">
                <a:solidFill>
                  <a:srgbClr val="7f7f7f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ADAC-5694-417D-BEB9-2DE89DC24457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4"/>
          <p:cNvSpPr/>
          <p:nvPr/>
        </p:nvSpPr>
        <p:spPr>
          <a:xfrm>
            <a:off x="250920" y="333360"/>
            <a:ext cx="8642160" cy="6048360"/>
          </a:xfrm>
          <a:prstGeom prst="rect">
            <a:avLst/>
          </a:prstGeom>
          <a:noFill/>
          <a:ln w="76320">
            <a:solidFill>
              <a:srgbClr val="5ecc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Заголовок 1"/>
          <p:cNvSpPr/>
          <p:nvPr/>
        </p:nvSpPr>
        <p:spPr>
          <a:xfrm>
            <a:off x="539640" y="692280"/>
            <a:ext cx="8209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rebuchet MS"/>
              </a:rPr>
              <a:t>«Федеральный государственный образовательный стандарт дошкольного образования 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одзаголовок 8"/>
          <p:cNvSpPr/>
          <p:nvPr/>
        </p:nvSpPr>
        <p:spPr>
          <a:xfrm>
            <a:off x="2646360" y="3573360"/>
            <a:ext cx="58975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Воспитание служит необходим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 всеобщей формой развития ребен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оспитание достигает своих целе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если умеет направить собственну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еятельность ребен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(В. В. Давыд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520" y="1258920"/>
            <a:ext cx="4041720" cy="704880"/>
          </a:xfrm>
          <a:prstGeom prst="rect">
            <a:avLst/>
          </a:prstGeom>
          <a:solidFill>
            <a:srgbClr val="81d31a"/>
          </a:solidFill>
          <a:ln w="9360">
            <a:solidFill>
              <a:srgbClr val="5eccf3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txBody>
          <a:bodyPr anchor="b">
            <a:normAutofit fontScale="9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област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Содержимое 10" descr=""/>
          <p:cNvPicPr/>
          <p:nvPr/>
        </p:nvPicPr>
        <p:blipFill>
          <a:blip r:embed="rId1"/>
          <a:stretch/>
        </p:blipFill>
        <p:spPr>
          <a:xfrm>
            <a:off x="341280" y="2127240"/>
            <a:ext cx="4097520" cy="40482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21040" y="1258920"/>
            <a:ext cx="4041720" cy="704880"/>
          </a:xfrm>
          <a:prstGeom prst="rect">
            <a:avLst/>
          </a:prstGeom>
          <a:gradFill rotWithShape="0">
            <a:gsLst>
              <a:gs pos="0">
                <a:srgbClr val="c0c5e8"/>
              </a:gs>
              <a:gs pos="100000">
                <a:srgbClr val="8c94ce"/>
              </a:gs>
            </a:gsLst>
            <a:lin ang="5400000"/>
          </a:gradFill>
          <a:ln w="9360">
            <a:solidFill>
              <a:srgbClr val="4e67c8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Т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развит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Содержимое 11" descr=""/>
          <p:cNvPicPr/>
          <p:nvPr/>
        </p:nvPicPr>
        <p:blipFill>
          <a:blip r:embed="rId2"/>
          <a:stretch/>
        </p:blipFill>
        <p:spPr>
          <a:xfrm>
            <a:off x="4681440" y="2127240"/>
            <a:ext cx="409104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Содержимое 2"/>
          <p:cNvSpPr/>
          <p:nvPr/>
        </p:nvSpPr>
        <p:spPr>
          <a:xfrm>
            <a:off x="511200" y="1052640"/>
            <a:ext cx="8596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Требования к результатам освоения представлены в виде целевых ориентиров дошкольного образов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371520" y="198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ребования к результат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511200" y="4113360"/>
            <a:ext cx="8207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Ребенок - выпускник ДОУ должен обладать личностными характеристиками, среди них инициативность, самостоятельность, уверенность в своих силах, положительное отношение к себе и другим, развитое воображение, способность к волевым усилиям, любознательность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434880" y="3141720"/>
            <a:ext cx="84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аков должен быть выпускник ДО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179280" y="260280"/>
            <a:ext cx="8785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Calibri"/>
              </a:rPr>
              <a:t>Что такое Федеральный государственный стандарт дошкольного образования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2276640"/>
            <a:ext cx="8785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Федеральные государственные стандарты устанавливаются в Российской Федерации в соответствии с требованием статьи 12 «Закона об образовании» и представляют собой «совокупность обязательных требований к дошкольному образованию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204840" y="1327320"/>
            <a:ext cx="878508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Ключевая установка стандарта - поддержка разнообразия детства через создание условий социальной ситуации содействия взрослых и детей ради развития способностей каждого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ФГОС ДО будет задавать нижнюю допустимую границу создания условий для осуществления образовательного процесса и результатов освоения основной общеобразовательной програм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204840" y="33480"/>
            <a:ext cx="8785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Calibri"/>
              </a:rPr>
              <a:t>Что является отличительной особенностью ФГОС ДО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68120" y="1844280"/>
            <a:ext cx="878544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• </a:t>
            </a:r>
            <a:r>
              <a:rPr b="1" lang="ru-RU" sz="32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обеспечения государством равенства возможностей для каждого ребенка в получении качественного дошкольного образования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• </a:t>
            </a:r>
            <a:r>
              <a:rPr b="1" lang="ru-RU" sz="32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обеспечение государственных гарантий уровня и качества образования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• </a:t>
            </a:r>
            <a:r>
              <a:rPr b="1" lang="ru-RU" sz="32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сохранения единства образовательного пространства РФ относительно уровня дошкольного образова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204840" y="5544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то является основными целя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ФГОС Д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Заголовок 1"/>
          <p:cNvSpPr/>
          <p:nvPr/>
        </p:nvSpPr>
        <p:spPr>
          <a:xfrm>
            <a:off x="528480" y="210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аковы основные принципы устанавливает ФГОС Д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108000" y="1557360"/>
            <a:ext cx="892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Times New Roman"/>
              </a:rPr>
              <a:t>•</a:t>
            </a: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Times New Roman"/>
              </a:rPr>
              <a:t>поддержка разнообразия детств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Times New Roman"/>
              </a:rPr>
              <a:t>• </a:t>
            </a: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хранение уникальности и самоценности дошкольного детств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Times New Roman"/>
              </a:rPr>
              <a:t>•</a:t>
            </a: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Times New Roman"/>
              </a:rPr>
              <a:t>полноценное проживание ребёнком всех этапов дошкольного детства, обогащение детского развития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Times New Roman"/>
              </a:rPr>
              <a:t>•</a:t>
            </a: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я благоприятной социальной ситуации развития каждого ребёнка в соответствии с его возрастными и индивидуальными особенностями и склонностям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Заголовок 1"/>
          <p:cNvSpPr/>
          <p:nvPr/>
        </p:nvSpPr>
        <p:spPr>
          <a:xfrm>
            <a:off x="119160" y="0"/>
            <a:ext cx="89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акие требования выдвигает новый ФГОС Д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Содержимое 2"/>
          <p:cNvSpPr/>
          <p:nvPr/>
        </p:nvSpPr>
        <p:spPr>
          <a:xfrm>
            <a:off x="119160" y="1174680"/>
            <a:ext cx="892944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1. Требования к структуре образовательной программы дошкольного образ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2. Требования к условиям реализации образовательной программы дошкольного образ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к психолого- педагогическим условиям реализации основной образовательной программы дошкольного образова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к развивающей предметно-пространственной сред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3. Требования к результатам освоения образовательной программы дошкольного образ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Содержимое 2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  <a:ea typeface="Times New Roman"/>
              </a:rPr>
              <a:t>1.    </a:t>
            </a:r>
            <a:r>
              <a:rPr b="1" lang="ru-RU" sz="25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Социально-коммуникативное развитие 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направлено на развитие коммуникативных навыков; развитие социального и эмоционального интеллекта, уважительного отношения и чувства принадлежности к своей семье, к сообществу детей и взрослых; формирование позитивных установок к различным видам труда и творчества; формирование основ безопасного поведен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  <a:ea typeface="Times New Roman"/>
              </a:rPr>
              <a:t>2.    </a:t>
            </a:r>
            <a:r>
              <a:rPr b="1" lang="ru-RU" sz="25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Познавательно-речевое развитие 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полагает развитие любознательности и познавательной мотивации, воображения и творческой активности; формирование познавательных действий; формирование первичных представлений о себе, других людях, объектах окружающего мира; патриотическое воспитание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579600" y="2192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бразовательные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бласт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Содержимое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  <a:ea typeface="Times New Roman"/>
              </a:rPr>
              <a:t>3.    Художественно-эстетическое развитие 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полагает развитие предпосылок восприятия и понимания произведений искусства, мира природы; становление эстетического отношения к окружающему миру; реализацию самостоятельной творческой деятельности дет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  <a:ea typeface="Times New Roman"/>
              </a:rPr>
              <a:t>4.    Речевое развитие 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 включает владение речью как средством общения и культуры; обогащение активного словаря; развитие связной, грамматически правильной диалогической и монологической речи; развитие звуковой и интонационной культуры речи, фонематического слуха; знакомство литературой, понимание на слух текстов различных жанров детской литературы; формирование звуковой аналитико-синтетической активности как предпосылки обучения грамо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552600" y="198360"/>
            <a:ext cx="84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бразовательные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бласт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одержимое 2"/>
          <p:cNvSpPr/>
          <p:nvPr/>
        </p:nvSpPr>
        <p:spPr>
          <a:xfrm>
            <a:off x="60480" y="1916280"/>
            <a:ext cx="9047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  <a:ea typeface="Times New Roman"/>
              </a:rPr>
              <a:t>5.     Физическое развитие 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включает приобретение опыта в следующих видах деятельности детей: двигательной, формированию опорно-двигательной системы организма, развитию равновесия, координации движения, крупной и мелкой моторики обеих рук, формирование начальных представлений о некоторых видах спорта, овладение подвижными играми с правилами; становление ценностей здорового образа жизн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371520" y="198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бразовательные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бласт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2:58:18Z</dcterms:created>
  <dc:creator>Пользователь Windows</dc:creator>
  <dc:description/>
  <dc:language>en-US</dc:language>
  <cp:lastModifiedBy>User</cp:lastModifiedBy>
  <dcterms:modified xsi:type="dcterms:W3CDTF">2014-02-06T05:40:28Z</dcterms:modified>
  <cp:revision>134</cp:revision>
  <dc:subject/>
  <dc:title>Слайд 1</dc:title>
</cp:coreProperties>
</file>