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23D6E-46BC-4F0C-A45F-F1937323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C163-215E-47C0-B2B5-C8B1094F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2F35F-49C6-478F-BC41-A6241B81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E8F3B-ACB8-4D4E-A5F2-5D279A06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A299-1528-4A2C-BCDC-59693829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38EE-F175-49A7-9093-FB850140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D91B-5552-4F5D-B491-4BA838FC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3E5F-00E5-47A5-9D84-BF559664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B417-320F-4C5E-B59B-971AD516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081C-5B41-4189-96B2-0193F235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2669-381E-4068-81DD-4F7E7599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97B6D-5DAD-4266-8713-C796E102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0C64-26D2-4BB7-8F8F-26BCE5AD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325A-34CA-442F-9922-E60E9600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58DE-BFA8-48EC-8358-019F0261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1AF9-00AA-4B97-94B8-543191BF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3B8F-4E0A-4EA9-9121-AABE49A3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F92C0-8DA8-4630-BC68-17AA969C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9133D-A5F7-47B0-AA3B-414A84F1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49B02-F3A0-4593-8FE1-6304BF80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1F03A-B308-4409-A321-648FED99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C29DA-96C3-4486-B887-934A4134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197F4-6F35-4ED6-89EC-BAAC13BF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E9E0E-682C-4F24-AC7B-C40B4CB4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484C-7CD2-4153-9DDC-11E323BFAB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485D-9D2A-4F4A-AF13-4C8643672B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aramond"/>
              </a:rPr>
              <a:t>Использование генетической символики для записи заданий на наследование связанное с полом.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Основные правила 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Для записи заданий на наследование  сцепленное  с полом используется общеизвестная генетическая  символика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Р(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arentes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)-родительские формы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,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filia)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-поколение от скрещивания, гибриды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(gametes)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-половые клетки, гаметы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- скрещивание родительских фор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♀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- женская особь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♂ 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- мужская особь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Х – икс-хромосома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– игрэк-хромосома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– нормальное зрение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дальтонизм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914400" y="5105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Line 9"/>
          <p:cNvSpPr/>
          <p:nvPr/>
        </p:nvSpPr>
        <p:spPr>
          <a:xfrm flipH="1">
            <a:off x="914040" y="5105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Задача:   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Классическая гемофилия передается  как  рецессивный , сцепленный с Х-хромосомой  признак. Мужчина , больной дальтонизма , вступает в брак  с женщиной  носительницей   дальтонизма . Каких  детей  можно  ожидать  от  этого  брака ?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♀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♂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– норм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– дальтонизм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йти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1- 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35232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Р: 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♀ 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       ♂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♀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 ;   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d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  ; ♂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 ;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1:  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 ;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Y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;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;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       ♀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здор. ;♂ здор.♀ бол.;♂ бо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25%         25%     25%     25%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Ответ : ¼ девочек – носители  гена дальтонизма, ¼ девочек – дальтоники, ¼ мальчиков- здоровы, 1\4 мальчиков –дальтоники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3124080" y="16765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533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6172200" y="2209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Line 11"/>
          <p:cNvSpPr/>
          <p:nvPr/>
        </p:nvSpPr>
        <p:spPr>
          <a:xfrm flipH="1">
            <a:off x="6095520" y="22096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5029200" y="259092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5562720" y="2590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7391520" y="2666880"/>
            <a:ext cx="75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Line 15"/>
          <p:cNvSpPr/>
          <p:nvPr/>
        </p:nvSpPr>
        <p:spPr>
          <a:xfrm>
            <a:off x="7772400" y="25909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!!! Оказывается , что не только гемофилия и дальтонизм наследуются данным способом , но и …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600200"/>
          <a:ext cx="8229600" cy="4200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Заболев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вязь 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хромосомо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нешн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ояв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тойкий рахи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ген заболевания в Х-хромосо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рушения в опорно-двигательном аппара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гипертрихо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ген заболевания в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Y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хромосо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ырастание волос на краю ушной раков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ee User</cp:lastModifiedBy>
  <dcterms:modified xsi:type="dcterms:W3CDTF">2011-01-21T13:21:5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