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3E9-9CB8-42C6-9A28-23D788BA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3EE-BA65-45C2-A03D-BD9B7B85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87C-2ABC-4D1B-8F25-4AD51F47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CAE-5F38-487E-AAE6-DD503D22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5AD2-FC2B-4D7A-9120-6F11152E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C2FA-DF94-410F-8FC1-0F98EF2D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AF8B-462F-4DE5-89C1-51CF3915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3AF9-9355-48A0-A8EB-59434543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308E-E20A-414F-A677-5C2CF845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D45F-68C1-4C5C-BEA6-630A44CF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C376-DEC8-4C95-9239-A6CEBEE7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C21-6899-489E-9198-E3DCDC3E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CB27-65B2-4FDB-A227-D2293862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6329-7534-480D-A159-3BE85EB5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C330-1B79-49BE-8D13-37022A09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D358-4B74-460B-B663-0CEDDE82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0298-B875-4878-951D-4685BC12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DB8-E793-4A83-A72B-4433B87E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081-8F9E-4528-BC1D-98C3ACA6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0EB-E2F7-4C70-AA30-6901C668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F2E-D0FE-4D97-AE61-39FC08F3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0633-4B8E-4DEC-A2B5-8140ED4A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466-9A80-4740-BEAD-4FE97B4F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0BB-B16C-4146-8A46-100535DE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7548-0A14-4F44-AE83-A06D69265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AC7F-2D23-44F5-83C9-5D56A8AA36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нтерактивные методы обуче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ОЛА МОЛОДОГО ПЕДАГО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i?id=138493962-12-72&amp;n=21"/>
          <p:cNvPicPr/>
          <p:nvPr/>
        </p:nvPicPr>
        <p:blipFill>
          <a:blip r:embed="rId1"/>
          <a:stretch/>
        </p:blipFill>
        <p:spPr>
          <a:xfrm>
            <a:off x="5148360" y="4221000"/>
            <a:ext cx="3744720" cy="2508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3112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ходе диалогового обучения студенты уча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ически мысли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ать сложные проблемы на основе анализа обстоятельств и соответствующей информаци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вешивать альтернативные мн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имать продуманные реш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вовать в дискуссия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аться с другими людь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этого на занятиях организуютс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арная и групповая работа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меняются исследовательские проекты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олевые игры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дет работа с документами и различными источниками информации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пользуют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ворческие рабо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5219640" y="4581360"/>
            <a:ext cx="3745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интерактивные подх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ворческие зада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бота в малых группа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учающие игры (ролевые игры, имитации, деловые игры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пользование общественных ресурсов (приглашение специалиста, экскурсии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циальные проекты и другие внеаудиторные методы обучения (соревнования, интервью, фильмы, спектакли, выставки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учение и закрепление нового материала (интерактивная лекция, работа с наглядными пособиями, видео- и аудиоматериалами, «обучающийся в роли преподавателя», «каждый учит каждого», мозаика (ажурная пила), использование вопросов, сократический диалог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стировани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минк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тная связ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станционное обучени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суждение сложных и дискуссионных вопросов и проблем (займи позицию, шкала мнений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ешение проблем («дерево решений», «мозговой штурм», «анализ казусов»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енинг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Общие принципы и алгоритм построения интерактивного занятия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авило перв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 работу должны быть вовлечены в той или иной мере все участники. С этой целью полезно использовать технологии, позволяющие включить всех участников в процесс обсуж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427640" y="1557360"/>
            <a:ext cx="4321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авило второ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Надо позаботиться о психологической подготовке участников. В этой связи полезны разминки, постоянное поощрение за активное участие в работе, предоставление возможности для самореал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авило треть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Обучающихся в технологии интерактива не должно быть много. Количество участников и качество обучения могут оказаться в прямой зависимости. Оптимальное количество участников – до 25 чело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авило четверто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Помещение должно быть подготовлено с таким расчетом, чтобы участникам было легко пересаживаться для работы в больших и малых групп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авило пято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Четкое закрепление (фиксация) процедур и регламента. Об этом надо договориться в самом начале и постараться не нарушать его. Например: все участники будут проявлять терпимость к любой точке зрения, уважать право каждого на свободу слова, уважать его достоинст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авило шесто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тнеситесь с вниманием к делению участников семинара на группы. Первоначально его лучше построить на основе добровольности. Затем уместно воспользоваться принципом случайного выбо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Использование интерактивных методов на занятиях разных видов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терактивные методы на лекци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озговая атака», «мозговой штурм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ни-лекц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зентации с использованием различных вспомогательных средств с обсуждением  (доски, книг, виде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99ff99"/>
              </a:buClr>
              <a:buFont typeface="Wingdings" charset="2"/>
              <a:buChar char="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мотр и обсуждение видеофильм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99ff99"/>
              </a:buClr>
              <a:buFont typeface="Wingdings" charset="2"/>
              <a:buChar char="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терв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99ff99"/>
              </a:buClr>
              <a:buFont typeface="Wingdings" charset="2"/>
              <a:buChar char="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тная связ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99ff99"/>
              </a:buClr>
              <a:buFont typeface="Wingdings" charset="2"/>
              <a:buChar char="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кция с заранее объявленными ошиб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терактивный (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это активный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t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йствовать) означает способность взаимодействовать или находиться в режиме беседы, диалога с кем – либо или чем либо (например, компьютером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5796000" y="429264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ecff"/>
                </a:solidFill>
                <a:uFillTx/>
                <a:latin typeface="Arial"/>
              </a:rPr>
              <a:t>Интерактивные методы на практических занятиях</a:t>
            </a:r>
            <a:r>
              <a:rPr b="0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ми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ску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ейс-метод (разбор конкретных производственных ситуац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лективные решения творческих зад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лова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ecff"/>
                </a:solidFill>
                <a:uFillTx/>
                <a:latin typeface="Arial"/>
              </a:rPr>
              <a:t>Интерактивные методы в лабораторном практикуме</a:t>
            </a:r>
            <a:br>
              <a:rPr sz="32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 в малых групп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делирование производственных процессов и ситуац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левая 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нин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терактивные методы в самостоятельной рабо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про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88e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обучения в парах (спарринг-партнерств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использовании интерактивных методов роль преподавателя резко меняется, он лишь регулирует  процесс и занимается его общей организацией, готовит заранее необходимые задания и формулирует вопросы или темы для обсуждения в группах, даёт консультации, контролирует время и порядок выполнения намеченного план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од: Интерактивные формы обучения обеспечивают студентам высокую мотивацию, прочность знаний, творчество и фантазию, коммуникабельность, активную жизненная позицию, командный дух, ценность индивидуальности, свободу самовыраж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цент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ятельнос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уваж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емократич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4788000" y="414972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ила методист - Есина Н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нтерактивное обу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специальная форма организации познавательной деятельности, способ познания, осуществляемый в форме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вместной деятельности студен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се участники взаимодействуют друг с другом, обмениваются информацией, совместно решают проблемы, моделируют ситуации, оценивают действия других и свое собственное поведение, погружаются в реальную атмосферу делового сотрудничества по разрешению пробле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60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ль интерактивного обучения состоит в создании комфортных условий обучения, таких, при которых студент чувствует свою успешность, свою интеллектуальную состоятельность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то делае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дуктивны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ам проце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уч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4859280" y="3500280"/>
            <a:ext cx="403380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интерактивном обучении учебный процесс организован таким образом, что практически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с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обучающиес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оказываются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овлеченными в процесс познан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они имеют возможность понимать и рефлектировать по поводу того, что они знают 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умают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5580000" y="4437000"/>
            <a:ext cx="35640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3"/>
          <p:cNvSpPr/>
          <p:nvPr/>
        </p:nvSpPr>
        <p:spPr>
          <a:xfrm>
            <a:off x="108000" y="2743200"/>
            <a:ext cx="3743280" cy="115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пода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Овал 5"/>
          <p:cNvSpPr/>
          <p:nvPr/>
        </p:nvSpPr>
        <p:spPr>
          <a:xfrm>
            <a:off x="5443560" y="4735440"/>
            <a:ext cx="3024000" cy="1152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уд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Овал 6"/>
          <p:cNvSpPr/>
          <p:nvPr/>
        </p:nvSpPr>
        <p:spPr>
          <a:xfrm>
            <a:off x="5986440" y="2438280"/>
            <a:ext cx="3024360" cy="1150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уд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Овал 7"/>
          <p:cNvSpPr/>
          <p:nvPr/>
        </p:nvSpPr>
        <p:spPr>
          <a:xfrm>
            <a:off x="5443560" y="692280"/>
            <a:ext cx="3024000" cy="115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уд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Стрелка вправо 9"/>
          <p:cNvSpPr/>
          <p:nvPr/>
        </p:nvSpPr>
        <p:spPr>
          <a:xfrm rot="21392400">
            <a:off x="3857400" y="3203280"/>
            <a:ext cx="2166840" cy="231840"/>
          </a:xfrm>
          <a:prstGeom prst="rightArrow">
            <a:avLst>
              <a:gd name="adj1" fmla="val 28269"/>
              <a:gd name="adj2" fmla="val 4997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Стрелка вправо 10"/>
          <p:cNvSpPr/>
          <p:nvPr/>
        </p:nvSpPr>
        <p:spPr>
          <a:xfrm rot="1359600">
            <a:off x="3389400" y="4146480"/>
            <a:ext cx="2689200" cy="185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Стрелка вправо 13"/>
          <p:cNvSpPr/>
          <p:nvPr/>
        </p:nvSpPr>
        <p:spPr>
          <a:xfrm rot="19849800">
            <a:off x="2850840" y="2042640"/>
            <a:ext cx="2809800" cy="166680"/>
          </a:xfrm>
          <a:prstGeom prst="rightArrow">
            <a:avLst>
              <a:gd name="adj1" fmla="val 28269"/>
              <a:gd name="adj2" fmla="val 50026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0655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ассивный мето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3"/>
          <p:cNvSpPr/>
          <p:nvPr/>
        </p:nvSpPr>
        <p:spPr>
          <a:xfrm>
            <a:off x="108000" y="2743200"/>
            <a:ext cx="3743280" cy="115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пода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Овал 5"/>
          <p:cNvSpPr/>
          <p:nvPr/>
        </p:nvSpPr>
        <p:spPr>
          <a:xfrm>
            <a:off x="5443560" y="4735440"/>
            <a:ext cx="3024000" cy="1152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уд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Овал 6"/>
          <p:cNvSpPr/>
          <p:nvPr/>
        </p:nvSpPr>
        <p:spPr>
          <a:xfrm>
            <a:off x="5986440" y="2438280"/>
            <a:ext cx="3024360" cy="1150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уд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Овал 7"/>
          <p:cNvSpPr/>
          <p:nvPr/>
        </p:nvSpPr>
        <p:spPr>
          <a:xfrm>
            <a:off x="5443560" y="692280"/>
            <a:ext cx="3024000" cy="115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уд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Стрелка вправо 9"/>
          <p:cNvSpPr/>
          <p:nvPr/>
        </p:nvSpPr>
        <p:spPr>
          <a:xfrm rot="21392400">
            <a:off x="3857400" y="3203280"/>
            <a:ext cx="2166840" cy="231840"/>
          </a:xfrm>
          <a:prstGeom prst="rightArrow">
            <a:avLst>
              <a:gd name="adj1" fmla="val 28269"/>
              <a:gd name="adj2" fmla="val 4997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Стрелка вправо 10"/>
          <p:cNvSpPr/>
          <p:nvPr/>
        </p:nvSpPr>
        <p:spPr>
          <a:xfrm rot="1359600">
            <a:off x="3389400" y="4146480"/>
            <a:ext cx="2689200" cy="185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Стрелка вправо 13"/>
          <p:cNvSpPr/>
          <p:nvPr/>
        </p:nvSpPr>
        <p:spPr>
          <a:xfrm rot="19849800">
            <a:off x="2850840" y="2042640"/>
            <a:ext cx="2809800" cy="166680"/>
          </a:xfrm>
          <a:prstGeom prst="rightArrow">
            <a:avLst>
              <a:gd name="adj1" fmla="val 28269"/>
              <a:gd name="adj2" fmla="val 50026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Стрелка вправо 14"/>
          <p:cNvSpPr/>
          <p:nvPr/>
        </p:nvSpPr>
        <p:spPr>
          <a:xfrm rot="8775600">
            <a:off x="3388680" y="2101320"/>
            <a:ext cx="2484360" cy="344520"/>
          </a:xfrm>
          <a:prstGeom prst="rightArrow">
            <a:avLst>
              <a:gd name="adj1" fmla="val 28269"/>
              <a:gd name="adj2" fmla="val 50010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Стрелка вправо 15"/>
          <p:cNvSpPr/>
          <p:nvPr/>
        </p:nvSpPr>
        <p:spPr>
          <a:xfrm rot="10800000">
            <a:off x="3772080" y="3352680"/>
            <a:ext cx="2519280" cy="277920"/>
          </a:xfrm>
          <a:prstGeom prst="rightArrow">
            <a:avLst>
              <a:gd name="adj1" fmla="val 28269"/>
              <a:gd name="adj2" fmla="val 49982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Стрелка вправо 16"/>
          <p:cNvSpPr/>
          <p:nvPr/>
        </p:nvSpPr>
        <p:spPr>
          <a:xfrm rot="12321000">
            <a:off x="3503160" y="4403160"/>
            <a:ext cx="2397240" cy="115560"/>
          </a:xfrm>
          <a:prstGeom prst="rightArrow">
            <a:avLst>
              <a:gd name="adj1" fmla="val 28269"/>
              <a:gd name="adj2" fmla="val 50133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302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ктивный мето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Овал 3"/>
          <p:cNvSpPr/>
          <p:nvPr/>
        </p:nvSpPr>
        <p:spPr>
          <a:xfrm>
            <a:off x="108000" y="2743200"/>
            <a:ext cx="3743280" cy="115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пода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Овал 5"/>
          <p:cNvSpPr/>
          <p:nvPr/>
        </p:nvSpPr>
        <p:spPr>
          <a:xfrm>
            <a:off x="5443560" y="4735440"/>
            <a:ext cx="3024000" cy="1152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уд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Овал 6"/>
          <p:cNvSpPr/>
          <p:nvPr/>
        </p:nvSpPr>
        <p:spPr>
          <a:xfrm>
            <a:off x="5986440" y="2438280"/>
            <a:ext cx="3024360" cy="1150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уд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Овал 7"/>
          <p:cNvSpPr/>
          <p:nvPr/>
        </p:nvSpPr>
        <p:spPr>
          <a:xfrm>
            <a:off x="5443560" y="692280"/>
            <a:ext cx="3024000" cy="115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уд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Стрелка вправо 9"/>
          <p:cNvSpPr/>
          <p:nvPr/>
        </p:nvSpPr>
        <p:spPr>
          <a:xfrm rot="21392400">
            <a:off x="3857400" y="3203280"/>
            <a:ext cx="2166840" cy="231840"/>
          </a:xfrm>
          <a:prstGeom prst="rightArrow">
            <a:avLst>
              <a:gd name="adj1" fmla="val 28269"/>
              <a:gd name="adj2" fmla="val 4997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Стрелка вправо 10"/>
          <p:cNvSpPr/>
          <p:nvPr/>
        </p:nvSpPr>
        <p:spPr>
          <a:xfrm rot="1359600">
            <a:off x="3389400" y="4146480"/>
            <a:ext cx="2689200" cy="185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Стрелка вправо 13"/>
          <p:cNvSpPr/>
          <p:nvPr/>
        </p:nvSpPr>
        <p:spPr>
          <a:xfrm rot="19849800">
            <a:off x="2850840" y="2042640"/>
            <a:ext cx="2809800" cy="166680"/>
          </a:xfrm>
          <a:prstGeom prst="rightArrow">
            <a:avLst>
              <a:gd name="adj1" fmla="val 28269"/>
              <a:gd name="adj2" fmla="val 50026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Стрелка вправо 14"/>
          <p:cNvSpPr/>
          <p:nvPr/>
        </p:nvSpPr>
        <p:spPr>
          <a:xfrm rot="8775600">
            <a:off x="3388680" y="2101320"/>
            <a:ext cx="2484360" cy="344520"/>
          </a:xfrm>
          <a:prstGeom prst="rightArrow">
            <a:avLst>
              <a:gd name="adj1" fmla="val 28269"/>
              <a:gd name="adj2" fmla="val 50010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Стрелка вправо 15"/>
          <p:cNvSpPr/>
          <p:nvPr/>
        </p:nvSpPr>
        <p:spPr>
          <a:xfrm rot="10800000">
            <a:off x="3772080" y="3352680"/>
            <a:ext cx="2519280" cy="277920"/>
          </a:xfrm>
          <a:prstGeom prst="rightArrow">
            <a:avLst>
              <a:gd name="adj1" fmla="val 28269"/>
              <a:gd name="adj2" fmla="val 49982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Стрелка вправо 16"/>
          <p:cNvSpPr/>
          <p:nvPr/>
        </p:nvSpPr>
        <p:spPr>
          <a:xfrm rot="12321000">
            <a:off x="3503160" y="4403160"/>
            <a:ext cx="2397240" cy="115560"/>
          </a:xfrm>
          <a:prstGeom prst="rightArrow">
            <a:avLst>
              <a:gd name="adj1" fmla="val 28269"/>
              <a:gd name="adj2" fmla="val 50133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Стрелка вправо 11"/>
          <p:cNvSpPr/>
          <p:nvPr/>
        </p:nvSpPr>
        <p:spPr>
          <a:xfrm rot="5400000">
            <a:off x="6557760" y="1949400"/>
            <a:ext cx="633240" cy="344520"/>
          </a:xfrm>
          <a:prstGeom prst="rightArrow">
            <a:avLst>
              <a:gd name="adj1" fmla="val 28269"/>
              <a:gd name="adj2" fmla="val 49984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Стрелка вправо 12"/>
          <p:cNvSpPr/>
          <p:nvPr/>
        </p:nvSpPr>
        <p:spPr>
          <a:xfrm rot="16200000">
            <a:off x="6900480" y="1935000"/>
            <a:ext cx="633600" cy="344520"/>
          </a:xfrm>
          <a:prstGeom prst="rightArrow">
            <a:avLst>
              <a:gd name="adj1" fmla="val 28269"/>
              <a:gd name="adj2" fmla="val 50013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Стрелка вправо 17"/>
          <p:cNvSpPr/>
          <p:nvPr/>
        </p:nvSpPr>
        <p:spPr>
          <a:xfrm rot="16393200">
            <a:off x="6854040" y="4012200"/>
            <a:ext cx="1126800" cy="344520"/>
          </a:xfrm>
          <a:prstGeom prst="rightArrow">
            <a:avLst>
              <a:gd name="adj1" fmla="val 28269"/>
              <a:gd name="adj2" fmla="val 49983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трелка вправо 18"/>
          <p:cNvSpPr/>
          <p:nvPr/>
        </p:nvSpPr>
        <p:spPr>
          <a:xfrm rot="5688600">
            <a:off x="6567120" y="4012920"/>
            <a:ext cx="1103400" cy="344520"/>
          </a:xfrm>
          <a:prstGeom prst="rightArrow">
            <a:avLst>
              <a:gd name="adj1" fmla="val 28269"/>
              <a:gd name="adj2" fmla="val 49998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194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рактивный мето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 сравнению с традиционными формами ведения занятий, в интерактивном обучении меняется взаимодействие преподавателя и обучаемого: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активность педагога уступает место активности обучаемых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а задачей педагога становится соз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словий дл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х инициатив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3" descr="C:\Users\Metod_2\Desktop\ФОТО 23.01.2013\марафон\CAM00806[1].jpg"/>
          <p:cNvPicPr/>
          <p:nvPr/>
        </p:nvPicPr>
        <p:blipFill>
          <a:blip r:embed="rId1"/>
          <a:stretch/>
        </p:blipFill>
        <p:spPr>
          <a:xfrm>
            <a:off x="5580000" y="4149720"/>
            <a:ext cx="3313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21:02:07Z</dcterms:created>
  <dc:creator>User</dc:creator>
  <dc:description/>
  <dc:language>en-US</dc:language>
  <cp:lastModifiedBy>WiZaRd</cp:lastModifiedBy>
  <dcterms:modified xsi:type="dcterms:W3CDTF">2018-02-05T20:27:36Z</dcterms:modified>
  <cp:revision>19</cp:revision>
  <dc:subject/>
  <dc:title>Слайд 1</dc:title>
</cp:coreProperties>
</file>