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C5E-90B7-41C5-883B-55FF3794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292-A56F-4434-BF80-3634A099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DD6-03C6-4A6F-BF91-33A62E11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BE9-32B8-43CD-9EFD-47D22FAA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093-20E6-4B6B-91D6-A247E37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DED-D8B1-4A3D-86A3-8B0DB38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E19-C726-4CB9-9EC5-3CB26C67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20D-6469-4A8C-A3E0-473422E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837-C24E-4028-84C9-144DCD3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0A7-DB29-47F0-AF32-6546DF4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54F-8A39-4F8F-916D-E8FAED68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373-E47F-406C-A0E6-95AA7FE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7AB6-C59F-473D-B60B-BA927337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учил китайский мудрец Конфуци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спом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ужно было относиться к старшим (родителям, брать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естра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Конфуций считал, что мудрость заключается в зн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инных кни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м должен быть настоящий учен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китаец считался воспитанным и учти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выполнять наставления Конфуция сегодн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делай выво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ик, с. 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слите открытия и достижения кит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они им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Documents and Settings\ИОЦ\Рабочий стол\УЧИТЕЛЬ\Любовь Николаевна\картинки\Думающий мальчик.bmp"/>
          <p:cNvPicPr/>
          <p:nvPr/>
        </p:nvPicPr>
        <p:blipFill>
          <a:blip r:embed="rId2"/>
          <a:stretch/>
        </p:blipFill>
        <p:spPr>
          <a:xfrm>
            <a:off x="324000" y="1700280"/>
            <a:ext cx="2735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е значение имело для жителей Китая объединение страны в единое государ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5" descr="ag00317_"/>
          <p:cNvPicPr/>
          <p:nvPr/>
        </p:nvPicPr>
        <p:blipFill>
          <a:blip r:embed="rId2"/>
          <a:stretch/>
        </p:blipFill>
        <p:spPr>
          <a:xfrm>
            <a:off x="539640" y="1159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Рисунок18"/>
          <p:cNvPicPr/>
          <p:nvPr/>
        </p:nvPicPr>
        <p:blipFill>
          <a:blip r:embed="rId2"/>
          <a:stretch/>
        </p:blipFill>
        <p:spPr>
          <a:xfrm>
            <a:off x="539640" y="1844640"/>
            <a:ext cx="2643120" cy="3071880"/>
          </a:xfrm>
          <a:prstGeom prst="rect">
            <a:avLst/>
          </a:prstGeom>
          <a:ln w="9360">
            <a:solidFill>
              <a:srgbClr val="5404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ши крысы, наши кры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грызите вы посе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живем у вас три г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наград от вас не вид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им вас, уйдем подал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раны счастья мы уйд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и на крысу: у нее есть шк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у господ нет и благоро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человек не имеет благород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ему еще делать, как не умир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го авторы песен показывают в образе вредителей посевов - кры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гадательных костях были найдены вопросы к бог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ьно ли принести в жертву военнопле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ьно ли закапывать рабов или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ести в жертву 30 человек, 10 бы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головы люда принести в жертву, царь получит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ие выводы можно сделать на основании этих письменных источников о хозяйстве, строе, верованиях древних китайцев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51814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ервый властелин единого Ки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153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е значение имело для жителей Китая объединение страны в единое государ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5" descr="ag00317_"/>
          <p:cNvPicPr/>
          <p:nvPr/>
        </p:nvPicPr>
        <p:blipFill>
          <a:blip r:embed="rId2"/>
          <a:stretch/>
        </p:blipFill>
        <p:spPr>
          <a:xfrm>
            <a:off x="539640" y="1159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ение Ки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государством Цинь Ши Ху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я кит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21 г. до н.э. – объединение Китая Цинь Ши Хуа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ая система мер и в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ая денеж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ложены хорошие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а перепись населения для сбора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на разделена на 36 областей с наме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ей держали в стра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енные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5410080" y="1752480"/>
            <a:ext cx="3576600" cy="4897440"/>
            <a:chOff x="5410080" y="1752480"/>
            <a:chExt cx="3576600" cy="4897440"/>
          </a:xfrm>
        </p:grpSpPr>
        <p:pic>
          <p:nvPicPr>
            <p:cNvPr id="57" name="Picture 4" descr="Рисунок1"/>
            <p:cNvPicPr/>
            <p:nvPr/>
          </p:nvPicPr>
          <p:blipFill>
            <a:blip r:embed="rId2"/>
            <a:stretch/>
          </p:blipFill>
          <p:spPr>
            <a:xfrm>
              <a:off x="5410080" y="1752480"/>
              <a:ext cx="357660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"/>
            <p:cNvSpPr/>
            <p:nvPr/>
          </p:nvSpPr>
          <p:spPr>
            <a:xfrm>
              <a:off x="5424120" y="1763640"/>
              <a:ext cx="3544920" cy="4862520"/>
            </a:xfrm>
            <a:prstGeom prst="rect">
              <a:avLst/>
            </a:prstGeom>
            <a:noFill/>
            <a:ln w="88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ик, с. 109 -1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Цинь Ши хуанди организовывал военные пох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да были организованы пох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ем на севере воевали китацй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C:\Documents and Settings\ИОЦ\Рабочий стол\УЧИТЕЛЬ\Любовь Николаевна\картинки\Думающий мальчик.bmp"/>
          <p:cNvPicPr/>
          <p:nvPr/>
        </p:nvPicPr>
        <p:blipFill>
          <a:blip r:embed="rId2"/>
          <a:stretch/>
        </p:blipFill>
        <p:spPr>
          <a:xfrm>
            <a:off x="324000" y="1700280"/>
            <a:ext cx="2735280" cy="38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ap-kitai"/>
          <p:cNvPicPr/>
          <p:nvPr/>
        </p:nvPicPr>
        <p:blipFill>
          <a:blip r:embed="rId3"/>
          <a:stretch/>
        </p:blipFill>
        <p:spPr>
          <a:xfrm>
            <a:off x="3276720" y="1143000"/>
            <a:ext cx="5638680" cy="547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gunnes"/>
          <p:cNvPicPr/>
          <p:nvPr/>
        </p:nvPicPr>
        <p:blipFill>
          <a:blip r:embed="rId4"/>
          <a:stretch/>
        </p:blipFill>
        <p:spPr>
          <a:xfrm>
            <a:off x="3657600" y="1447920"/>
            <a:ext cx="1905120" cy="16570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64" name="Line 10"/>
          <p:cNvSpPr/>
          <p:nvPr/>
        </p:nvSpPr>
        <p:spPr>
          <a:xfrm>
            <a:off x="5257800" y="3429000"/>
            <a:ext cx="576360" cy="50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ликая китайская ст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stena1"/>
          <p:cNvPicPr/>
          <p:nvPr/>
        </p:nvPicPr>
        <p:blipFill>
          <a:blip r:embed="rId2"/>
          <a:stretch/>
        </p:blipFill>
        <p:spPr>
          <a:xfrm>
            <a:off x="228600" y="1808280"/>
            <a:ext cx="3962520" cy="382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stena2"/>
          <p:cNvPicPr/>
          <p:nvPr/>
        </p:nvPicPr>
        <p:blipFill>
          <a:blip r:embed="rId3"/>
          <a:stretch/>
        </p:blipFill>
        <p:spPr>
          <a:xfrm>
            <a:off x="4343400" y="1295280"/>
            <a:ext cx="4648320" cy="3548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57240" y="5867280"/>
            <a:ext cx="89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Это единственный памятник на Земле, который видно с Луны. Протяжённость стены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6500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6:21:52Z</dcterms:created>
  <dc:creator>Марина</dc:creator>
  <dc:description/>
  <dc:language>en-US</dc:language>
  <cp:lastModifiedBy>MATINA</cp:lastModifiedBy>
  <dcterms:modified xsi:type="dcterms:W3CDTF">2018-02-05T15:35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