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984-D7A3-4D9F-8EB1-7D254A78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ACA-29C6-404B-8A41-B0083447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4C1-F314-4700-A1AF-F30B171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19F-2E19-416A-80DD-4A831341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A52B-2A5F-4FB7-BA04-C717D0ED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37EA-0D17-48E3-A8A3-06C7898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7D50-E1C5-4E09-BC66-D636CA2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F9A-392E-4A0A-B6B7-C731024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B53A-FBFB-4390-AAC2-FAC362E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447-BDF6-4206-9C57-A727334E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4495-F448-4846-9E71-4A5054C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579-3F49-45B5-82D3-2EE3E708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C40-9FD5-4FDA-9567-22958BA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A4F-DAE3-42EB-935C-3ADFCC4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A0D-00CD-4C21-8FA5-FDE84CAB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17B3-0DD7-402C-AA42-9AD5BAD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E35E-6D76-4002-BC4A-FDDCA6D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A1179-FE4F-4F62-961D-D9A621BB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DC022-DFAD-4BC7-9138-3594F6FD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84A9D-DE66-418D-876F-6168621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00C0B-FF84-489C-BF30-109B418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40926-E455-40B3-8E6A-4300DC8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A2A-E8E6-44A4-BEAE-FE2B0D2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A2FAF-F65B-46A7-9000-FCF41DA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CA51F-F31D-4E9E-B226-B1050A9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5403E-0858-4CAE-BAFD-8421D32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AA028-C64A-4883-9265-62D9A4F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58C9D-779A-46D4-A720-8A981710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4CCDF-FB88-4848-B1CE-9BB4451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92051-919E-405D-A9C5-54EACF3F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6FF7-540A-40C4-94AE-A1D9703E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DC13-E7A6-4E54-897F-2539075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00A2-14C3-4EE6-963F-08661BF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B86-52C7-43ED-80DC-252F462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E98F-1368-47C0-ADE4-A43883B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FE03B-05FA-4EF2-A006-C37D105A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0C91-D807-47E5-9CF2-5FE5E1B1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D4DC-AA1D-4859-8242-9641F22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A523-CD15-454C-89A7-99E749A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514C-E999-4C9F-A71D-F6AB740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15D0-29CE-4C4F-B0D5-4A7BBF91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D719-BC18-4A73-B1F9-C69DB26A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44A5-A04B-4B3E-974E-DB962690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77729-66CC-4D9A-BF50-C34807DA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E2D-0CF1-4A8D-AED4-74439D0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01FC7-790F-4A34-B5B7-D5850B8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548B2-C84F-488A-823E-B7D695A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824FA-B44E-4D55-9407-AFD5E15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77564-D187-4D8B-AA7B-C4F574F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E389D-A32A-435C-ABC4-1E3243DD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74518-5850-4345-995E-F4F8B7E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DCA99-7DD3-4EEC-9639-28810C6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C30BC-AD6D-4705-B759-AEDA071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FA793-6CFC-4750-8815-3B18923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D30B6-145C-4BF4-9FC4-F2165AE1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000-6744-450E-A9BB-8C91D3B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25D2B-2FB6-43F2-9070-BA3E5118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B7B97-D7B6-4215-9CAB-D5D32232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2C2C2-E918-449B-83D5-63AEA87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02FD3-6267-4C34-AF07-85C44A35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73FD0-B6E2-4FC2-8786-8B090A7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309EC-8339-4E9D-B1AD-EFD6F5E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8E50F-4AFA-4FA7-B405-A9058E0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3AF21-81DA-422A-B52F-227303E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F5466-55B6-4C00-8048-96CF058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D6856-55C3-4983-BB2D-BA9597C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DCF-9466-4461-9BB2-698F8D5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1343C-BD11-49F4-AB59-72F3DFE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92724-D192-4BA7-AEFD-C204EE08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1CC37-DF97-4621-9052-D022FB66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7F2BE-E7E0-42FF-880A-B655E870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A2924-8734-4790-9819-0D91EA7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EBB8D-E5B5-4094-B85E-ECD585E5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C48B5-FAFC-4A5C-A289-13D41005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26F10-00E0-451A-B2BD-1057226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43160-5C27-45BB-B437-1FD21C3D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2AC8E-5375-4770-8454-DB9A5F77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3EB-370D-4C39-8105-CCE4874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47425-B9F0-4320-AF1D-4D5B6C4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13A29-5A83-4019-ADBC-47A22E1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1312F-69D3-412F-8E7C-A3D9E18F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15926-B614-4E9E-91A5-D93688D8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5A457-473B-4F1F-BC33-9183520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059-61DD-4BF3-9C6A-503BF7B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763-5064-48FA-87F8-EB3D2E97F5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2AD0-8F36-4168-8D14-94742101CE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2D3-76DA-4EAC-93A0-5188B16E4F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D60-8687-4AD1-85CE-AB50579D6F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9BE-A170-43D7-97F6-B577E2E8FB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253-6CFE-4BA3-B500-14A33B3689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A92-5EA9-40BB-92F4-63A3A64962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D:\&#1051;&#1086;&#1075;&#1086;&#1087;&#1077;&#1076;\&#1083;&#1077;&#1082;&#1094;&#1080;&#1080;\&#1042;&#1074;&#1077;&#1076;&#1077;&#1085;&#1080;&#1077; &#1074; &#1083;&#1086;&#1075; &#1089;&#1087;&#1077;&#1094;\&#1042;&#1074;&#1077;&#1076;&#1077;&#1085;&#1080;&#1077; &#1074; &#1083;&#1086;&#1075; &#1089;&#1087;&#1077;&#1094;\&#1057;&#1058;&#1056;&#1059;&#1050;&#1058;&#1059;&#1056;&#1040; &#1056;&#1045;&#1063;&#1045;&#1042;&#1054;&#1043;&#1054; &#1044;&#1045;&#1060;&#1045;&#1050;&#1058;&#1040; &#1055;&#1056;&#1048; &#1040;&#1051;&#1040;&#1051;&#1048;&#1048; (&#1090;&#1072;&#1073;&#1083;).doc" TargetMode="External"/><Relationship Id="rId2" Type="http://schemas.openxmlformats.org/officeDocument/2006/relationships/hyperlink" Target="D:\&#1051;&#1086;&#1075;&#1086;&#1087;&#1077;&#1076;\&#1083;&#1077;&#1082;&#1094;&#1080;&#1080;\&#1042;&#1074;&#1077;&#1076;&#1077;&#1085;&#1080;&#1077; &#1074; &#1083;&#1086;&#1075; &#1089;&#1087;&#1077;&#1094;\&#1042;&#1074;&#1077;&#1076;&#1077;&#1085;&#1080;&#1077; &#1074; &#1083;&#1086;&#1075; &#1089;&#1087;&#1077;&#1094;\&#1051;&#1077;&#1082;&#1094;&#1080;&#1080; (&#1083;&#1086;&#1075;&#1086;&#1087;&#1077;&#1076;&#1080;&#1103;).doc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2143080"/>
            <a:ext cx="6172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ЛАССИФИКАЦИЯ РЕЧЕВЫХ НАРУШЕН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ИНОЛАЛ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071720"/>
            <a:ext cx="790092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я тембра голоса и звукопроизношения, обусловленные анатомо-физиологическими дефектами речевого аппарат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ы: гнусавость (устаревшее), палатолал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является в патологическом изменении тембра голоса, который оказывается избыточно назализованным вследствие того, что голосовыдыхательная струя проходит при произнесении всех звуков речи в полость носа и в ней получает резонан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ЗАРТР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928440"/>
            <a:ext cx="79009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рушение произносительной стороны речи, обусловленное недостаточностью иннервации речевого аппара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блюдаются несформированность всех звеньев сложного механизма фонационного оформления высказывания, следствием чего являются голосовые, просодические и артикуляционно-фонетические дефек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яжелой степенью дизартрии является анартрия, проявляющаяся в невозможности осуществить звуковую реализацию речи. В легких случаях дизартрии, когда дефект проявляется преимущественно в артикуляторно-фонетических нарушениях, говорят о ее стертой форм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зартрия является следствием органического нарушения центрального характера, приводящего к двигательным расстройствам. По локализации поражения ЦНС выделяют различные формы дизартрии. По тяжести нарушения различают степень проявления дизартр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АЛАЛ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тсутствие или недоразвитие речи вследствие органического поражения речевых зон коры головного мозга во внутриутробном или раннем периоде развития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ы: дисфазия, ранняя детская афазия, афазия развития, слухонемота (устаревшее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ФАЗ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285560"/>
            <a:ext cx="78296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лная или частная утрата речи, обусловленная локальными поражениями головного моз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ы: распад, утрата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 ребенка теряется речь в результате черепно-мозговых травм, нейроинфекции или опухолей мозга после того, как речь уже была сформирован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СЛЕКС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астичное специфическое нарушение процесса чт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является в затруднениях опознания и узнавания букв; в затруднениях слияния букв в слоги и слогов в слова, что приводит к неправильному воспроизведению звуковой формы слова; в аграмматизме и искажении понимания прочитанн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СГРАФ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астичное специфическое нарушение процесса пись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является в нестойкости оптико-пространственного образа буквы, в смешениях или пропусках букв, в искажениях звукослогового состава слова и структуры предложе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Century Schoolbook"/>
              </a:rPr>
              <a:t>ПСИХОЛОГО-ПЕДАГОГИЧЕСКАЯ КЛАССИФИКАЦИЯ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Р.Е. ЛЕВИНА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2143080" y="1071720"/>
            <a:ext cx="4214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рушения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5429160" y="2143080"/>
            <a:ext cx="30006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е в применении средств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428760" y="2143080"/>
            <a:ext cx="285732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е средств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6286680" y="4500720"/>
            <a:ext cx="24285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ик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7"/>
          <p:cNvSpPr/>
          <p:nvPr/>
        </p:nvSpPr>
        <p:spPr>
          <a:xfrm>
            <a:off x="3214800" y="4500720"/>
            <a:ext cx="242892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щее недо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8"/>
          <p:cNvSpPr/>
          <p:nvPr/>
        </p:nvSpPr>
        <p:spPr>
          <a:xfrm>
            <a:off x="285840" y="4500720"/>
            <a:ext cx="271440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нетико-фонематическое недо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трелка вправо 9"/>
          <p:cNvSpPr/>
          <p:nvPr/>
        </p:nvSpPr>
        <p:spPr>
          <a:xfrm flipV="1" rot="7362000">
            <a:off x="2266920" y="1666800"/>
            <a:ext cx="596880" cy="3682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трелка вправо 10"/>
          <p:cNvSpPr/>
          <p:nvPr/>
        </p:nvSpPr>
        <p:spPr>
          <a:xfrm flipV="1" rot="3201000">
            <a:off x="5814000" y="1663920"/>
            <a:ext cx="596880" cy="369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право 11"/>
          <p:cNvSpPr/>
          <p:nvPr/>
        </p:nvSpPr>
        <p:spPr>
          <a:xfrm rot="6583800">
            <a:off x="1393560" y="3978360"/>
            <a:ext cx="709560" cy="366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право 12"/>
          <p:cNvSpPr/>
          <p:nvPr/>
        </p:nvSpPr>
        <p:spPr>
          <a:xfrm rot="2728800">
            <a:off x="2800800" y="3960000"/>
            <a:ext cx="855720" cy="399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право 13"/>
          <p:cNvSpPr/>
          <p:nvPr/>
        </p:nvSpPr>
        <p:spPr>
          <a:xfrm rot="5400000">
            <a:off x="6996240" y="3918600"/>
            <a:ext cx="681120" cy="415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ОНЕТИКО-ФОНЕМАТИЧЕСКОЕ НЕДОРАЗВИТИЕ РЕЧ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е процессов формирования произносительной системы родного языка у детей с различными речевыми расстройствами вследствие дефектов восприятия и произношения фоне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ЩЕЕ НЕДОРАЗВИТИЕ РЕЧ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71720"/>
            <a:ext cx="78296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зличные сложные речевые расстройства, при которых нарушено формирование всех компонентов речевой системы, относящихся к звуковой и смысловой сторон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качестве общих признаков отмечаются: позднее начало развития речи, скудный словарный запас, аграмматизм, дефекты произношения, дефекты фонемообразова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доразвитие может быть выражено в разной степени: от отсутствия речи или лепетного ее состояния до развернутой, но с элементами фонетического и лексико-грамматического недоразвит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зависимости от степени сформированности речевых средств у ребенка общее недоразвитие подразделяется на четыре уровн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ИК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рушение коммуникативной функции речи при правильно сформировавшихся средствах общ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можен и комбинированный дефект, при котором заикание сочетается с общим недоразвитием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ы анализа речевых наруше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линико-педагогическая классификация. Нарушения устной речи. Определение, симптоматика, этиология речевых наруше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сихолого-педагогическая классификация. Виды нарушений. Определение, симптоматика, этиология речевых наруше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4674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ПРИНЦИПЫ АНАЛИЗА РЕЧЕВЫХ НАРУШЕНИ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28440"/>
            <a:ext cx="775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инцип развития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полагает анализ процесса возникновения дефекта. Знание особенностей и закономерностей речевого развития на каждом возрастном этапе, предпосылок и условий, обеспечивающих его развитие, позволяет определить причины возникновения нарушения и наметить адекватные пути коррекционного воздейств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инцип системност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- подход к анализу речевых нарушений, определяющий речь как систем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инцип рассмотрения речевых нарушений во взаимосвязи речи с другими сторонами психического развития.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психические процессы у ребенка взаимосвязаны с речью. Речь формируется под воздействием всех высших психических функций, но, в свою очередь, и внимание, и память, и мышление развиваются под влиянием реч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2155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КЛИНИКО-ПЕДАГОГИЧЕСКАЯ КЛАССИФИКАЦИЯ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2071800" y="857160"/>
            <a:ext cx="42148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я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714240" y="1643040"/>
            <a:ext cx="335772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я уст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500800" y="1643040"/>
            <a:ext cx="33573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я письмен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214200" y="285768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сстройства фонационного оформления высказы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2786040" y="2857680"/>
            <a:ext cx="221472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Нарушения стуктурно-семантического оформления высказы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6858000" y="2571840"/>
            <a:ext cx="20001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с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9"/>
          <p:cNvSpPr/>
          <p:nvPr/>
        </p:nvSpPr>
        <p:spPr>
          <a:xfrm>
            <a:off x="6858000" y="3286080"/>
            <a:ext cx="20001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с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10"/>
          <p:cNvSpPr/>
          <p:nvPr/>
        </p:nvSpPr>
        <p:spPr>
          <a:xfrm>
            <a:off x="5214960" y="2928960"/>
            <a:ext cx="1143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Ал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1"/>
          <p:cNvSpPr/>
          <p:nvPr/>
        </p:nvSpPr>
        <p:spPr>
          <a:xfrm>
            <a:off x="5214960" y="3643200"/>
            <a:ext cx="1143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ф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2"/>
          <p:cNvSpPr/>
          <p:nvPr/>
        </p:nvSpPr>
        <p:spPr>
          <a:xfrm>
            <a:off x="214200" y="5429160"/>
            <a:ext cx="157176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сфония (аф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2571840" y="5214960"/>
            <a:ext cx="17143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ахил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4"/>
          <p:cNvSpPr/>
          <p:nvPr/>
        </p:nvSpPr>
        <p:spPr>
          <a:xfrm>
            <a:off x="1928880" y="5857920"/>
            <a:ext cx="15714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Дизар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5"/>
          <p:cNvSpPr/>
          <p:nvPr/>
        </p:nvSpPr>
        <p:spPr>
          <a:xfrm>
            <a:off x="5072040" y="5214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радил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6"/>
          <p:cNvSpPr/>
          <p:nvPr/>
        </p:nvSpPr>
        <p:spPr>
          <a:xfrm>
            <a:off x="4000680" y="5857920"/>
            <a:ext cx="1785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инол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7"/>
          <p:cNvSpPr/>
          <p:nvPr/>
        </p:nvSpPr>
        <p:spPr>
          <a:xfrm>
            <a:off x="7358040" y="5214960"/>
            <a:ext cx="14288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исл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6500880" y="5857920"/>
            <a:ext cx="14288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и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право 19"/>
          <p:cNvSpPr/>
          <p:nvPr/>
        </p:nvSpPr>
        <p:spPr>
          <a:xfrm rot="7751400">
            <a:off x="2601360" y="1367640"/>
            <a:ext cx="325440" cy="2336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право 20"/>
          <p:cNvSpPr/>
          <p:nvPr/>
        </p:nvSpPr>
        <p:spPr>
          <a:xfrm rot="2711400">
            <a:off x="5820840" y="1366560"/>
            <a:ext cx="325440" cy="2336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право 21"/>
          <p:cNvSpPr/>
          <p:nvPr/>
        </p:nvSpPr>
        <p:spPr>
          <a:xfrm rot="7751400">
            <a:off x="1316160" y="2582640"/>
            <a:ext cx="325440" cy="233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трелка вправо 22"/>
          <p:cNvSpPr/>
          <p:nvPr/>
        </p:nvSpPr>
        <p:spPr>
          <a:xfrm rot="2711400">
            <a:off x="3463560" y="2581200"/>
            <a:ext cx="325440" cy="233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право 23"/>
          <p:cNvSpPr/>
          <p:nvPr/>
        </p:nvSpPr>
        <p:spPr>
          <a:xfrm>
            <a:off x="5000760" y="31431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право 24"/>
          <p:cNvSpPr/>
          <p:nvPr/>
        </p:nvSpPr>
        <p:spPr>
          <a:xfrm>
            <a:off x="5000760" y="378612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27"/>
          <p:cNvSpPr/>
          <p:nvPr/>
        </p:nvSpPr>
        <p:spPr>
          <a:xfrm flipH="1">
            <a:off x="6571800" y="2428920"/>
            <a:ext cx="1800" cy="1143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37"/>
          <p:cNvSpPr/>
          <p:nvPr/>
        </p:nvSpPr>
        <p:spPr>
          <a:xfrm flipH="1">
            <a:off x="1141560" y="4502160"/>
            <a:ext cx="1440" cy="4287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39"/>
          <p:cNvSpPr/>
          <p:nvPr/>
        </p:nvSpPr>
        <p:spPr>
          <a:xfrm flipV="1">
            <a:off x="1143000" y="4857840"/>
            <a:ext cx="6858000" cy="71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40"/>
          <p:cNvSpPr/>
          <p:nvPr/>
        </p:nvSpPr>
        <p:spPr>
          <a:xfrm rot="5574000">
            <a:off x="1059840" y="5032440"/>
            <a:ext cx="549000" cy="3078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трелка вправо 41"/>
          <p:cNvSpPr/>
          <p:nvPr/>
        </p:nvSpPr>
        <p:spPr>
          <a:xfrm rot="5066400">
            <a:off x="1822320" y="5209920"/>
            <a:ext cx="855360" cy="366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право 42"/>
          <p:cNvSpPr/>
          <p:nvPr/>
        </p:nvSpPr>
        <p:spPr>
          <a:xfrm rot="5235000">
            <a:off x="3178080" y="4938840"/>
            <a:ext cx="325440" cy="233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право 43"/>
          <p:cNvSpPr/>
          <p:nvPr/>
        </p:nvSpPr>
        <p:spPr>
          <a:xfrm>
            <a:off x="6572160" y="2786040"/>
            <a:ext cx="289080" cy="2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трелка вправо 44"/>
          <p:cNvSpPr/>
          <p:nvPr/>
        </p:nvSpPr>
        <p:spPr>
          <a:xfrm>
            <a:off x="6572160" y="3500280"/>
            <a:ext cx="289080" cy="2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вправо 45"/>
          <p:cNvSpPr/>
          <p:nvPr/>
        </p:nvSpPr>
        <p:spPr>
          <a:xfrm rot="5640000">
            <a:off x="5828760" y="4916160"/>
            <a:ext cx="325440" cy="2336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46"/>
          <p:cNvSpPr/>
          <p:nvPr/>
        </p:nvSpPr>
        <p:spPr>
          <a:xfrm rot="5066400">
            <a:off x="4296960" y="5189040"/>
            <a:ext cx="855720" cy="366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право 47"/>
          <p:cNvSpPr/>
          <p:nvPr/>
        </p:nvSpPr>
        <p:spPr>
          <a:xfrm rot="5066400">
            <a:off x="6654960" y="5189400"/>
            <a:ext cx="855720" cy="36648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трелка вправо 48"/>
          <p:cNvSpPr/>
          <p:nvPr/>
        </p:nvSpPr>
        <p:spPr>
          <a:xfrm rot="5003400">
            <a:off x="7900920" y="4916520"/>
            <a:ext cx="325440" cy="2332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СФОНИЯ (АФОНИЯ)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928440"/>
            <a:ext cx="7972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сутствие или расстройство фонации вследствие патологических изменений голосового аппара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нонимы: нарушение голоса, нарушение фонации, фоноторные нарушения, вокальные наруш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является либо в отсутствии фонации (афония), либо в нарушении силы, высоты и тембра голоса (дисфония), может быть обусловлена органическими или функциональными расстройствами голосообразующего механизма центральной или периферической локализации и возникать на любом этапе развития ребе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вает изолированной или входит в состав ряда других нарушений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РАДИЛАЛ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атологически замедленный темп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: брадифраз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является в замедленной реализации артикуляторной речевой программы, является центрально обусловленной, может быть органической или функциональн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АХИЛАЛ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атологически ускоренный темп реч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: тахифраз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является в ускоренной реализации артикуляторной речевой программы, является центрально обусловленной, органической или функциональн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ИК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968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ушение темно-ритмической организации речи, обусловленное судорожным состоянием мышц речевого аппар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оним: логоневроз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Является центрально обусловленным, имеет органическую или функциональную природу, возникает чаще всего в ходе речевого развитие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СЛАЛ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рушение звукопроизношения при нормальном слухе и сохранной иннервации речевого аппарат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инонимы: косноязычие (устаревшее), дефекты звукопроизношения, фонетические дефекты, недостатки произношения фоне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оявляется в неправильном звуковом (фонемном) оформлении речи: в искаженном (ненормированном) произнесении звуков, в заменах звуков или в их смешен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фект может быть обусловлен тем, что у ребенка не полностью сформировалась артикуляторная база (не усвоен весь набор артикуляционных позиций, необходимых для произнесения звуков) или неправильно сформировались артикуляторные позиции, вследствие чего продуцируются ненормированные звук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50:48Z</dcterms:created>
  <dc:creator>dns</dc:creator>
  <dc:description/>
  <dc:language>en-US</dc:language>
  <cp:lastModifiedBy>user</cp:lastModifiedBy>
  <dcterms:modified xsi:type="dcterms:W3CDTF">2018-02-05T16:42:01Z</dcterms:modified>
  <cp:revision>9</cp:revision>
  <dc:subject/>
  <dc:title>Классификация речевых нарушений</dc:title>
</cp:coreProperties>
</file>