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2041-3C62-43D2-B1AC-E97AE0B423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E0BC-735C-4915-BC3A-4C6048DE7AA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44B5-18FF-4728-8224-D1962BC9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57D-6DBB-4BB8-B144-F056262F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D42-1E2B-42F0-A8BC-966D412C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F8F-1941-4E29-B7CD-BA6252F5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5943-BA68-48A1-918C-742ED669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D8A8-55E9-4A51-B98E-7384FFCC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C9B2-F19F-420B-BD0C-A3B46DBE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07A4-1F91-40BA-9685-A123620C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393D-A4B0-4C79-84FE-CCEE2CAC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0C06-83B5-4576-9CF2-EC99FD41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D30B-3D10-44E3-9209-D0DE033C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0E02-810F-4284-83C9-0C114933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0D67-01A0-45FB-9097-924A90E7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9212-A63F-438D-BBC9-DA8A62FE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16FA-91C2-4D85-9712-E233D672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DAE4-E775-4E97-962E-3D1CF2E1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7AC5-BAE5-4531-8241-E6EE2F33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0993-F270-49A3-A3C0-D2B73466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BC6-C022-4449-887F-65869CBE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BF1B-F662-4600-9974-6917CB36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8FE-6FB7-41C9-BDE0-B4779B50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48A-9D58-4498-A35B-641515A8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13E-D9F6-486A-A9C8-9C2EED8B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870-3DA5-418D-8E01-D4F59039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B854-8EA5-4CCE-B2DE-904A7F9DA082}" type="datetime3">
              <a:rPr b="0" lang="ru-RU" sz="1400" spc="-1" strike="noStrike">
                <a:solidFill>
                  <a:srgbClr val="000000"/>
                </a:solidFill>
                <a:latin typeface="Arial"/>
              </a:rPr>
              <a:t>29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2243-6960-4931-BBFF-AD473519307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B8A2-0C50-48A0-806B-F6AFA6C115ED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29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F408-B351-4257-BF67-38A8A65993F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3.jpeg"/><Relationship Id="rId4" Type="http://schemas.openxmlformats.org/officeDocument/2006/relationships/image" Target="../media/image19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6"/>
          <p:cNvSpPr txBox="1"/>
          <p:nvPr/>
        </p:nvSpPr>
        <p:spPr>
          <a:xfrm>
            <a:off x="695160" y="2492280"/>
            <a:ext cx="4453200" cy="17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80808"/>
                  </a:solidFill>
                  <a:miter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асс Двудольные,</a:t>
            </a:r>
            <a:endParaRPr b="0" lang="en-US" sz="1800" spc="1" strike="noStrike">
              <a:ln w="9360">
                <a:solidFill>
                  <a:srgbClr val="080808"/>
                </a:solidFill>
                <a:miter/>
              </a:ln>
              <a:solidFill>
                <a:srgbClr val="33cc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80808"/>
                  </a:solidFill>
                  <a:miter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мейство Крестоцветные</a:t>
            </a:r>
            <a:endParaRPr b="0" lang="en-US" sz="1800" spc="1" strike="noStrike">
              <a:ln w="9360">
                <a:solidFill>
                  <a:srgbClr val="080808"/>
                </a:solidFill>
                <a:miter/>
              </a:ln>
              <a:solidFill>
                <a:srgbClr val="33cc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80808"/>
                  </a:solidFill>
                  <a:miter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</a:t>
            </a:r>
            <a:r>
              <a:rPr b="0" lang="en-US" sz="1800" spc="1" strike="noStrike">
                <a:ln w="9360">
                  <a:solidFill>
                    <a:srgbClr val="080808"/>
                  </a:solidFill>
                  <a:miter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Капустные)</a:t>
            </a:r>
            <a:endParaRPr b="0" lang="en-US" sz="1800" spc="1" strike="noStrike">
              <a:ln w="9360">
                <a:solidFill>
                  <a:srgbClr val="080808"/>
                </a:solidFill>
                <a:miter/>
              </a:ln>
              <a:solidFill>
                <a:srgbClr val="33cc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Picture 7" descr="herba4a"/>
          <p:cNvPicPr/>
          <p:nvPr/>
        </p:nvPicPr>
        <p:blipFill>
          <a:blip r:embed="rId1"/>
          <a:stretch/>
        </p:blipFill>
        <p:spPr>
          <a:xfrm>
            <a:off x="5508720" y="1773360"/>
            <a:ext cx="2835360" cy="283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котник серо - зелёны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вулетнее растение. Цветки белые в щитковидных кистях, мелкие, с двураздельными на верхушке лепестками. Стручочки овальны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4952880" y="2860560"/>
            <a:ext cx="32101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ультурные растения семейст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915840" y="2800440"/>
            <a:ext cx="3380040" cy="2871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очанная капус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 algn="ctr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АПУСТА - род одно-, дву- и многолетних растений семейства крестоцветных, овощная культура. Ок. 35 видов, в Евразии и Северной Африке, большинство в Средиземноморье. Возделывают капусту кочанную (в кочанах сахара, белки, витамин С, минеральные вещества), цветную, савойскую, брюссельскую, кольраби и др. К роду капусты относятся также репа, рапс, сурепица, сарептская горчица, брюква. Выращивают повсеместн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льраб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1878120" y="2362320"/>
            <a:ext cx="561168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рюссельска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908000" y="2421000"/>
            <a:ext cx="59151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ветна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59864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ёрная редь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Picture 7" descr="Редька"/>
          <p:cNvPicPr/>
          <p:nvPr/>
        </p:nvPicPr>
        <p:blipFill>
          <a:blip r:embed="rId1"/>
          <a:stretch/>
        </p:blipFill>
        <p:spPr>
          <a:xfrm>
            <a:off x="2268360" y="2421000"/>
            <a:ext cx="4762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ди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едька посевная, в т. ч. реди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ДЬКА - род травянистых растений семейства крестоцветных. 6-8 видов в Азии. Редька посевная (собственно редька и редис) - овощная (в корнеплодах минеральные вещества, витамин С), масличная (масло из семян), кормовая культура, во всех земледельческих районах; в Российской Федерации повсеместно, урожайность корнеплодов 200-300 ц с 1 г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5089680" y="2741760"/>
            <a:ext cx="3133440" cy="26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городный хре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Picture 7" descr="Хрен"/>
          <p:cNvPicPr/>
          <p:nvPr/>
        </p:nvPicPr>
        <p:blipFill>
          <a:blip r:embed="rId1"/>
          <a:stretch/>
        </p:blipFill>
        <p:spPr>
          <a:xfrm>
            <a:off x="2762280" y="2362320"/>
            <a:ext cx="38448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дание №1. Какие растения «лишние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Picture 5" descr="редька чёрная"/>
          <p:cNvPicPr/>
          <p:nvPr/>
        </p:nvPicPr>
        <p:blipFill>
          <a:blip r:embed="rId1"/>
          <a:stretch/>
        </p:blipFill>
        <p:spPr>
          <a:xfrm>
            <a:off x="6948360" y="1484280"/>
            <a:ext cx="1781280" cy="1496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7003440" y="294480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дька чёрна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7" descr="астра"/>
          <p:cNvPicPr/>
          <p:nvPr/>
        </p:nvPicPr>
        <p:blipFill>
          <a:blip r:embed="rId2"/>
          <a:stretch/>
        </p:blipFill>
        <p:spPr>
          <a:xfrm>
            <a:off x="250920" y="1916280"/>
            <a:ext cx="1904760" cy="14223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858960" y="32860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стр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9" descr=""/>
          <p:cNvPicPr/>
          <p:nvPr/>
        </p:nvPicPr>
        <p:blipFill>
          <a:blip r:embed="rId3"/>
          <a:stretch/>
        </p:blipFill>
        <p:spPr>
          <a:xfrm>
            <a:off x="250920" y="3645000"/>
            <a:ext cx="1954080" cy="13809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788400" y="507204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апус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Picture 11" descr="красная смородина"/>
          <p:cNvPicPr/>
          <p:nvPr/>
        </p:nvPicPr>
        <p:blipFill>
          <a:blip r:embed="rId4"/>
          <a:stretch/>
        </p:blipFill>
        <p:spPr>
          <a:xfrm>
            <a:off x="6948360" y="3284640"/>
            <a:ext cx="1762200" cy="19098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2"/>
          <p:cNvSpPr/>
          <p:nvPr/>
        </p:nvSpPr>
        <p:spPr>
          <a:xfrm>
            <a:off x="7003440" y="517680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мород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18" descr=""/>
          <p:cNvPicPr/>
          <p:nvPr/>
        </p:nvPicPr>
        <p:blipFill>
          <a:blip r:embed="rId5"/>
          <a:stretch/>
        </p:blipFill>
        <p:spPr>
          <a:xfrm>
            <a:off x="3348000" y="1628640"/>
            <a:ext cx="2587680" cy="2293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9" descr=""/>
          <p:cNvPicPr/>
          <p:nvPr/>
        </p:nvPicPr>
        <p:blipFill>
          <a:blip r:embed="rId6"/>
          <a:stretch/>
        </p:blipFill>
        <p:spPr>
          <a:xfrm>
            <a:off x="3348000" y="4221000"/>
            <a:ext cx="2613240" cy="2203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0"/>
          <p:cNvSpPr/>
          <p:nvPr/>
        </p:nvSpPr>
        <p:spPr>
          <a:xfrm>
            <a:off x="3543840" y="388152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дька дика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3288960" y="649116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астушья сум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ние №2.Заполните таблиц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Picture 8" descr="msotw9_temp0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324000" y="2409840"/>
            <a:ext cx="4071960" cy="274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572000" y="2349360"/>
          <a:ext cx="3919680" cy="3638520"/>
        </p:xfrm>
        <a:graphic>
          <a:graphicData uri="http://schemas.openxmlformats.org/drawingml/2006/table">
            <a:tbl>
              <a:tblPr/>
              <a:tblGrid>
                <a:gridCol w="554040"/>
                <a:gridCol w="1747800"/>
                <a:gridCol w="1617840"/>
              </a:tblGrid>
              <a:tr h="12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орт капусты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рган растения, употребля-емый в пищу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3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елокочанна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льраб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Цветна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рюссельска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обенности растений семейств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семейство включает около 3200 видов растени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цветки с крестообразно расположенными лепестками, чашечка из 4 чашелистиков. Венчик из 4 лепестков, с 6 тычинками (2 короткие и 4 длинные) и 1 пестик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формула цветка крестоцветных Ч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Л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4+2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соцветие – кисть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плоды – стручки или стручочк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корневая система – стержнева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Кроссворд «Представители семейства «Крестоцветные»"/>
          <p:cNvPicPr/>
          <p:nvPr/>
        </p:nvPicPr>
        <p:blipFill>
          <a:blip r:embed="rId1"/>
          <a:stretch/>
        </p:blipFill>
        <p:spPr>
          <a:xfrm>
            <a:off x="357120" y="500040"/>
            <a:ext cx="8643960" cy="600084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5"/>
          <p:cNvSpPr/>
          <p:nvPr/>
        </p:nvSpPr>
        <p:spPr>
          <a:xfrm>
            <a:off x="2286000" y="-7419960"/>
            <a:ext cx="457200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1. Ценная масличная и кормовая культура. В семенах содержится 43-50% полувысыхающего масла, используемого непосредственно в пищу и для производства маргарина, а также как техническое. В масле содержится значительное количество эруковой кислоты, которая необходима химической промышленности при изготовлении высококачественного нейлона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2. Однолетник. Образует утолщённый корнеплод различных размеров, форм, окраски. Одно из самых популярных овощных растений открытого и закрытого грунта. Употребляется в пищу свежем виде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3. В первый год образует корнеплод (до 5 кг.) с розеткой крупных лировидных или перисто-рассеченных листьев, во второй – разветвлённый вверху цветоносный стебель. Многочисленные сорта различаются формой, размерами, окраской и вкусом (круглые, овальные, цилиндрические, конусовидные; белые, серые, чёрные). Корнеплоды используются в пищу сырыми. Широко используется в народной медицине от разных болезней, а также как диетический продукт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4. Двулетник. В первый год образует мощный корнеплод с розеткой крупных листьев, покрытых редкими щетинистыми волосками, на второй – вырастает разветвлённый стебель с цветками. Кормовой корнеплод, используется как сочный корм, используется в основном на силос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5. Двулетник. В первый год образует корнеплод, на второй – из корнеплода вырастает ветвистый стебель с цветками. Пищевой корнеплод. Специфичный запах и остроту придаёт горчичное масло. Употребляют её свежей, пареной, вареной, жареной, фаршированной. Раньше использовали в народной медицине при многих заболеваниях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6. Однолетнее яровое или озимое растение. Стебли прямые, ветвистые, опушенные. Семена содержат в среднем 35-38% жирного масла, которое используется преимущественно как смазочное, для изготовления олифы и мыла, реже употребляют в пищу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7. Двулетник. В первый год образует корнеплод, на второй – из корнеплода вырастает ветвистый стебель с цветками. В основном кормовая корнеплодная культура, широко используется и в пищу. Корнеплоды применяют в народной медицине при разных заболеваниях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8. Однолетник 50-150 см. высотой, ветвистый от основания. Одно из важных масленичных растений, реже разводится как овощное. Масло используют в пищу, в консервной и хлебопекарной промышленности, а также в технике. Размолотый жмых используют в качестве столовой горчицы, а также для изготовления горчичников и получения эфирного масла, применяемого в качестве антисептика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9. Семейство, включающее травянистые растения. Соцветие – кисть. Чашечка из 4 чашелистиков. Венчик из 4 лепестков,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28760" y="428760"/>
            <a:ext cx="417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Ценная масличная и кормовая культура. В семенах содержится 43-50% полувысыхающего масла, используемого непосредственно в пищу и для производства маргарина, а также как техническое. В масле содержится значительное количество эруковой кислоты, которая необходима химической промышленности при изготовлении высококачественного нейлон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днолетник. Образует утолщённый корнеплод различных размеров, форм, окраски. Одно из самых популярных овощных растений открытого и закрытого грунта. Употребляется в пищу свежем вид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В первый год образует корнеплод (до 5 кг.) с розеткой крупных лировидных или перисто-рассеченных листьев, во второй – разветвлённый вверху цветоносный стебель. Многочисленные сорта различаются формой, размерами, окраской и вкусом (круглые, овальные, цилиндрические, конусовидные; белые, серые, чёрные). Корнеплоды используются в пищу сырыми. Широко используется в народной медицине от разных болезней, а также как диетический продукт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Двулетник. В первый год образует мощный корнеплод с розеткой крупных листьев, покрытых редкими щетинистыми волосками, на второй – вырастает разветвлённый стебель с цветками. Кормовой корнеплод, используется как сочный корм, используется в основном на сило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1640" y="499680"/>
            <a:ext cx="41274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5. Двулетник. В первый год образует корнеплод, на второй – из корнеплода вырастает ветвистый стебель с цветками. Пищевой корнеплод. Специфичный запах и остроту придаёт горчичное масло. Употребляют её свежей, пареной, вареной, жареной, фаршированной. Раньше использовали в народной медицине при многих заболеваниях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6. Однолетнее яровое или озимое растение. Стебли прямые, ветвистые, опушенные. Семена содержат в среднем 35-38% жирного масла, которое используется преимущественно как смазочное, для изготовления олифы и мыла, реже употребляют в пищу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7. Двулетник. В первый год образует корнеплод, на второй – из корнеплода вырастает ветвистый стебель с цветками. В основном кормовая корнеплодная культура, широко используется и в пищу. Корнеплоды применяют в народной медицине при разных заболеваниях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8. Однолетник 50-150 см. высотой, ветвистый от основания. Одно из важных масленичных растений, реже разводится как овощное. Масло используют в пищу, в консервной и хлебопекарной промышленности, а также в технике. Размолотый жмых используют в качестве столовой горчицы, а также для изготовления горчичников и получения эфирного масла, применяемого в качестве антисептика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9. Семейство, включающее травянистые растения. Соцветие – кисть. Чашечка из 4 чашелистиков. Венчик из 4 лепестков, расположенных крест-накрест. Плоды – стручки или стручочки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b2-5[1]"/>
          <p:cNvPicPr/>
          <p:nvPr/>
        </p:nvPicPr>
        <p:blipFill>
          <a:blip r:embed="rId1"/>
          <a:stretch/>
        </p:blipFill>
        <p:spPr>
          <a:xfrm>
            <a:off x="0" y="214200"/>
            <a:ext cx="4714920" cy="64436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2" descr="Сурепица, или сурепка обыкновенная — Barbarea vulgaris R. Br."/>
          <p:cNvPicPr/>
          <p:nvPr/>
        </p:nvPicPr>
        <p:blipFill>
          <a:blip r:embed="rId2"/>
          <a:stretch/>
        </p:blipFill>
        <p:spPr>
          <a:xfrm>
            <a:off x="4857840" y="952560"/>
            <a:ext cx="4143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285840" y="29160"/>
            <a:ext cx="714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Ф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Ц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Блок-схема: перфолента 3"/>
          <p:cNvSpPr/>
          <p:nvPr/>
        </p:nvSpPr>
        <p:spPr>
          <a:xfrm>
            <a:off x="1000080" y="642960"/>
            <a:ext cx="7228080" cy="1643040"/>
          </a:xfrm>
          <a:prstGeom prst="flowChartPunchedTape">
            <a:avLst/>
          </a:prstGeom>
          <a:gradFill rotWithShape="0">
            <a:gsLst>
              <a:gs pos="0">
                <a:srgbClr val="bff0bf"/>
              </a:gs>
              <a:gs pos="100000">
                <a:srgbClr val="edfbed"/>
              </a:gs>
            </a:gsLst>
            <a:lin ang="16200000"/>
          </a:gradFill>
          <a:ln w="9360">
            <a:solidFill>
              <a:srgbClr val="86b68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46c0a"/>
                </a:solidFill>
                <a:latin typeface="Arial"/>
                <a:ea typeface="Times New Roman"/>
              </a:rPr>
              <a:t>      </a:t>
            </a:r>
            <a:r>
              <a:rPr b="0" lang="ru-RU" sz="5400" spc="-1" strike="noStrike">
                <a:solidFill>
                  <a:srgbClr val="e46c0a"/>
                </a:solidFill>
                <a:latin typeface="Arial"/>
                <a:ea typeface="Times New Roman"/>
              </a:rPr>
              <a:t>*  </a:t>
            </a:r>
            <a:r>
              <a:rPr b="0" lang="ru-RU" sz="4800" spc="-1" strike="noStrike">
                <a:solidFill>
                  <a:srgbClr val="e46c0a"/>
                </a:solidFill>
                <a:latin typeface="Arial"/>
                <a:ea typeface="Times New Roman"/>
              </a:rPr>
              <a:t>Ч </a:t>
            </a:r>
            <a:r>
              <a:rPr b="0" lang="ru-RU" sz="4800" spc="-1" strike="noStrike" baseline="-30000">
                <a:solidFill>
                  <a:srgbClr val="e46c0a"/>
                </a:solidFill>
                <a:latin typeface="Arial"/>
                <a:ea typeface="Times New Roman"/>
              </a:rPr>
              <a:t>4</a:t>
            </a:r>
            <a:r>
              <a:rPr b="0" lang="ru-RU" sz="4800" spc="-1" strike="noStrike">
                <a:solidFill>
                  <a:srgbClr val="e46c0a"/>
                </a:solidFill>
                <a:latin typeface="Arial"/>
                <a:ea typeface="Times New Roman"/>
              </a:rPr>
              <a:t> Л</a:t>
            </a:r>
            <a:r>
              <a:rPr b="0" lang="ru-RU" sz="4800" spc="-1" strike="noStrike" baseline="-30000">
                <a:solidFill>
                  <a:srgbClr val="e46c0a"/>
                </a:solidFill>
                <a:latin typeface="Arial"/>
                <a:ea typeface="Times New Roman"/>
              </a:rPr>
              <a:t> 4 </a:t>
            </a:r>
            <a:r>
              <a:rPr b="0" lang="ru-RU" sz="4800" spc="-1" strike="noStrike">
                <a:solidFill>
                  <a:srgbClr val="e46c0a"/>
                </a:solidFill>
                <a:latin typeface="Arial"/>
                <a:ea typeface="Times New Roman"/>
              </a:rPr>
              <a:t>Т </a:t>
            </a:r>
            <a:r>
              <a:rPr b="0" lang="ru-RU" sz="4800" spc="-1" strike="noStrike" baseline="-30000">
                <a:solidFill>
                  <a:srgbClr val="e46c0a"/>
                </a:solidFill>
                <a:latin typeface="Arial"/>
                <a:ea typeface="Times New Roman"/>
              </a:rPr>
              <a:t>4+2 </a:t>
            </a:r>
            <a:r>
              <a:rPr b="0" lang="ru-RU" sz="4800" spc="-1" strike="noStrike">
                <a:solidFill>
                  <a:srgbClr val="e46c0a"/>
                </a:solidFill>
                <a:latin typeface="Arial"/>
                <a:ea typeface="Times New Roman"/>
              </a:rPr>
              <a:t>П</a:t>
            </a:r>
            <a:r>
              <a:rPr b="0" lang="ru-RU" sz="4800" spc="-1" strike="noStrike" baseline="-30000">
                <a:solidFill>
                  <a:srgbClr val="e46c0a"/>
                </a:solidFill>
                <a:latin typeface="Arial"/>
                <a:ea typeface="Times New Roman"/>
              </a:rPr>
              <a:t>1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52280" y="152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рамма цветка Крестоцветны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msotw9_temp0"/>
          <p:cNvPicPr/>
          <p:nvPr/>
        </p:nvPicPr>
        <p:blipFill>
          <a:blip r:embed="rId1">
            <a:lum contrast="66000"/>
          </a:blip>
          <a:stretch/>
        </p:blipFill>
        <p:spPr>
          <a:xfrm>
            <a:off x="3132000" y="2492280"/>
            <a:ext cx="3337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корастущие растения семейств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едька дик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ДЬКА - род травянистых растений семейства крестоцветных. 6-8 видов в Ази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5021280" y="2800440"/>
            <a:ext cx="3306600" cy="2930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астушья сумка или сумочник пастуш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981000" y="2860560"/>
            <a:ext cx="3262320" cy="2751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умочник - род трав семейства крестоцветных. 5-7 видов, в умеренных и субтропических поясах. Сумочник пастуший - лекарственное растение, сорняк; молодые листья пригодны в пищу, из семян изготовляют суррогат горчиц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Ярутка полева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ЯРУТКА - род трав семейства крестоцветных. Ок. 70 видов, преимущественно в умеренном поясе Северного полушария, а также в Юж. Америке; в России несколько видов. Широко распространенная ярутка полевая - злостный сорняк посевов и огор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5156280" y="2917800"/>
            <a:ext cx="320184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улявник лекарственны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184400" y="2800440"/>
            <a:ext cx="3440160" cy="2930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УЛЯВНИК - род трав семейства крестоцветных. Ок. 90 видов, главным образом в умеренном поясе Северного полушария; в т. ч. ок. 25 видов на каменистых склонах, степях, лугах по течению Волги, Дона, Днепра, на Кавказе, Дальнем Востоке, в Сибири и Ср. Азии. Сорняки. Многие ядовиты. Молодые растения гулявника высокого и гулявника Лезеля поедаются верблюдами и овцами, дают хороший силос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15:24:28Z</dcterms:created>
  <dc:creator>user</dc:creator>
  <dc:description/>
  <dc:language>en-US</dc:language>
  <cp:lastModifiedBy>башкы</cp:lastModifiedBy>
  <dcterms:modified xsi:type="dcterms:W3CDTF">2013-12-24T05:00:21Z</dcterms:modified>
  <cp:revision>15</cp:revision>
  <dc:subject/>
  <dc:title>Класс Двудольные. Семейство Крестоцветные ( Капустные)</dc:title>
</cp:coreProperties>
</file>