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527A-123A-4285-8F8F-32BB4B33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C4C2-8C53-4E39-8C7E-9748605B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50E-5D42-4FB5-830F-E04BACE1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F1F4-664D-4E49-9C17-289E0150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3F2-ED9E-483F-86FA-BADF9894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9E27-0C7F-41C8-B573-C87BDD31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5D8-8275-45AD-9403-1AF0E96A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E77-1800-41B8-A364-79C1334B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DBD-AD73-48F3-A985-1F52572F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15C9-5161-4D18-B437-95BA9F06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617-305F-4641-BFEE-FCC56B7A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AD6-65EF-476E-A3F8-591DAFED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2B6D47-84A7-4069-96C5-FBE6C7121B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258920" y="404640"/>
            <a:ext cx="5905440" cy="4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тешеств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539640" y="1268280"/>
            <a:ext cx="7658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образовательному пространству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90800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"/>
          <p:cNvGrpSpPr/>
          <p:nvPr/>
        </p:nvGrpSpPr>
        <p:grpSpPr>
          <a:xfrm>
            <a:off x="0" y="549360"/>
            <a:ext cx="1332360" cy="1636560"/>
            <a:chOff x="0" y="549360"/>
            <a:chExt cx="1332360" cy="1636560"/>
          </a:xfrm>
        </p:grpSpPr>
        <p:pic>
          <p:nvPicPr>
            <p:cNvPr id="47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549360"/>
              <a:ext cx="128088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3"/>
            <p:cNvSpPr/>
            <p:nvPr/>
          </p:nvSpPr>
          <p:spPr>
            <a:xfrm rot="3240000">
              <a:off x="12240" y="1146240"/>
              <a:ext cx="136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7 х 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" name="Group 4"/>
          <p:cNvGrpSpPr/>
          <p:nvPr/>
        </p:nvGrpSpPr>
        <p:grpSpPr>
          <a:xfrm>
            <a:off x="2195640" y="260280"/>
            <a:ext cx="2661840" cy="2447640"/>
            <a:chOff x="2195640" y="260280"/>
            <a:chExt cx="2661840" cy="2447640"/>
          </a:xfrm>
        </p:grpSpPr>
        <p:sp>
          <p:nvSpPr>
            <p:cNvPr id="50" name="Rectangle 5"/>
            <p:cNvSpPr/>
            <p:nvPr/>
          </p:nvSpPr>
          <p:spPr>
            <a:xfrm>
              <a:off x="2195640" y="980280"/>
              <a:ext cx="502920" cy="1727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2410920" y="260280"/>
              <a:ext cx="2446560" cy="907560"/>
            </a:xfrm>
            <a:prstGeom prst="cloudCallout">
              <a:avLst>
                <a:gd name="adj1" fmla="val -45981"/>
                <a:gd name="adj2" fmla="val 3199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? : 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Group 7"/>
          <p:cNvGrpSpPr/>
          <p:nvPr/>
        </p:nvGrpSpPr>
        <p:grpSpPr>
          <a:xfrm>
            <a:off x="0" y="5084640"/>
            <a:ext cx="4138560" cy="1771560"/>
            <a:chOff x="0" y="5084640"/>
            <a:chExt cx="4138560" cy="1771560"/>
          </a:xfrm>
        </p:grpSpPr>
        <p:sp>
          <p:nvSpPr>
            <p:cNvPr id="53" name="Rectangle 8"/>
            <p:cNvSpPr/>
            <p:nvPr/>
          </p:nvSpPr>
          <p:spPr>
            <a:xfrm>
              <a:off x="0" y="6264720"/>
              <a:ext cx="4138560" cy="5914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0" y="5084640"/>
              <a:ext cx="2936880" cy="5914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0" y="5674680"/>
              <a:ext cx="3473280" cy="5896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Text Box 11"/>
          <p:cNvSpPr/>
          <p:nvPr/>
        </p:nvSpPr>
        <p:spPr>
          <a:xfrm>
            <a:off x="2484360" y="292428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539640" y="5661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18: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0" y="2637000"/>
            <a:ext cx="2843280" cy="2446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56 :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-252360" y="1700280"/>
            <a:ext cx="3313080" cy="93672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6 х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1476360" y="3068640"/>
            <a:ext cx="1081080" cy="136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3 х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250920" y="3068640"/>
            <a:ext cx="1081080" cy="136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3 х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"/>
          <p:cNvGrpSpPr/>
          <p:nvPr/>
        </p:nvGrpSpPr>
        <p:grpSpPr>
          <a:xfrm>
            <a:off x="250920" y="2642040"/>
            <a:ext cx="1294920" cy="1576800"/>
            <a:chOff x="250920" y="2642040"/>
            <a:chExt cx="1294920" cy="1576800"/>
          </a:xfrm>
        </p:grpSpPr>
        <p:grpSp>
          <p:nvGrpSpPr>
            <p:cNvPr id="63" name="Group 2"/>
            <p:cNvGrpSpPr/>
            <p:nvPr/>
          </p:nvGrpSpPr>
          <p:grpSpPr>
            <a:xfrm>
              <a:off x="250920" y="2727000"/>
              <a:ext cx="1294920" cy="1491840"/>
              <a:chOff x="250920" y="2727000"/>
              <a:chExt cx="1294920" cy="1491840"/>
            </a:xfrm>
          </p:grpSpPr>
          <p:sp>
            <p:nvSpPr>
              <p:cNvPr id="64" name="Line 3"/>
              <p:cNvSpPr/>
              <p:nvPr/>
            </p:nvSpPr>
            <p:spPr>
              <a:xfrm>
                <a:off x="855000" y="3125520"/>
                <a:ext cx="1080" cy="55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AutoShape 4"/>
              <p:cNvSpPr/>
              <p:nvPr/>
            </p:nvSpPr>
            <p:spPr>
              <a:xfrm>
                <a:off x="594720" y="2727000"/>
                <a:ext cx="548280" cy="338760"/>
              </a:xfrm>
              <a:prstGeom prst="smileyFace">
                <a:avLst>
                  <a:gd name="adj" fmla="val 9282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Oval 5"/>
              <p:cNvSpPr/>
              <p:nvPr/>
            </p:nvSpPr>
            <p:spPr>
              <a:xfrm>
                <a:off x="681840" y="3445200"/>
                <a:ext cx="259920" cy="1605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Oval 6"/>
              <p:cNvSpPr/>
              <p:nvPr/>
            </p:nvSpPr>
            <p:spPr>
              <a:xfrm>
                <a:off x="1285920" y="3472920"/>
                <a:ext cx="259920" cy="1605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Line 7"/>
              <p:cNvSpPr/>
              <p:nvPr/>
            </p:nvSpPr>
            <p:spPr>
              <a:xfrm>
                <a:off x="855000" y="3073680"/>
                <a:ext cx="108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Line 8"/>
              <p:cNvSpPr/>
              <p:nvPr/>
            </p:nvSpPr>
            <p:spPr>
              <a:xfrm>
                <a:off x="724680" y="3125520"/>
                <a:ext cx="303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1027800" y="3125520"/>
                <a:ext cx="300960" cy="400680"/>
              </a:xfrm>
              <a:custGeom>
                <a:avLst/>
                <a:gdLst/>
                <a:ahLst/>
                <a:rect l="l" t="t" r="r" b="b"/>
                <a:pathLst>
                  <a:path w="453" h="1134">
                    <a:moveTo>
                      <a:pt x="0" y="0"/>
                    </a:moveTo>
                    <a:cubicBezTo>
                      <a:pt x="49" y="155"/>
                      <a:pt x="98" y="310"/>
                      <a:pt x="136" y="454"/>
                    </a:cubicBezTo>
                    <a:cubicBezTo>
                      <a:pt x="174" y="598"/>
                      <a:pt x="174" y="749"/>
                      <a:pt x="227" y="862"/>
                    </a:cubicBezTo>
                    <a:cubicBezTo>
                      <a:pt x="280" y="975"/>
                      <a:pt x="415" y="1096"/>
                      <a:pt x="453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509400" y="3125520"/>
                <a:ext cx="215280" cy="347040"/>
              </a:xfrm>
              <a:custGeom>
                <a:avLst/>
                <a:gdLst/>
                <a:ahLst/>
                <a:rect l="l" t="t" r="r" b="b"/>
                <a:pathLst>
                  <a:path w="226" h="590">
                    <a:moveTo>
                      <a:pt x="226" y="0"/>
                    </a:moveTo>
                    <a:cubicBezTo>
                      <a:pt x="113" y="42"/>
                      <a:pt x="0" y="84"/>
                      <a:pt x="0" y="182"/>
                    </a:cubicBezTo>
                    <a:cubicBezTo>
                      <a:pt x="0" y="280"/>
                      <a:pt x="188" y="522"/>
                      <a:pt x="226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855000" y="3685680"/>
                <a:ext cx="302760" cy="528480"/>
              </a:xfrm>
              <a:custGeom>
                <a:avLst/>
                <a:gdLst/>
                <a:ahLst/>
                <a:rect l="l" t="t" r="r" b="b"/>
                <a:pathLst>
                  <a:path w="318" h="899">
                    <a:moveTo>
                      <a:pt x="0" y="0"/>
                    </a:moveTo>
                    <a:cubicBezTo>
                      <a:pt x="106" y="113"/>
                      <a:pt x="212" y="227"/>
                      <a:pt x="227" y="363"/>
                    </a:cubicBezTo>
                    <a:cubicBezTo>
                      <a:pt x="242" y="499"/>
                      <a:pt x="76" y="733"/>
                      <a:pt x="91" y="816"/>
                    </a:cubicBezTo>
                    <a:cubicBezTo>
                      <a:pt x="106" y="899"/>
                      <a:pt x="280" y="854"/>
                      <a:pt x="318" y="86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250920" y="3685680"/>
                <a:ext cx="604080" cy="533160"/>
              </a:xfrm>
              <a:custGeom>
                <a:avLst/>
                <a:gdLst/>
                <a:ahLst/>
                <a:rect l="l" t="t" r="r" b="b"/>
                <a:pathLst>
                  <a:path w="634" h="907">
                    <a:moveTo>
                      <a:pt x="634" y="0"/>
                    </a:moveTo>
                    <a:cubicBezTo>
                      <a:pt x="615" y="143"/>
                      <a:pt x="596" y="287"/>
                      <a:pt x="498" y="408"/>
                    </a:cubicBezTo>
                    <a:cubicBezTo>
                      <a:pt x="400" y="529"/>
                      <a:pt x="90" y="643"/>
                      <a:pt x="45" y="726"/>
                    </a:cubicBezTo>
                    <a:cubicBezTo>
                      <a:pt x="0" y="809"/>
                      <a:pt x="196" y="877"/>
                      <a:pt x="226" y="9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AutoShape 13"/>
            <p:cNvSpPr/>
            <p:nvPr/>
          </p:nvSpPr>
          <p:spPr>
            <a:xfrm rot="11280000">
              <a:off x="639360" y="2674440"/>
              <a:ext cx="476280" cy="133200"/>
            </a:xfrm>
            <a:prstGeom prst="cloudCallout">
              <a:avLst>
                <a:gd name="adj1" fmla="val 13055"/>
                <a:gd name="adj2" fmla="val -1141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Group 14"/>
          <p:cNvGrpSpPr/>
          <p:nvPr/>
        </p:nvGrpSpPr>
        <p:grpSpPr>
          <a:xfrm>
            <a:off x="250920" y="404640"/>
            <a:ext cx="1293480" cy="1655640"/>
            <a:chOff x="250920" y="404640"/>
            <a:chExt cx="1293480" cy="1655640"/>
          </a:xfrm>
        </p:grpSpPr>
        <p:grpSp>
          <p:nvGrpSpPr>
            <p:cNvPr id="76" name="Group 15"/>
            <p:cNvGrpSpPr/>
            <p:nvPr/>
          </p:nvGrpSpPr>
          <p:grpSpPr>
            <a:xfrm>
              <a:off x="250920" y="433440"/>
              <a:ext cx="1293480" cy="1626840"/>
              <a:chOff x="250920" y="433440"/>
              <a:chExt cx="1293480" cy="1626840"/>
            </a:xfrm>
          </p:grpSpPr>
          <p:sp>
            <p:nvSpPr>
              <p:cNvPr id="77" name="Line 16"/>
              <p:cNvSpPr/>
              <p:nvPr/>
            </p:nvSpPr>
            <p:spPr>
              <a:xfrm>
                <a:off x="852480" y="869400"/>
                <a:ext cx="1440" cy="61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AutoShape 17"/>
              <p:cNvSpPr/>
              <p:nvPr/>
            </p:nvSpPr>
            <p:spPr>
              <a:xfrm>
                <a:off x="594360" y="433440"/>
                <a:ext cx="547560" cy="369360"/>
              </a:xfrm>
              <a:prstGeom prst="smileyFace">
                <a:avLst>
                  <a:gd name="adj" fmla="val 9282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8"/>
              <p:cNvSpPr/>
              <p:nvPr/>
            </p:nvSpPr>
            <p:spPr>
              <a:xfrm>
                <a:off x="681480" y="1218600"/>
                <a:ext cx="259560" cy="1742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9"/>
              <p:cNvSpPr/>
              <p:nvPr/>
            </p:nvSpPr>
            <p:spPr>
              <a:xfrm>
                <a:off x="1284840" y="1247040"/>
                <a:ext cx="259560" cy="1742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Line 20"/>
              <p:cNvSpPr/>
              <p:nvPr/>
            </p:nvSpPr>
            <p:spPr>
              <a:xfrm>
                <a:off x="852480" y="810720"/>
                <a:ext cx="144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Line 21"/>
              <p:cNvSpPr/>
              <p:nvPr/>
            </p:nvSpPr>
            <p:spPr>
              <a:xfrm>
                <a:off x="724320" y="869400"/>
                <a:ext cx="302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Freeform 22"/>
              <p:cNvSpPr/>
              <p:nvPr/>
            </p:nvSpPr>
            <p:spPr>
              <a:xfrm>
                <a:off x="1025280" y="869400"/>
                <a:ext cx="300960" cy="435600"/>
              </a:xfrm>
              <a:custGeom>
                <a:avLst/>
                <a:gdLst/>
                <a:ahLst/>
                <a:rect l="l" t="t" r="r" b="b"/>
                <a:pathLst>
                  <a:path w="453" h="1134">
                    <a:moveTo>
                      <a:pt x="0" y="0"/>
                    </a:moveTo>
                    <a:cubicBezTo>
                      <a:pt x="49" y="155"/>
                      <a:pt x="98" y="310"/>
                      <a:pt x="136" y="454"/>
                    </a:cubicBezTo>
                    <a:cubicBezTo>
                      <a:pt x="174" y="598"/>
                      <a:pt x="174" y="749"/>
                      <a:pt x="227" y="862"/>
                    </a:cubicBezTo>
                    <a:cubicBezTo>
                      <a:pt x="280" y="975"/>
                      <a:pt x="415" y="1096"/>
                      <a:pt x="453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23"/>
              <p:cNvSpPr/>
              <p:nvPr/>
            </p:nvSpPr>
            <p:spPr>
              <a:xfrm>
                <a:off x="509040" y="869400"/>
                <a:ext cx="214920" cy="377280"/>
              </a:xfrm>
              <a:custGeom>
                <a:avLst/>
                <a:gdLst/>
                <a:ahLst/>
                <a:rect l="l" t="t" r="r" b="b"/>
                <a:pathLst>
                  <a:path w="226" h="590">
                    <a:moveTo>
                      <a:pt x="226" y="0"/>
                    </a:moveTo>
                    <a:cubicBezTo>
                      <a:pt x="113" y="42"/>
                      <a:pt x="0" y="84"/>
                      <a:pt x="0" y="182"/>
                    </a:cubicBezTo>
                    <a:cubicBezTo>
                      <a:pt x="0" y="280"/>
                      <a:pt x="188" y="522"/>
                      <a:pt x="226" y="5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24"/>
              <p:cNvSpPr/>
              <p:nvPr/>
            </p:nvSpPr>
            <p:spPr>
              <a:xfrm>
                <a:off x="852480" y="1479960"/>
                <a:ext cx="302760" cy="575640"/>
              </a:xfrm>
              <a:custGeom>
                <a:avLst/>
                <a:gdLst/>
                <a:ahLst/>
                <a:rect l="l" t="t" r="r" b="b"/>
                <a:pathLst>
                  <a:path w="318" h="899">
                    <a:moveTo>
                      <a:pt x="0" y="0"/>
                    </a:moveTo>
                    <a:cubicBezTo>
                      <a:pt x="106" y="113"/>
                      <a:pt x="212" y="227"/>
                      <a:pt x="227" y="363"/>
                    </a:cubicBezTo>
                    <a:cubicBezTo>
                      <a:pt x="242" y="499"/>
                      <a:pt x="76" y="733"/>
                      <a:pt x="91" y="816"/>
                    </a:cubicBezTo>
                    <a:cubicBezTo>
                      <a:pt x="106" y="899"/>
                      <a:pt x="280" y="854"/>
                      <a:pt x="318" y="86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25"/>
              <p:cNvSpPr/>
              <p:nvPr/>
            </p:nvSpPr>
            <p:spPr>
              <a:xfrm>
                <a:off x="250920" y="1479960"/>
                <a:ext cx="603360" cy="580320"/>
              </a:xfrm>
              <a:custGeom>
                <a:avLst/>
                <a:gdLst/>
                <a:ahLst/>
                <a:rect l="l" t="t" r="r" b="b"/>
                <a:pathLst>
                  <a:path w="634" h="907">
                    <a:moveTo>
                      <a:pt x="634" y="0"/>
                    </a:moveTo>
                    <a:cubicBezTo>
                      <a:pt x="615" y="143"/>
                      <a:pt x="596" y="287"/>
                      <a:pt x="498" y="408"/>
                    </a:cubicBezTo>
                    <a:cubicBezTo>
                      <a:pt x="400" y="529"/>
                      <a:pt x="90" y="643"/>
                      <a:pt x="45" y="726"/>
                    </a:cubicBezTo>
                    <a:cubicBezTo>
                      <a:pt x="0" y="809"/>
                      <a:pt x="196" y="877"/>
                      <a:pt x="226" y="9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" name="AutoShape 26"/>
            <p:cNvSpPr/>
            <p:nvPr/>
          </p:nvSpPr>
          <p:spPr>
            <a:xfrm>
              <a:off x="639720" y="404640"/>
              <a:ext cx="476280" cy="87480"/>
            </a:xfrm>
            <a:custGeom>
              <a:avLst/>
              <a:gdLst>
                <a:gd name="textAreaLeft" fmla="*/ 119160 w 476280"/>
                <a:gd name="textAreaRight" fmla="*/ 357480 w 476280"/>
                <a:gd name="textAreaTop" fmla="*/ 7668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4725" stAng="16200000" swAng="5400000"/>
                  <a:lnTo>
                    <a:pt x="8100" y="18900"/>
                  </a:lnTo>
                  <a:lnTo>
                    <a:pt x="13500" y="18900"/>
                  </a:lnTo>
                  <a:lnTo>
                    <a:pt x="13500" y="4725"/>
                  </a:lnTo>
                  <a:arcTo wR="675" hR="4725" stAng="10800000" swAng="5400000"/>
                  <a:lnTo>
                    <a:pt x="21600" y="0"/>
                  </a:lnTo>
                  <a:lnTo>
                    <a:pt x="18900" y="1350"/>
                  </a:lnTo>
                  <a:lnTo>
                    <a:pt x="21600" y="2700"/>
                  </a:lnTo>
                  <a:lnTo>
                    <a:pt x="16200" y="2700"/>
                  </a:lnTo>
                  <a:lnTo>
                    <a:pt x="16200" y="16875"/>
                  </a:lnTo>
                  <a:arcTo wR="675" hR="4725" stAng="0" swAng="5400000"/>
                  <a:lnTo>
                    <a:pt x="6075" y="21600"/>
                  </a:lnTo>
                  <a:arcTo wR="675" hR="4725" stAng="5400000" swAng="5400000"/>
                  <a:lnTo>
                    <a:pt x="5400" y="2700"/>
                  </a:lnTo>
                  <a:lnTo>
                    <a:pt x="0" y="2700"/>
                  </a:lnTo>
                  <a:lnTo>
                    <a:pt x="2700" y="1350"/>
                  </a:lnTo>
                  <a:close/>
                </a:path>
                <a:path fill="none" w="21600" h="21600">
                  <a:moveTo>
                    <a:pt x="8100" y="4725"/>
                  </a:moveTo>
                  <a:arcTo wR="675" hR="4725" stAng="0" swAng="5400000"/>
                  <a:lnTo>
                    <a:pt x="6075" y="9450"/>
                  </a:lnTo>
                  <a:arcTo wR="675" hR="4725" stAng="16200000" swAng="-5400000"/>
                  <a:arcTo wR="675" hR="4725" stAng="10800000" swAng="-5400000"/>
                  <a:lnTo>
                    <a:pt x="8100" y="18900"/>
                  </a:lnTo>
                </a:path>
                <a:path fill="none" w="21600" h="21600">
                  <a:moveTo>
                    <a:pt x="13500" y="4725"/>
                  </a:moveTo>
                  <a:arcTo wR="675" hR="4725" stAng="10800000" swAng="-5400000"/>
                  <a:lnTo>
                    <a:pt x="15525" y="9450"/>
                  </a:lnTo>
                  <a:arcTo wR="675" hR="4725" stAng="16200000" swAng="5400000"/>
                  <a:arcTo wR="675" hR="4725" stAng="0" swAng="5400000"/>
                  <a:lnTo>
                    <a:pt x="13500" y="18900"/>
                  </a:lnTo>
                </a:path>
                <a:path fill="none" w="21600" h="21600">
                  <a:moveTo>
                    <a:pt x="5400" y="14175"/>
                  </a:moveTo>
                  <a:lnTo>
                    <a:pt x="5400" y="2700"/>
                  </a:lnTo>
                </a:path>
                <a:path fill="none" w="21600" h="21600">
                  <a:moveTo>
                    <a:pt x="16200" y="14175"/>
                  </a:moveTo>
                  <a:lnTo>
                    <a:pt x="16200" y="27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Text Box 27"/>
          <p:cNvSpPr/>
          <p:nvPr/>
        </p:nvSpPr>
        <p:spPr>
          <a:xfrm>
            <a:off x="971640" y="1700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1187280" y="39337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9"/>
          <p:cNvSpPr/>
          <p:nvPr/>
        </p:nvSpPr>
        <p:spPr>
          <a:xfrm>
            <a:off x="1979640" y="1125360"/>
            <a:ext cx="504720" cy="1224000"/>
          </a:xfrm>
          <a:prstGeom prst="line">
            <a:avLst/>
          </a:prstGeom>
          <a:ln w="92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30"/>
          <p:cNvSpPr/>
          <p:nvPr/>
        </p:nvSpPr>
        <p:spPr>
          <a:xfrm flipV="1">
            <a:off x="1763640" y="2490840"/>
            <a:ext cx="792360" cy="1084320"/>
          </a:xfrm>
          <a:prstGeom prst="line">
            <a:avLst/>
          </a:prstGeom>
          <a:ln w="92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31"/>
          <p:cNvSpPr/>
          <p:nvPr/>
        </p:nvSpPr>
        <p:spPr>
          <a:xfrm>
            <a:off x="2700360" y="1844640"/>
            <a:ext cx="1440000" cy="1440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2"/>
          <p:cNvSpPr/>
          <p:nvPr/>
        </p:nvSpPr>
        <p:spPr>
          <a:xfrm>
            <a:off x="4211640" y="1413000"/>
            <a:ext cx="36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по 6 челове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33"/>
          <p:cNvSpPr/>
          <p:nvPr/>
        </p:nvSpPr>
        <p:spPr>
          <a:xfrm>
            <a:off x="4211640" y="260280"/>
            <a:ext cx="1440" cy="41752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34"/>
          <p:cNvSpPr/>
          <p:nvPr/>
        </p:nvSpPr>
        <p:spPr>
          <a:xfrm>
            <a:off x="7812000" y="333360"/>
            <a:ext cx="1800" cy="41752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5"/>
          <p:cNvSpPr/>
          <p:nvPr/>
        </p:nvSpPr>
        <p:spPr>
          <a:xfrm>
            <a:off x="7740720" y="1916280"/>
            <a:ext cx="158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Arial"/>
              </a:rPr>
              <a:t>? 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1"/>
          <p:cNvGrpSpPr/>
          <p:nvPr/>
        </p:nvGrpSpPr>
        <p:grpSpPr>
          <a:xfrm>
            <a:off x="457200" y="274680"/>
            <a:ext cx="8227800" cy="5873400"/>
            <a:chOff x="457200" y="274680"/>
            <a:chExt cx="8227800" cy="5873400"/>
          </a:xfrm>
        </p:grpSpPr>
        <p:sp>
          <p:nvSpPr>
            <p:cNvPr id="98" name="Rectangle 2"/>
            <p:cNvSpPr/>
            <p:nvPr/>
          </p:nvSpPr>
          <p:spPr>
            <a:xfrm>
              <a:off x="7861680" y="539136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3"/>
            <p:cNvSpPr/>
            <p:nvPr/>
          </p:nvSpPr>
          <p:spPr>
            <a:xfrm>
              <a:off x="7038000" y="5391360"/>
              <a:ext cx="8236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4"/>
            <p:cNvSpPr/>
            <p:nvPr/>
          </p:nvSpPr>
          <p:spPr>
            <a:xfrm>
              <a:off x="6216120" y="539136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Rectangle 5"/>
            <p:cNvSpPr/>
            <p:nvPr/>
          </p:nvSpPr>
          <p:spPr>
            <a:xfrm>
              <a:off x="5392440" y="5391360"/>
              <a:ext cx="8236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4570560" y="539136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3748320" y="539136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2924640" y="5391360"/>
              <a:ext cx="8236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2102760" y="539136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1279080" y="5391360"/>
              <a:ext cx="8236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457200" y="539136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861680" y="4634640"/>
              <a:ext cx="82188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7038000" y="4634640"/>
              <a:ext cx="82368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14"/>
            <p:cNvSpPr/>
            <p:nvPr/>
          </p:nvSpPr>
          <p:spPr>
            <a:xfrm>
              <a:off x="6216120" y="4634640"/>
              <a:ext cx="82188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15"/>
            <p:cNvSpPr/>
            <p:nvPr/>
          </p:nvSpPr>
          <p:spPr>
            <a:xfrm>
              <a:off x="5392440" y="4634640"/>
              <a:ext cx="82368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6"/>
            <p:cNvSpPr/>
            <p:nvPr/>
          </p:nvSpPr>
          <p:spPr>
            <a:xfrm>
              <a:off x="4570560" y="4634640"/>
              <a:ext cx="82188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7"/>
            <p:cNvSpPr/>
            <p:nvPr/>
          </p:nvSpPr>
          <p:spPr>
            <a:xfrm>
              <a:off x="3748320" y="4634640"/>
              <a:ext cx="82188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2924640" y="4634640"/>
              <a:ext cx="82368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2102760" y="4634640"/>
              <a:ext cx="82188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1279080" y="4634640"/>
              <a:ext cx="82368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457200" y="4634640"/>
              <a:ext cx="82188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22"/>
            <p:cNvSpPr/>
            <p:nvPr/>
          </p:nvSpPr>
          <p:spPr>
            <a:xfrm>
              <a:off x="7861680" y="387936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23"/>
            <p:cNvSpPr/>
            <p:nvPr/>
          </p:nvSpPr>
          <p:spPr>
            <a:xfrm>
              <a:off x="7038000" y="3879360"/>
              <a:ext cx="8236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24"/>
            <p:cNvSpPr/>
            <p:nvPr/>
          </p:nvSpPr>
          <p:spPr>
            <a:xfrm>
              <a:off x="6216120" y="387936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25"/>
            <p:cNvSpPr/>
            <p:nvPr/>
          </p:nvSpPr>
          <p:spPr>
            <a:xfrm>
              <a:off x="5392440" y="3879360"/>
              <a:ext cx="8236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6"/>
            <p:cNvSpPr/>
            <p:nvPr/>
          </p:nvSpPr>
          <p:spPr>
            <a:xfrm>
              <a:off x="4570560" y="387936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27"/>
            <p:cNvSpPr/>
            <p:nvPr/>
          </p:nvSpPr>
          <p:spPr>
            <a:xfrm>
              <a:off x="3748320" y="387936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28"/>
            <p:cNvSpPr/>
            <p:nvPr/>
          </p:nvSpPr>
          <p:spPr>
            <a:xfrm>
              <a:off x="2924640" y="3879360"/>
              <a:ext cx="8236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29"/>
            <p:cNvSpPr/>
            <p:nvPr/>
          </p:nvSpPr>
          <p:spPr>
            <a:xfrm>
              <a:off x="2102760" y="387936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0"/>
            <p:cNvSpPr/>
            <p:nvPr/>
          </p:nvSpPr>
          <p:spPr>
            <a:xfrm>
              <a:off x="1279080" y="3879360"/>
              <a:ext cx="8236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31"/>
            <p:cNvSpPr/>
            <p:nvPr/>
          </p:nvSpPr>
          <p:spPr>
            <a:xfrm>
              <a:off x="457200" y="387936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7861680" y="3119400"/>
              <a:ext cx="8218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7038000" y="3119400"/>
              <a:ext cx="8236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34"/>
            <p:cNvSpPr/>
            <p:nvPr/>
          </p:nvSpPr>
          <p:spPr>
            <a:xfrm>
              <a:off x="6216120" y="3119400"/>
              <a:ext cx="8218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35"/>
            <p:cNvSpPr/>
            <p:nvPr/>
          </p:nvSpPr>
          <p:spPr>
            <a:xfrm>
              <a:off x="5392440" y="3119400"/>
              <a:ext cx="8236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36"/>
            <p:cNvSpPr/>
            <p:nvPr/>
          </p:nvSpPr>
          <p:spPr>
            <a:xfrm>
              <a:off x="4570560" y="3119400"/>
              <a:ext cx="8218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37"/>
            <p:cNvSpPr/>
            <p:nvPr/>
          </p:nvSpPr>
          <p:spPr>
            <a:xfrm>
              <a:off x="3748320" y="3119400"/>
              <a:ext cx="8218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38"/>
            <p:cNvSpPr/>
            <p:nvPr/>
          </p:nvSpPr>
          <p:spPr>
            <a:xfrm>
              <a:off x="2924640" y="3119400"/>
              <a:ext cx="8236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39"/>
            <p:cNvSpPr/>
            <p:nvPr/>
          </p:nvSpPr>
          <p:spPr>
            <a:xfrm>
              <a:off x="2102760" y="3119400"/>
              <a:ext cx="8218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40"/>
            <p:cNvSpPr/>
            <p:nvPr/>
          </p:nvSpPr>
          <p:spPr>
            <a:xfrm>
              <a:off x="1279080" y="3119400"/>
              <a:ext cx="8236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41"/>
            <p:cNvSpPr/>
            <p:nvPr/>
          </p:nvSpPr>
          <p:spPr>
            <a:xfrm>
              <a:off x="457200" y="3119400"/>
              <a:ext cx="8218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42"/>
            <p:cNvSpPr/>
            <p:nvPr/>
          </p:nvSpPr>
          <p:spPr>
            <a:xfrm>
              <a:off x="7861680" y="2541600"/>
              <a:ext cx="8218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43"/>
            <p:cNvSpPr/>
            <p:nvPr/>
          </p:nvSpPr>
          <p:spPr>
            <a:xfrm>
              <a:off x="7038000" y="2541600"/>
              <a:ext cx="8236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44"/>
            <p:cNvSpPr/>
            <p:nvPr/>
          </p:nvSpPr>
          <p:spPr>
            <a:xfrm>
              <a:off x="6216120" y="2541600"/>
              <a:ext cx="8218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45"/>
            <p:cNvSpPr/>
            <p:nvPr/>
          </p:nvSpPr>
          <p:spPr>
            <a:xfrm>
              <a:off x="5392440" y="2541600"/>
              <a:ext cx="8236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46"/>
            <p:cNvSpPr/>
            <p:nvPr/>
          </p:nvSpPr>
          <p:spPr>
            <a:xfrm>
              <a:off x="4570560" y="2541600"/>
              <a:ext cx="8218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47"/>
            <p:cNvSpPr/>
            <p:nvPr/>
          </p:nvSpPr>
          <p:spPr>
            <a:xfrm>
              <a:off x="3748320" y="2541600"/>
              <a:ext cx="8218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48"/>
            <p:cNvSpPr/>
            <p:nvPr/>
          </p:nvSpPr>
          <p:spPr>
            <a:xfrm>
              <a:off x="2924640" y="2541600"/>
              <a:ext cx="8236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49"/>
            <p:cNvSpPr/>
            <p:nvPr/>
          </p:nvSpPr>
          <p:spPr>
            <a:xfrm>
              <a:off x="2102760" y="2541600"/>
              <a:ext cx="8218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50"/>
            <p:cNvSpPr/>
            <p:nvPr/>
          </p:nvSpPr>
          <p:spPr>
            <a:xfrm>
              <a:off x="1279080" y="2541600"/>
              <a:ext cx="8236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51"/>
            <p:cNvSpPr/>
            <p:nvPr/>
          </p:nvSpPr>
          <p:spPr>
            <a:xfrm>
              <a:off x="457200" y="2541600"/>
              <a:ext cx="8218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2"/>
            <p:cNvSpPr/>
            <p:nvPr/>
          </p:nvSpPr>
          <p:spPr>
            <a:xfrm>
              <a:off x="7861680" y="178632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53"/>
            <p:cNvSpPr/>
            <p:nvPr/>
          </p:nvSpPr>
          <p:spPr>
            <a:xfrm>
              <a:off x="7038000" y="1786320"/>
              <a:ext cx="8236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54"/>
            <p:cNvSpPr/>
            <p:nvPr/>
          </p:nvSpPr>
          <p:spPr>
            <a:xfrm>
              <a:off x="6216120" y="178632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55"/>
            <p:cNvSpPr/>
            <p:nvPr/>
          </p:nvSpPr>
          <p:spPr>
            <a:xfrm>
              <a:off x="5392440" y="1786320"/>
              <a:ext cx="8236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56"/>
            <p:cNvSpPr/>
            <p:nvPr/>
          </p:nvSpPr>
          <p:spPr>
            <a:xfrm>
              <a:off x="4570560" y="178632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57"/>
            <p:cNvSpPr/>
            <p:nvPr/>
          </p:nvSpPr>
          <p:spPr>
            <a:xfrm>
              <a:off x="3748320" y="178632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58"/>
            <p:cNvSpPr/>
            <p:nvPr/>
          </p:nvSpPr>
          <p:spPr>
            <a:xfrm>
              <a:off x="2924640" y="1786320"/>
              <a:ext cx="8236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9"/>
            <p:cNvSpPr/>
            <p:nvPr/>
          </p:nvSpPr>
          <p:spPr>
            <a:xfrm>
              <a:off x="2102760" y="178632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60"/>
            <p:cNvSpPr/>
            <p:nvPr/>
          </p:nvSpPr>
          <p:spPr>
            <a:xfrm>
              <a:off x="1279080" y="1786320"/>
              <a:ext cx="8236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61"/>
            <p:cNvSpPr/>
            <p:nvPr/>
          </p:nvSpPr>
          <p:spPr>
            <a:xfrm>
              <a:off x="457200" y="178632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62"/>
            <p:cNvSpPr/>
            <p:nvPr/>
          </p:nvSpPr>
          <p:spPr>
            <a:xfrm>
              <a:off x="7861680" y="1029600"/>
              <a:ext cx="82188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63"/>
            <p:cNvSpPr/>
            <p:nvPr/>
          </p:nvSpPr>
          <p:spPr>
            <a:xfrm>
              <a:off x="7038000" y="1029600"/>
              <a:ext cx="82368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64"/>
            <p:cNvSpPr/>
            <p:nvPr/>
          </p:nvSpPr>
          <p:spPr>
            <a:xfrm>
              <a:off x="6216120" y="1029600"/>
              <a:ext cx="82188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5"/>
            <p:cNvSpPr/>
            <p:nvPr/>
          </p:nvSpPr>
          <p:spPr>
            <a:xfrm>
              <a:off x="5392440" y="1029600"/>
              <a:ext cx="82368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66"/>
            <p:cNvSpPr/>
            <p:nvPr/>
          </p:nvSpPr>
          <p:spPr>
            <a:xfrm>
              <a:off x="4570560" y="1029600"/>
              <a:ext cx="82188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67"/>
            <p:cNvSpPr/>
            <p:nvPr/>
          </p:nvSpPr>
          <p:spPr>
            <a:xfrm>
              <a:off x="3748320" y="1029600"/>
              <a:ext cx="82188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68"/>
            <p:cNvSpPr/>
            <p:nvPr/>
          </p:nvSpPr>
          <p:spPr>
            <a:xfrm>
              <a:off x="2924640" y="1029600"/>
              <a:ext cx="82368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69"/>
            <p:cNvSpPr/>
            <p:nvPr/>
          </p:nvSpPr>
          <p:spPr>
            <a:xfrm>
              <a:off x="2102760" y="1029600"/>
              <a:ext cx="82188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70"/>
            <p:cNvSpPr/>
            <p:nvPr/>
          </p:nvSpPr>
          <p:spPr>
            <a:xfrm>
              <a:off x="1279080" y="1029600"/>
              <a:ext cx="82368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71"/>
            <p:cNvSpPr/>
            <p:nvPr/>
          </p:nvSpPr>
          <p:spPr>
            <a:xfrm>
              <a:off x="457200" y="1029600"/>
              <a:ext cx="82188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72"/>
            <p:cNvSpPr/>
            <p:nvPr/>
          </p:nvSpPr>
          <p:spPr>
            <a:xfrm>
              <a:off x="7861680" y="27468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73"/>
            <p:cNvSpPr/>
            <p:nvPr/>
          </p:nvSpPr>
          <p:spPr>
            <a:xfrm>
              <a:off x="7038000" y="274680"/>
              <a:ext cx="8236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74"/>
            <p:cNvSpPr/>
            <p:nvPr/>
          </p:nvSpPr>
          <p:spPr>
            <a:xfrm>
              <a:off x="6216120" y="27468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75"/>
            <p:cNvSpPr/>
            <p:nvPr/>
          </p:nvSpPr>
          <p:spPr>
            <a:xfrm>
              <a:off x="5392440" y="274680"/>
              <a:ext cx="8236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76"/>
            <p:cNvSpPr/>
            <p:nvPr/>
          </p:nvSpPr>
          <p:spPr>
            <a:xfrm>
              <a:off x="4570560" y="27468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77"/>
            <p:cNvSpPr/>
            <p:nvPr/>
          </p:nvSpPr>
          <p:spPr>
            <a:xfrm>
              <a:off x="3748320" y="27468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78"/>
            <p:cNvSpPr/>
            <p:nvPr/>
          </p:nvSpPr>
          <p:spPr>
            <a:xfrm>
              <a:off x="2924640" y="274680"/>
              <a:ext cx="8236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Cyr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79"/>
            <p:cNvSpPr/>
            <p:nvPr/>
          </p:nvSpPr>
          <p:spPr>
            <a:xfrm>
              <a:off x="2102760" y="27468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80"/>
            <p:cNvSpPr/>
            <p:nvPr/>
          </p:nvSpPr>
          <p:spPr>
            <a:xfrm>
              <a:off x="1279080" y="274680"/>
              <a:ext cx="8236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81"/>
            <p:cNvSpPr/>
            <p:nvPr/>
          </p:nvSpPr>
          <p:spPr>
            <a:xfrm>
              <a:off x="457200" y="274680"/>
              <a:ext cx="82188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57200" y="274680"/>
              <a:ext cx="2467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57200" y="6146640"/>
              <a:ext cx="8218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57200" y="274680"/>
              <a:ext cx="1080" cy="2266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8683920" y="274680"/>
              <a:ext cx="1080" cy="2266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2924640" y="274680"/>
              <a:ext cx="82368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3748320" y="274680"/>
              <a:ext cx="164376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2924640" y="1029600"/>
              <a:ext cx="16455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2924640" y="274680"/>
              <a:ext cx="1440" cy="511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3748320" y="274680"/>
              <a:ext cx="1080" cy="511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5392440" y="274680"/>
              <a:ext cx="82368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6216120" y="274680"/>
              <a:ext cx="2467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5392440" y="1029600"/>
              <a:ext cx="82368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5392440" y="274680"/>
              <a:ext cx="1440" cy="511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6216120" y="274680"/>
              <a:ext cx="1080" cy="511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1279080" y="1029600"/>
              <a:ext cx="82368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1279080" y="1786320"/>
              <a:ext cx="82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1279080" y="1029600"/>
              <a:ext cx="1440" cy="511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2102760" y="1029600"/>
              <a:ext cx="1080" cy="511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2924640" y="1786320"/>
              <a:ext cx="164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570560" y="1029600"/>
              <a:ext cx="1080" cy="360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5392440" y="1786320"/>
              <a:ext cx="82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7038000" y="1786320"/>
              <a:ext cx="82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7038000" y="1786320"/>
              <a:ext cx="1440" cy="209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7861680" y="1786320"/>
              <a:ext cx="1080" cy="209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57200" y="2541600"/>
              <a:ext cx="822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457200" y="3119400"/>
              <a:ext cx="822672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457200" y="2541600"/>
              <a:ext cx="1080" cy="57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457200" y="3119400"/>
              <a:ext cx="1080" cy="30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8683920" y="2541600"/>
              <a:ext cx="1080" cy="57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8683920" y="3119400"/>
              <a:ext cx="1080" cy="30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1279080" y="3879360"/>
              <a:ext cx="82368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2924640" y="3879360"/>
              <a:ext cx="16455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392440" y="3879360"/>
              <a:ext cx="82368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7038000" y="3879360"/>
              <a:ext cx="82368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1279080" y="4634640"/>
              <a:ext cx="82368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2924640" y="4634640"/>
              <a:ext cx="16455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392440" y="4634640"/>
              <a:ext cx="82368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1279080" y="5391360"/>
              <a:ext cx="82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2924640" y="5391360"/>
              <a:ext cx="82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5392440" y="5391360"/>
              <a:ext cx="82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1279080" y="6146640"/>
              <a:ext cx="82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2102760" y="6146640"/>
              <a:ext cx="6580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Text Box 124"/>
          <p:cNvSpPr/>
          <p:nvPr/>
        </p:nvSpPr>
        <p:spPr>
          <a:xfrm>
            <a:off x="1476360" y="1052640"/>
            <a:ext cx="441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25"/>
          <p:cNvSpPr/>
          <p:nvPr/>
        </p:nvSpPr>
        <p:spPr>
          <a:xfrm>
            <a:off x="3059280" y="404640"/>
            <a:ext cx="64908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26"/>
          <p:cNvSpPr/>
          <p:nvPr/>
        </p:nvSpPr>
        <p:spPr>
          <a:xfrm>
            <a:off x="3851280" y="1125360"/>
            <a:ext cx="576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27"/>
          <p:cNvSpPr/>
          <p:nvPr/>
        </p:nvSpPr>
        <p:spPr>
          <a:xfrm>
            <a:off x="5508720" y="476280"/>
            <a:ext cx="43164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28"/>
          <p:cNvSpPr/>
          <p:nvPr/>
        </p:nvSpPr>
        <p:spPr>
          <a:xfrm>
            <a:off x="7216920" y="1717560"/>
            <a:ext cx="458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29"/>
          <p:cNvSpPr/>
          <p:nvPr/>
        </p:nvSpPr>
        <p:spPr>
          <a:xfrm>
            <a:off x="539640" y="256536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М     А       Т     Е      М      А      Т      И      К      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2-05T13:56:52Z</dcterms:modified>
  <cp:revision>4</cp:revision>
  <dc:subject/>
  <dc:title>Слайд 1</dc:title>
</cp:coreProperties>
</file>