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C0E-8844-457E-B2A2-6094F87E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CF3-00C8-4EAC-9185-C9C5E68D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6CD-7DA6-40EE-A42D-435301CA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5B26-D494-4BA3-9373-80EF9C7A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88F0-3A54-4FB4-A1C3-61A80FCA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79C8-560B-45FD-AC1B-76763B59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AF5A-0477-4F64-B132-88F44564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0AB2-DD27-4C1D-83D1-6D09D9B5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4A37-E93F-467F-B905-E150A062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7A5C-F44F-49C4-A111-A4940F8A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972F-2BB3-42F5-9F5B-910EC3D1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D89-9F06-4EA4-896B-4E5F6969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19E1-4F45-47DA-9D9F-CF7FE6F4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5C35-7CE6-4BB8-9823-37796670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44CB-2DCC-443D-941C-C7030EC7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12C7-6ED0-4097-BFDC-221C7743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BEE3-3F07-433B-B85A-BF1AAC4A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09857-4C15-4F58-8515-275DBFFE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C74AB-44C8-4B60-82D6-D6CE5C07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772C3-F9A4-4DD0-BB37-3FE374CD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2A950-DA1D-4BE7-A370-30F8D9EE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81827-C0DD-47F8-921F-2CA32CC3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09CD-496E-4C55-8DD4-A7D1832F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E632C-BD88-410E-ADD1-228A4BD8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04592-3307-421D-B91D-25AD80C4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A1338-6309-4D41-B49B-62778351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1863F-32F6-44AA-9BF4-0412DDF2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53CBF-9370-49D7-8E8D-D4231ED2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B511F-2B87-41BD-B039-9AB8AE87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6EE1D-4679-484D-8F2B-02FDF63D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AE794-8F7C-4793-A803-F7A5334C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EF333-BB28-4326-AC4A-9EC01BF8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2BF49-FED7-438B-8FB6-DA1B7DF9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ADF-9D9C-4BA3-82D5-7DCA0148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06F0C-C912-440F-B600-3B94789F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5BA72-F91B-4495-956F-594CE7B2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5E302-B604-427A-B082-1A5CBE45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58DC8-19DF-45A5-A891-EA1CF057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29AAE-739D-4E41-B885-D86ACAE3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1DAB9-7AB9-4705-8CEC-7A33FB2A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1A1ED-5137-44C2-9F26-F0C2C80E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25D83-1282-4885-8077-BE9DDA53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1DF44-95DA-4AD2-B67A-89D1C341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A81F1D-A615-4A35-BCD1-A2BB01B6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FBA-AA6F-4C28-B33A-34B6212D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859034-967B-40A1-B062-7A5B9B82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6E3605-0E96-41D1-8C14-AA581BAA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2EABA4-CD97-4C23-9695-0417D34E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DB9937-03A9-421B-A4B6-1C424492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5BEC4-9A45-46A3-BF7F-9E1B5099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668769-BD1F-41EF-A588-542EBF5B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7987F-BFDA-4964-9F7B-217D9733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E01719-C463-4C8E-B35A-3E14FC86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CE318-0078-495D-87B8-99877FE6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646A4-4C5A-449E-B7CC-A1E37FCB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F5B-814C-466D-8167-1A3ECB85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BEF3D7-BBBC-45BC-B612-CBD1A580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D74F1-9596-4C5D-AB0D-136107B0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DAD72-207B-4A7F-A5C6-BA125F58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FB8E6-1055-4B18-BD43-96AE0C05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2FBC0-A2A5-4DAC-8DC8-8FDBFCF5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A68A9-EEB1-492E-8E67-1C9B90E0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C45A0-BE99-4170-889D-59A1CF32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C6F81-7A70-4801-B27B-8A681924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717F5-60E4-4C61-AD58-21676EF0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6A341-6398-48E1-8366-AE848FBE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4C3-9789-484C-A5C3-3CA1B022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F7DC3-63D2-4D6F-A80D-212E144B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182BB-30FA-4485-A59B-21613B25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3299C-DD6E-492A-955F-429E84FA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D3A-92DF-4947-8C16-CFE50151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719-1BDB-4CE0-9913-A8C8D272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Lucida Sans Unicode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Lucida Sans Unicode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Lucida Sans Unicode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FC89-E8F1-4E0A-9AA2-DF277E25500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Lucida Sans Unicode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4C6D-F7EC-41F8-9D85-07D1C34B53DB}" type="slidenum"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Lucida Sans Unicode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Lucida Sans Unicode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Lucida Sans Unicode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Lucida Sans Unicode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C786-D088-45C0-8FCD-F61890176EC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6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7" name="Прямоугольник 7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8" name="Прямоугольник 8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9" name="Прямоугольник 9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eb80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0" name="Прямоугольник 10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1" name="Скругленный прямоугольник 11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2" name="Скругленный прямоугольник 12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3" name="Прямоугольник 13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4" name="Прямоугольник 14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5" name="Прямоугольник 15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6" name="Прямоугольник 16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Lucida Sans Unicode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C910-E583-4C8D-BDFC-126D258612CA}" type="slidenum"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0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1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2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3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4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5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6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7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8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99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0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Lucida Sans Unicode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9A14-3657-412A-B105-B414199FD6A4}" type="slidenum"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3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4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5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6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7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8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49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0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1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2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3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4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Lucida Sans Unicode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87DF-506E-46EF-81D8-A67F08387FBC}" type="slidenum"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ический семинар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ндар Элина Артуров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БОУ Шамбалыгской СО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читель начальных классов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ж  0,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тегория н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гры на уро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        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начительная часть игр дает возможность учащимся сделать то или иное обобщение, осознать правила, которые только что изучили, закрепить, повторить полученные знания в системе, в новых связях, что способствует более глубокому усвоению изученного материа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        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пример, на уроках математики при закреплении учащимися знания таблицы сложения с переходом через десяток часто используют иг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ймай рыбку”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доске висит таблица, с изображённым на ней аквариумом с рыбками. На каждой рыбке записан один из следующих примеров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7+8      9+3       9+7    15-7        9+6     14-6        16-8      18-9     13-6     8+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вое учащихся выходят к доске и по команде начинают решать числовые выражения, остальные учащиеся выполняют задания самостоятельно  в тетради. По истечении отведенного  времени на вычисление, ученики сверяют полученные  ответы с доской.  Ученик, находившийся  у доски, который решил большее количество выражений - поймал больше рыбок. Он считается лучшим рыбаком в этой игр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амый быстрый почтальон”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ель раздает пяти ученикам по одинаковому числу карточек,  где на обратной стороне  записано выражение на сложение и вычитание. Учащиеся, сидящие за партами, изображают дома с номерами (они держат в руке разрезанные цифры -  числа от 0 до 10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чтальоны должны быстро определить на конверте номер дома (найти значение выражения) и разнести письма в соответствующие дома (отдать детям, у которых карточки с цифрами, обозначающие ответы числовых выражений, записанных на конвертах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        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то быстро и правильно разнесет письма по назначенному адресу, тот самый быстрый почтальон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7" descr=""/>
          <p:cNvPicPr/>
          <p:nvPr/>
        </p:nvPicPr>
        <p:blipFill>
          <a:blip r:embed="rId1"/>
          <a:stretch/>
        </p:blipFill>
        <p:spPr>
          <a:xfrm>
            <a:off x="5364000" y="4653000"/>
            <a:ext cx="1152720" cy="1741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1904760" cy="1524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"/>
          <p:cNvPicPr/>
          <p:nvPr/>
        </p:nvPicPr>
        <p:blipFill>
          <a:blip r:embed="rId3"/>
          <a:stretch/>
        </p:blipFill>
        <p:spPr>
          <a:xfrm>
            <a:off x="3419640" y="1341360"/>
            <a:ext cx="1904760" cy="1638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"/>
          <p:cNvPicPr/>
          <p:nvPr/>
        </p:nvPicPr>
        <p:blipFill>
          <a:blip r:embed="rId4"/>
          <a:stretch/>
        </p:blipFill>
        <p:spPr>
          <a:xfrm>
            <a:off x="7238880" y="134136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"/>
          <p:cNvPicPr/>
          <p:nvPr/>
        </p:nvPicPr>
        <p:blipFill>
          <a:blip r:embed="rId5"/>
          <a:stretch/>
        </p:blipFill>
        <p:spPr>
          <a:xfrm>
            <a:off x="0" y="479736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"/>
          <p:cNvPicPr/>
          <p:nvPr/>
        </p:nvPicPr>
        <p:blipFill>
          <a:blip r:embed="rId6"/>
          <a:stretch/>
        </p:blipFill>
        <p:spPr>
          <a:xfrm>
            <a:off x="7093080" y="4797360"/>
            <a:ext cx="1904760" cy="173376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9" descr=""/>
          <p:cNvPicPr/>
          <p:nvPr/>
        </p:nvPicPr>
        <p:blipFill>
          <a:blip r:embed="rId7"/>
          <a:stretch/>
        </p:blipFill>
        <p:spPr>
          <a:xfrm>
            <a:off x="103320" y="371520"/>
            <a:ext cx="9047160" cy="903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00927"/>
          <p:cNvPicPr/>
          <p:nvPr/>
        </p:nvPicPr>
        <p:blipFill>
          <a:blip r:embed="rId8"/>
          <a:stretch/>
        </p:blipFill>
        <p:spPr>
          <a:xfrm>
            <a:off x="1692360" y="4581360"/>
            <a:ext cx="1368360" cy="1157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c05d1b22a159"/>
          <p:cNvPicPr/>
          <p:nvPr/>
        </p:nvPicPr>
        <p:blipFill>
          <a:blip r:embed="rId9"/>
          <a:stretch/>
        </p:blipFill>
        <p:spPr>
          <a:xfrm>
            <a:off x="4067280" y="5229360"/>
            <a:ext cx="1112760" cy="1158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wild0072 G"/>
          <p:cNvPicPr/>
          <p:nvPr/>
        </p:nvPicPr>
        <p:blipFill>
          <a:blip r:embed="rId10"/>
          <a:stretch/>
        </p:blipFill>
        <p:spPr>
          <a:xfrm>
            <a:off x="250920" y="3284640"/>
            <a:ext cx="1620720" cy="136836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9" descr="f656dd202865.jpg"/>
          <p:cNvPicPr/>
          <p:nvPr/>
        </p:nvPicPr>
        <p:blipFill>
          <a:blip r:embed="rId11"/>
          <a:stretch/>
        </p:blipFill>
        <p:spPr>
          <a:xfrm>
            <a:off x="5867280" y="2637000"/>
            <a:ext cx="1136880" cy="1612800"/>
          </a:xfrm>
          <a:prstGeom prst="rect">
            <a:avLst/>
          </a:prstGeom>
          <a:ln w="0">
            <a:noFill/>
          </a:ln>
        </p:spPr>
      </p:pic>
      <p:sp>
        <p:nvSpPr>
          <p:cNvPr id="331" name="Скругленная прямоугольная выноска 15"/>
          <p:cNvSpPr/>
          <p:nvPr/>
        </p:nvSpPr>
        <p:spPr>
          <a:xfrm rot="193200">
            <a:off x="1701720" y="2879280"/>
            <a:ext cx="930240" cy="357120"/>
          </a:xfrm>
          <a:prstGeom prst="wedgeRoundRectCallout">
            <a:avLst>
              <a:gd name="adj1" fmla="val -28726"/>
              <a:gd name="adj2" fmla="val 201185"/>
              <a:gd name="adj3" fmla="val 16667"/>
            </a:avLst>
          </a:prstGeom>
          <a:solidFill>
            <a:srgbClr val="ffffff"/>
          </a:solidFill>
          <a:ln w="25560">
            <a:solidFill>
              <a:srgbClr val="8ab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7- 4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2" name="Скругленная прямоугольная выноска 17"/>
          <p:cNvSpPr/>
          <p:nvPr/>
        </p:nvSpPr>
        <p:spPr>
          <a:xfrm rot="193200">
            <a:off x="5950080" y="4247640"/>
            <a:ext cx="930240" cy="357480"/>
          </a:xfrm>
          <a:prstGeom prst="wedgeRoundRectCallout">
            <a:avLst>
              <a:gd name="adj1" fmla="val -27615"/>
              <a:gd name="adj2" fmla="val 197972"/>
              <a:gd name="adj3" fmla="val 16667"/>
            </a:avLst>
          </a:prstGeom>
          <a:solidFill>
            <a:srgbClr val="ffffff"/>
          </a:solidFill>
          <a:ln w="25560">
            <a:solidFill>
              <a:srgbClr val="8ab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3+2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3" name="Скругленная прямоугольная выноска 18"/>
          <p:cNvSpPr/>
          <p:nvPr/>
        </p:nvSpPr>
        <p:spPr>
          <a:xfrm rot="193200">
            <a:off x="2629080" y="3957480"/>
            <a:ext cx="934920" cy="357480"/>
          </a:xfrm>
          <a:prstGeom prst="wedgeRoundRectCallout">
            <a:avLst>
              <a:gd name="adj1" fmla="val -9828"/>
              <a:gd name="adj2" fmla="val 207569"/>
              <a:gd name="adj3" fmla="val 16667"/>
            </a:avLst>
          </a:prstGeom>
          <a:solidFill>
            <a:srgbClr val="ffffff"/>
          </a:solidFill>
          <a:ln w="25560">
            <a:solidFill>
              <a:srgbClr val="8ab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3+1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4" name="Скругленная прямоугольная выноска 19"/>
          <p:cNvSpPr/>
          <p:nvPr/>
        </p:nvSpPr>
        <p:spPr>
          <a:xfrm rot="193200">
            <a:off x="3573360" y="4890960"/>
            <a:ext cx="785880" cy="357480"/>
          </a:xfrm>
          <a:prstGeom prst="wedgeRoundRectCallout">
            <a:avLst>
              <a:gd name="adj1" fmla="val 6921"/>
              <a:gd name="adj2" fmla="val 211592"/>
              <a:gd name="adj3" fmla="val 16667"/>
            </a:avLst>
          </a:prstGeom>
          <a:solidFill>
            <a:srgbClr val="ffffff"/>
          </a:solidFill>
          <a:ln w="25560">
            <a:solidFill>
              <a:srgbClr val="8ab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8-2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5" name="Скругленная прямоугольная выноска 20"/>
          <p:cNvSpPr/>
          <p:nvPr/>
        </p:nvSpPr>
        <p:spPr>
          <a:xfrm rot="193200">
            <a:off x="5581800" y="2293920"/>
            <a:ext cx="938160" cy="357120"/>
          </a:xfrm>
          <a:prstGeom prst="wedgeRoundRectCallout">
            <a:avLst>
              <a:gd name="adj1" fmla="val 12652"/>
              <a:gd name="adj2" fmla="val 220037"/>
              <a:gd name="adj3" fmla="val 16667"/>
            </a:avLst>
          </a:prstGeom>
          <a:solidFill>
            <a:srgbClr val="ffffff"/>
          </a:solidFill>
          <a:ln w="25560">
            <a:solidFill>
              <a:srgbClr val="8ab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5+4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6" name="Прямоугольник 21"/>
          <p:cNvSpPr/>
          <p:nvPr/>
        </p:nvSpPr>
        <p:spPr>
          <a:xfrm>
            <a:off x="250560" y="11970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Lucida Sans Unicode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7" name="Прямоугольник 22"/>
          <p:cNvSpPr/>
          <p:nvPr/>
        </p:nvSpPr>
        <p:spPr>
          <a:xfrm>
            <a:off x="4786920" y="11970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Lucida Sans Unicode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8" name="Прямоугольник 23"/>
          <p:cNvSpPr/>
          <p:nvPr/>
        </p:nvSpPr>
        <p:spPr>
          <a:xfrm>
            <a:off x="7018920" y="11970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Lucida Sans Unicode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9" name="Прямоугольник 24"/>
          <p:cNvSpPr/>
          <p:nvPr/>
        </p:nvSpPr>
        <p:spPr>
          <a:xfrm>
            <a:off x="0" y="4653000"/>
            <a:ext cx="31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Lucida Sans Unicode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40" name="Прямоугольник 25"/>
          <p:cNvSpPr/>
          <p:nvPr/>
        </p:nvSpPr>
        <p:spPr>
          <a:xfrm>
            <a:off x="8387280" y="47242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Lucida Sans Unicode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341" name="Picture 15" descr="133581"/>
          <p:cNvPicPr/>
          <p:nvPr/>
        </p:nvPicPr>
        <p:blipFill>
          <a:blip r:embed="rId12"/>
          <a:stretch/>
        </p:blipFill>
        <p:spPr>
          <a:xfrm>
            <a:off x="3780000" y="3357720"/>
            <a:ext cx="1368360" cy="1584000"/>
          </a:xfrm>
          <a:prstGeom prst="rect">
            <a:avLst/>
          </a:prstGeom>
          <a:ln w="0">
            <a:noFill/>
          </a:ln>
        </p:spPr>
      </p:pic>
      <p:sp>
        <p:nvSpPr>
          <p:cNvPr id="342" name="Скругленная прямоугольная выноска 27"/>
          <p:cNvSpPr/>
          <p:nvPr/>
        </p:nvSpPr>
        <p:spPr>
          <a:xfrm rot="193200">
            <a:off x="3932280" y="2958840"/>
            <a:ext cx="1227240" cy="357120"/>
          </a:xfrm>
          <a:prstGeom prst="wedgeRoundRectCallout">
            <a:avLst>
              <a:gd name="adj1" fmla="val -2624"/>
              <a:gd name="adj2" fmla="val 215666"/>
              <a:gd name="adj3" fmla="val 16667"/>
            </a:avLst>
          </a:prstGeom>
          <a:solidFill>
            <a:srgbClr val="ffffff"/>
          </a:solidFill>
          <a:ln w="25560">
            <a:solidFill>
              <a:srgbClr val="8ab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0-2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6.66667E-006 L -0.06303 0.12617 E">
                                      <p:cBhvr>
                                        <p:cTn id="6" dur="1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7.40741E-007 L -0.26546 -0.51505 E">
                                      <p:cBhvr>
                                        <p:cTn id="16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111E-006 L 0.26771 -0.19953 E">
                                      <p:cBhvr>
                                        <p:cTn id="21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5.18519E-006 L 0.30712 -0.22036 E">
                                      <p:cBhvr>
                                        <p:cTn id="26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11111E-006 L 0.05504 0.32547 E">
                                      <p:cBhvr>
                                        <p:cTn id="31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Главное значение  игр в следующе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начительно повышается познавательный интерес младших школьников к обучению грамот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аждый урок становиться более ярким, необычным, эмоционально насыщенны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ктивизируется учебно-познавательная деятельность младших школьник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азвивается положительная мотивация учения, произвольное внимание, увеличивается работоспособнос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538560" y="724320"/>
            <a:ext cx="8066880" cy="112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32d2e"/>
                </a:solidFill>
                <a:latin typeface="Arial"/>
              </a:rPr>
              <a:t>Кто лишний?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46" name="Picture 13" descr="C:\Documents and Settings\av@tar\Мои документы\Мои рисунки\Рисунок3.jpg"/>
          <p:cNvPicPr/>
          <p:nvPr/>
        </p:nvPicPr>
        <p:blipFill>
          <a:blip r:embed="rId1"/>
          <a:stretch/>
        </p:blipFill>
        <p:spPr>
          <a:xfrm>
            <a:off x="642960" y="1571760"/>
            <a:ext cx="1670040" cy="3035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347" name="Picture 14" descr="C:\Documents and Settings\av@tar\Мои документы\Мои рисунки\Рисунок4.jpg"/>
          <p:cNvPicPr/>
          <p:nvPr/>
        </p:nvPicPr>
        <p:blipFill>
          <a:blip r:embed="rId2"/>
          <a:srcRect l="3082" t="0" r="0" b="4856"/>
          <a:stretch/>
        </p:blipFill>
        <p:spPr>
          <a:xfrm>
            <a:off x="4214880" y="1857240"/>
            <a:ext cx="2252520" cy="2737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348" name="Picture 8" descr="C:\Documents and Settings\avatar\Мои документы\Мои рисунки\Винни-Пух.jpg"/>
          <p:cNvPicPr/>
          <p:nvPr/>
        </p:nvPicPr>
        <p:blipFill>
          <a:blip r:embed="rId3"/>
          <a:srcRect l="0" t="0" r="0" b="9473"/>
          <a:stretch/>
        </p:blipFill>
        <p:spPr>
          <a:xfrm>
            <a:off x="1643040" y="4500720"/>
            <a:ext cx="1828800" cy="201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349" name="Picture 7" descr="C:\Documents and Settings\av@tar\Мои документы\Мои рисунки\49.jpg"/>
          <p:cNvPicPr/>
          <p:nvPr/>
        </p:nvPicPr>
        <p:blipFill>
          <a:blip r:embed="rId4"/>
          <a:stretch/>
        </p:blipFill>
        <p:spPr>
          <a:xfrm>
            <a:off x="3352680" y="4638600"/>
            <a:ext cx="1884600" cy="1811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C:\Documents and Settings\avatar\Мои документы\Мои рисунки\кролик.jpg"/>
          <p:cNvPicPr/>
          <p:nvPr/>
        </p:nvPicPr>
        <p:blipFill>
          <a:blip r:embed="rId5">
            <a:lum contrast="20000"/>
          </a:blip>
          <a:srcRect l="42323" t="0" r="3713" b="5770"/>
          <a:stretch/>
        </p:blipFill>
        <p:spPr>
          <a:xfrm>
            <a:off x="6786720" y="3429000"/>
            <a:ext cx="1512720" cy="2592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38200" y="795600"/>
            <a:ext cx="8309880" cy="112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13204"/>
                </a:solidFill>
                <a:latin typeface="Arial"/>
              </a:rPr>
              <a:t>Дополни верхний ряд предметами из изображенных ниж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2" name="Picture 6" descr=""/>
          <p:cNvPicPr/>
          <p:nvPr/>
        </p:nvPicPr>
        <p:blipFill>
          <a:blip r:embed="rId1"/>
          <a:stretch/>
        </p:blipFill>
        <p:spPr>
          <a:xfrm>
            <a:off x="3929040" y="2357280"/>
            <a:ext cx="1224000" cy="10875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appler"/>
          <p:cNvPicPr/>
          <p:nvPr/>
        </p:nvPicPr>
        <p:blipFill>
          <a:blip r:embed="rId2"/>
          <a:stretch/>
        </p:blipFill>
        <p:spPr>
          <a:xfrm>
            <a:off x="928800" y="228600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"/>
          <p:cNvPicPr/>
          <p:nvPr/>
        </p:nvPicPr>
        <p:blipFill>
          <a:blip r:embed="rId3"/>
          <a:stretch/>
        </p:blipFill>
        <p:spPr>
          <a:xfrm>
            <a:off x="5643720" y="2428920"/>
            <a:ext cx="979200" cy="1224000"/>
          </a:xfrm>
          <a:prstGeom prst="rect">
            <a:avLst/>
          </a:prstGeom>
          <a:ln w="0">
            <a:noFill/>
          </a:ln>
        </p:spPr>
      </p:pic>
      <p:sp>
        <p:nvSpPr>
          <p:cNvPr id="355" name="Oval 10"/>
          <p:cNvSpPr/>
          <p:nvPr/>
        </p:nvSpPr>
        <p:spPr>
          <a:xfrm>
            <a:off x="2571840" y="242892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356" name="Picture 13" descr=""/>
          <p:cNvPicPr/>
          <p:nvPr/>
        </p:nvPicPr>
        <p:blipFill>
          <a:blip r:embed="rId4"/>
          <a:stretch/>
        </p:blipFill>
        <p:spPr>
          <a:xfrm>
            <a:off x="4000680" y="421488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4" descr="GRAPHIC_f8"/>
          <p:cNvPicPr/>
          <p:nvPr/>
        </p:nvPicPr>
        <p:blipFill>
          <a:blip r:embed="rId5"/>
          <a:stretch/>
        </p:blipFill>
        <p:spPr>
          <a:xfrm>
            <a:off x="714240" y="4357800"/>
            <a:ext cx="1656000" cy="842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GRAPHIC_f34"/>
          <p:cNvPicPr/>
          <p:nvPr/>
        </p:nvPicPr>
        <p:blipFill>
          <a:blip r:embed="rId6"/>
          <a:stretch/>
        </p:blipFill>
        <p:spPr>
          <a:xfrm>
            <a:off x="7143840" y="4071960"/>
            <a:ext cx="1225440" cy="12016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7" descr=""/>
          <p:cNvPicPr/>
          <p:nvPr/>
        </p:nvPicPr>
        <p:blipFill>
          <a:blip r:embed="rId7"/>
          <a:stretch/>
        </p:blipFill>
        <p:spPr>
          <a:xfrm>
            <a:off x="2484360" y="3860640"/>
            <a:ext cx="1295640" cy="897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8" descr="2a47b024bb070ae8259d21a3a50b973a_full"/>
          <p:cNvPicPr/>
          <p:nvPr/>
        </p:nvPicPr>
        <p:blipFill>
          <a:blip r:embed="rId8"/>
          <a:stretch/>
        </p:blipFill>
        <p:spPr>
          <a:xfrm>
            <a:off x="5715000" y="3786120"/>
            <a:ext cx="1152360" cy="11527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22"/>
          <p:cNvSpPr/>
          <p:nvPr/>
        </p:nvSpPr>
        <p:spPr>
          <a:xfrm>
            <a:off x="3924360" y="5661000"/>
            <a:ext cx="18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Lucida Sans Unicode"/>
              </a:rPr>
              <a:t>По цвету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3924360" y="57340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Lucida Sans Unicode"/>
              </a:rPr>
              <a:t>По форме</a:t>
            </a:r>
            <a:endParaRPr b="0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grpSp>
        <p:nvGrpSpPr>
          <p:cNvPr id="363" name="Group 21"/>
          <p:cNvGrpSpPr/>
          <p:nvPr/>
        </p:nvGrpSpPr>
        <p:grpSpPr>
          <a:xfrm>
            <a:off x="2987640" y="5516640"/>
            <a:ext cx="3600360" cy="1081080"/>
            <a:chOff x="2987640" y="5516640"/>
            <a:chExt cx="3600360" cy="1081080"/>
          </a:xfrm>
        </p:grpSpPr>
        <p:sp>
          <p:nvSpPr>
            <p:cNvPr id="364" name="AutoShape 19"/>
            <p:cNvSpPr/>
            <p:nvPr/>
          </p:nvSpPr>
          <p:spPr>
            <a:xfrm>
              <a:off x="2987640" y="5516640"/>
              <a:ext cx="3600360" cy="1081080"/>
            </a:xfrm>
            <a:prstGeom prst="roundRect">
              <a:avLst>
                <a:gd name="adj" fmla="val 16667"/>
              </a:avLst>
            </a:prstGeom>
            <a:solidFill>
              <a:srgbClr val="99cc99"/>
            </a:soli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Lucida Sans Unicode"/>
              </a:endParaRPr>
            </a:p>
          </p:txBody>
        </p:sp>
        <p:sp>
          <p:nvSpPr>
            <p:cNvPr id="365" name="Text Box 20"/>
            <p:cNvSpPr/>
            <p:nvPr/>
          </p:nvSpPr>
          <p:spPr>
            <a:xfrm>
              <a:off x="3203280" y="5803920"/>
              <a:ext cx="302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66"/>
                  </a:solidFill>
                  <a:latin typeface="Lucida Sans Unicode"/>
                </a:rPr>
                <a:t>Проверка</a:t>
              </a:r>
              <a:endParaRPr b="0" lang="en-US" sz="2800" spc="-1" strike="noStrike">
                <a:solidFill>
                  <a:srgbClr val="003366"/>
                </a:solidFill>
                <a:latin typeface="Lucida Sans Unicode"/>
              </a:endParaRPr>
            </a:p>
          </p:txBody>
        </p:sp>
      </p:grpSp>
      <p:sp>
        <p:nvSpPr>
          <p:cNvPr id="366" name="TextBox 16"/>
          <p:cNvSpPr/>
          <p:nvPr/>
        </p:nvSpPr>
        <p:spPr>
          <a:xfrm>
            <a:off x="7286760" y="228600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c000"/>
                </a:solidFill>
                <a:latin typeface="Lucida Sans Unicode"/>
              </a:rPr>
              <a:t>?</a:t>
            </a:r>
            <a:endParaRPr b="0" lang="en-US" sz="96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8.67362E-019 L 5.55556E-007 -0.58796 E">
                                      <p:cBhvr>
                                        <p:cTn id="66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4.44444E-006 L -0.10226 -0.25185 E">
                                      <p:cBhvr>
                                        <p:cTn id="6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28438 -0.28356 E">
                                      <p:cBhvr>
                                        <p:cTn id="72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0.06684 -0.2449 E">
                                      <p:cBhvr>
                                        <p:cTn id="75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59259E-006 L -0.00382 -0.59444 E">
                                      <p:cBhvr>
                                        <p:cTn id="93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40741E-007 L 0.504 -0.23333 E">
                                      <p:cBhvr>
                                        <p:cTn id="96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611280" y="867960"/>
            <a:ext cx="792144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13204"/>
                </a:solidFill>
                <a:latin typeface="Arial"/>
              </a:rPr>
              <a:t>Зачеркни  все буквы, встречающиеся более одного раза, а оставшиеся буквы соедини. </a:t>
            </a:r>
            <a:br>
              <a:rPr sz="3200"/>
            </a:br>
            <a:r>
              <a:rPr b="0" i="1" lang="ru-RU" sz="3200" spc="-1" strike="noStrike">
                <a:solidFill>
                  <a:srgbClr val="713204"/>
                </a:solidFill>
                <a:latin typeface="Arial"/>
              </a:rPr>
              <a:t>Какое число получится?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57120" y="3000240"/>
            <a:ext cx="65721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5519"/>
                </a:solidFill>
                <a:latin typeface="Arial"/>
              </a:rPr>
              <a:t>Один два три сто сода руль и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5519"/>
                </a:solidFill>
                <a:latin typeface="Arial"/>
              </a:rPr>
              <a:t>Восемь два три семь пан тра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5519"/>
                </a:solidFill>
                <a:latin typeface="Arial"/>
              </a:rPr>
              <a:t>Три один сто ремонт нуль дул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5519"/>
                </a:solidFill>
                <a:latin typeface="Arial"/>
              </a:rPr>
              <a:t>Один сев линия ус сто нуль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5519"/>
                </a:solidFill>
                <a:latin typeface="Arial"/>
              </a:rPr>
              <a:t>Два кол вал песок пя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5519"/>
                </a:solidFill>
                <a:latin typeface="Arial"/>
              </a:rPr>
              <a:t>Шесть печь печень пшен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9" name="Picture 4" descr="C:\Documents and Settings\Админ\Рабочий стол\98408d60f787.png"/>
          <p:cNvPicPr/>
          <p:nvPr/>
        </p:nvPicPr>
        <p:blipFill>
          <a:blip r:embed="rId1"/>
          <a:stretch/>
        </p:blipFill>
        <p:spPr>
          <a:xfrm>
            <a:off x="6072120" y="2928960"/>
            <a:ext cx="27432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4"/>
          <p:cNvSpPr/>
          <p:nvPr/>
        </p:nvSpPr>
        <p:spPr>
          <a:xfrm>
            <a:off x="0" y="6165720"/>
            <a:ext cx="91440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Lucida Sans Unicode"/>
              </a:rPr>
              <a:t>Пищевая цепь</a:t>
            </a:r>
            <a:endParaRPr b="0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371" name="Picture 8" descr="solna15"/>
          <p:cNvPicPr/>
          <p:nvPr/>
        </p:nvPicPr>
        <p:blipFill>
          <a:blip r:embed="rId1"/>
          <a:stretch/>
        </p:blipFill>
        <p:spPr>
          <a:xfrm>
            <a:off x="0" y="1143000"/>
            <a:ext cx="2019240" cy="2060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fb00948c8538"/>
          <p:cNvPicPr/>
          <p:nvPr/>
        </p:nvPicPr>
        <p:blipFill>
          <a:blip r:embed="rId2"/>
          <a:stretch/>
        </p:blipFill>
        <p:spPr>
          <a:xfrm>
            <a:off x="2214720" y="2000160"/>
            <a:ext cx="2016000" cy="1565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images"/>
          <p:cNvPicPr/>
          <p:nvPr/>
        </p:nvPicPr>
        <p:blipFill>
          <a:blip r:embed="rId3"/>
          <a:stretch/>
        </p:blipFill>
        <p:spPr>
          <a:xfrm>
            <a:off x="2214720" y="4000680"/>
            <a:ext cx="1260360" cy="1800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mouse"/>
          <p:cNvPicPr/>
          <p:nvPr/>
        </p:nvPicPr>
        <p:blipFill>
          <a:blip r:embed="rId4"/>
          <a:stretch/>
        </p:blipFill>
        <p:spPr>
          <a:xfrm>
            <a:off x="4140360" y="4724280"/>
            <a:ext cx="1512720" cy="1182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2" descr="animal_hawk"/>
          <p:cNvPicPr/>
          <p:nvPr/>
        </p:nvPicPr>
        <p:blipFill>
          <a:blip r:embed="rId5"/>
          <a:stretch/>
        </p:blipFill>
        <p:spPr>
          <a:xfrm>
            <a:off x="5435640" y="3645000"/>
            <a:ext cx="2141640" cy="2712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4" descr="1939"/>
          <p:cNvPicPr/>
          <p:nvPr/>
        </p:nvPicPr>
        <p:blipFill>
          <a:blip r:embed="rId6"/>
          <a:stretch/>
        </p:blipFill>
        <p:spPr>
          <a:xfrm>
            <a:off x="4500720" y="1785960"/>
            <a:ext cx="1584000" cy="17049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7ec2893f0eb3"/>
          <p:cNvPicPr/>
          <p:nvPr/>
        </p:nvPicPr>
        <p:blipFill>
          <a:blip r:embed="rId7"/>
          <a:stretch/>
        </p:blipFill>
        <p:spPr>
          <a:xfrm>
            <a:off x="6480000" y="1357200"/>
            <a:ext cx="2664000" cy="3225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67680" y="496440"/>
            <a:ext cx="9008640" cy="93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Найдите закономерност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Line 17"/>
          <p:cNvSpPr/>
          <p:nvPr/>
        </p:nvSpPr>
        <p:spPr>
          <a:xfrm>
            <a:off x="2050920" y="2708280"/>
            <a:ext cx="360360" cy="73080"/>
          </a:xfrm>
          <a:prstGeom prst="line">
            <a:avLst/>
          </a:prstGeom>
          <a:ln w="7632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0" name="Line 18"/>
          <p:cNvSpPr/>
          <p:nvPr/>
        </p:nvSpPr>
        <p:spPr>
          <a:xfrm flipV="1">
            <a:off x="4143240" y="2499840"/>
            <a:ext cx="360360" cy="71640"/>
          </a:xfrm>
          <a:prstGeom prst="line">
            <a:avLst/>
          </a:prstGeom>
          <a:ln w="7632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1" name="Line 19"/>
          <p:cNvSpPr/>
          <p:nvPr/>
        </p:nvSpPr>
        <p:spPr>
          <a:xfrm flipV="1">
            <a:off x="6227640" y="2276280"/>
            <a:ext cx="360360" cy="144360"/>
          </a:xfrm>
          <a:prstGeom prst="line">
            <a:avLst/>
          </a:prstGeom>
          <a:ln w="7632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2" name="Line 20"/>
          <p:cNvSpPr/>
          <p:nvPr/>
        </p:nvSpPr>
        <p:spPr>
          <a:xfrm>
            <a:off x="3708360" y="5157720"/>
            <a:ext cx="360360" cy="73080"/>
          </a:xfrm>
          <a:prstGeom prst="line">
            <a:avLst/>
          </a:prstGeom>
          <a:ln w="7632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3" name="Line 21"/>
          <p:cNvSpPr/>
          <p:nvPr/>
        </p:nvSpPr>
        <p:spPr>
          <a:xfrm flipV="1">
            <a:off x="5148360" y="5013000"/>
            <a:ext cx="431640" cy="144360"/>
          </a:xfrm>
          <a:prstGeom prst="line">
            <a:avLst/>
          </a:prstGeom>
          <a:ln w="7632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ебования к иг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авила игры должны быть простыми и понятными для детей, точно сформулированным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атериал дидактической игры должен быть посилен для всех де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идактический материал должен быть прост по изготовлению, и по использовани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гра интересна в том случае, если в ней участвует каждый учени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дведение результатов игры должно быть справедливым и четки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ема самообразован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Дидактическая игра – </a:t>
            </a:r>
            <a:br>
              <a:rPr sz="3200"/>
            </a:b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одно из средств развития познавательных способностей</a:t>
            </a:r>
            <a:br>
              <a:rPr sz="3200"/>
            </a:b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учащихс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ыво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 включении детей в ситуацию дидактической игры интерес к учебной деятельности резко возрастает, изучаемый материал становится для них более доступным, работоспособность значительно повышаетс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538560" y="724320"/>
            <a:ext cx="8066880" cy="112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232d47"/>
                </a:solidFill>
                <a:latin typeface="Arial"/>
              </a:rPr>
              <a:t>Спасибо за внимание!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89" name="Picture 3" descr="C:\Documents and Settings\Админ\Рабочий стол\0_70fce_502428fd_L.jpg.png"/>
          <p:cNvPicPr/>
          <p:nvPr/>
        </p:nvPicPr>
        <p:blipFill>
          <a:blip r:embed="rId1"/>
          <a:stretch/>
        </p:blipFill>
        <p:spPr>
          <a:xfrm>
            <a:off x="2357280" y="1785960"/>
            <a:ext cx="4645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Arial"/>
              </a:rPr>
              <a:t>Использование дидактических игр как средства обучения   младших школьников определяется рядом причин: </a:t>
            </a:r>
            <a:br>
              <a:rPr sz="2100"/>
            </a:br>
            <a:endParaRPr b="1" lang="en-US" sz="2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3366"/>
                </a:solidFill>
                <a:latin typeface="Arial"/>
              </a:rPr>
              <a:t>- имеются возрастные особенности детей, связанные с недостаточной устойчивостью внимания, преимущественно произвольным развитием памяти, преобладанием наглядно  образного типа мышления;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66"/>
                </a:solidFill>
                <a:latin typeface="Arial"/>
              </a:rPr>
              <a:t>- освоение учебной деятельности, включение в неё детей идет медленно;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66"/>
                </a:solidFill>
                <a:latin typeface="Arial"/>
              </a:rPr>
              <a:t>- недостаточно сформирована познавательная мотивация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ктуальност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новых условиях есть необходимость работы по достижению новых целей и задач, поставленных ФГОС перед школой: от привычной фиксации объёма и содержания знаний, которые необходимо дать ученику, школа перешла к реализации требований, предъявленных Стандартом, в том числе к достижению не только предметных, но и личностных и метапредметных результатов освоения образовательной программ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ктуальн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ктуальность поднятой проблемы вызвана потребностью  педагогов, психологов, родителей, которые заинтересованы в положительном воздействии на формирующуюся личность ребенка с целью развития интеллектуальных, коммуникативных и творческих способносте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и задач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Цель: выявить роль и место игры как средство развития познавательного интерес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зучить и проанализировать психолого-педагогическую литературу по данной т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явить особенность иг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аскрыть роль игры как средства развития познавательного  интереса младших школьник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дактические  игры имеют свои функции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идактическая игра способствует активизации мыслительной деятельности учащихся, вызывает у школьников  живой интерес и помогает им усвоить учебный материа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гровые технологии развивают познавательные процессы , закрепляют их знания, умения и навы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звивающие игры являются формой организации коллективной учебной деятельности класса, которая находится под руководством  учител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дидактических играх дети наблюдают, сравнивают, сопоставляют, классифицируют предметы по тем или иным признакам, делают обобщения; у школьников  формируется произвольность таких психических процессов, как внимание и памя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гровые технологии развивают у младших школьников  смекалку, находчивость, сообразительнос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85800" indent="-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дидактических игр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гры-поруч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гры-предполож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гры-загад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гры-беседы (игры-диалоги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Б.П. Никитин условно делит дидактическую игру на три этапа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 первом этапе педагог заинтересовывает детей игрой, создает радостное ожидание новой игры, вызывает желание играть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 втором этапе учитель выступает не только как наблюдатель, но и как равноправный партнер, умеющий вовремя прийти на помощь, справедливо оценить поведение детей в игр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 третьем этапе роль педагога заключается в оценке детского творчества при решении игровых задач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5T18:45:53Z</dcterms:created>
  <dc:creator>Домашний</dc:creator>
  <dc:description/>
  <dc:language>en-US</dc:language>
  <cp:lastModifiedBy>Admin</cp:lastModifiedBy>
  <dcterms:modified xsi:type="dcterms:W3CDTF">2018-02-05T02:04:53Z</dcterms:modified>
  <cp:revision>48</cp:revision>
  <dc:subject/>
  <dc:title>Дидактическая игра как средство развития интеллектуальных способностей</dc:title>
</cp:coreProperties>
</file>