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6C8-C316-4CCE-9654-4F3B9F3D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26F-1F19-4088-B163-1EA8CBCD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576-12C0-40CC-A491-5C8E03C4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D88-6803-45DB-A686-DC151A99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DDF-6BAF-4E90-BBED-EF73ED54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73A-45E6-430D-8A6F-33F222DF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2FE-A0F8-47DC-85D2-8BF897E5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671-6265-4630-B7DA-99CAB7F9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BA2-8FC4-48C0-9C39-990546BC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F7A-A03E-4316-AF1B-F710275A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D17-A156-4E7F-95AF-C84A8615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DDB-DCAE-4F41-8F2F-9CFEFAC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4DF7-A68C-4C28-A202-B5AFD6BC6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К\Desktop\картинки для презентации\6926900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14720" y="285480"/>
            <a:ext cx="584352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53735"/>
                </a:solidFill>
                <a:latin typeface="Calibri"/>
              </a:rPr>
              <a:t>Мы играем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289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Игра порождает радос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вободу, довольств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окой в се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 около себ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ир с мир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Фридрих Фреб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ПК\Desktop\картинки для презентации\_yapfiles.ru.png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642960" y="9288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гры по конструированию оказывают высокий положительный эффект на развитие ребенка: формирования мыслительных процессов и восприятия, обогащения сенсорного опыта (действуя с деталями строительного материала, малыш получает конкретные представления о различной форме, величине, цвете предметов), координации движений и развития мелкой мо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ПК\Desktop\малышки\IMG_8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ПК\Desktop\малышки\IMG_7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ПК\Desktop\картинки для презентации\46fb5661_20060706081403186648_resiz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642960" y="500040"/>
            <a:ext cx="4214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нятия и игры со строительным материалом помогают осуществлять подготовку детей к школе. Формируются такие качества личности, как сосредоточенность внимания, настойчивость в достижении поставленной цели, умение проявлять творческую инициат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ПК\Desktop\малышки\IMG_3883.JPG"/>
          <p:cNvPicPr/>
          <p:nvPr/>
        </p:nvPicPr>
        <p:blipFill>
          <a:blip r:embed="rId2"/>
          <a:stretch/>
        </p:blipFill>
        <p:spPr>
          <a:xfrm>
            <a:off x="5643720" y="142920"/>
            <a:ext cx="3317760" cy="65008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ПК\Desktop\0026-026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ПК\Desktop\малышки\1\IMG_52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ПК\Desktop\desktopvenue.com_7128_1280x800.jpg"/>
          <p:cNvPicPr/>
          <p:nvPr/>
        </p:nvPicPr>
        <p:blipFill>
          <a:blip r:embed="rId1"/>
          <a:stretch/>
        </p:blipFill>
        <p:spPr>
          <a:xfrm>
            <a:off x="0" y="-357120"/>
            <a:ext cx="9258480" cy="72151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214200" y="0"/>
            <a:ext cx="357192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динственный язык, который легко даётся детям – это язык ИГРЫ. Именно игра позволяет скорректировать возникающие возрастные проблемы и сложности в отношен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ез игры жизнь ребёнка невозможна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ПК\Desktop\малышки\IMG_7596.JPG"/>
          <p:cNvPicPr/>
          <p:nvPr/>
        </p:nvPicPr>
        <p:blipFill>
          <a:blip r:embed="rId2"/>
          <a:stretch/>
        </p:blipFill>
        <p:spPr>
          <a:xfrm>
            <a:off x="3714840" y="500040"/>
            <a:ext cx="5429160" cy="59292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ПК\Desktop\малышки\IMG_82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ПК\Desktop\46fb5661_20060706081403186648_resiz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357200" y="4287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гра – это не только имитация жизни, это очень серьезная деятельность, которая позволяет ребенку самоутверд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амореализов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Участвуя в различных играх, ребенок выбирает для себя персонажи,которые наиболее близки ему, соответствуют  его нравственным  ценностям и социальным  установ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гра становится фактором социального развития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ПК\Desktop\малышки\IMG_56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5840" y="214200"/>
            <a:ext cx="4572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В сюжетно-ролевой игре дети берут на себя те или иные функции взрослых людей и в специально создаваемых ими игровых,воображаемых условиях воспроизводят (или моделирую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деятельность взрослых и отношения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В такой игре наиболее интенсивно формируются все психические качества и особенности лич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ПК\Desktop\малышки\IMG_790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ПК\Desktop\малышки\IMG_38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Users\ПК\Desktop\малышки\IMG_78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8:30:52Z</dcterms:created>
  <dc:creator>ПК</dc:creator>
  <dc:description/>
  <dc:language>en-US</dc:language>
  <cp:lastModifiedBy>ПК</cp:lastModifiedBy>
  <dcterms:modified xsi:type="dcterms:W3CDTF">2018-02-04T22:08:41Z</dcterms:modified>
  <cp:revision>59</cp:revision>
  <dc:subject/>
  <dc:title>Мы играем.</dc:title>
</cp:coreProperties>
</file>