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89A-6805-422F-B9E1-CFD019E5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6D1-C589-4F47-8E8E-6F685285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EA8-8A28-4CFA-8F79-EACAF4A8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FA5-B2EB-47BA-9E72-ECF8ED19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57EE-EDE5-45FC-B91C-0335E253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D519-A5FB-4709-BAAA-9F7D00D2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CAD2-AE1B-455C-A5C0-B6BDAC8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884-5337-4F6D-9750-00D105E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482C-A2CD-486C-94C3-349D4A1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F817-5F20-4101-A511-731DE591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F6B1-FDCF-4789-B97C-2002298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DE2-BAAF-4B08-B454-164B0F71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52F0-62A0-45E5-9343-2F9C036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52AC-0DBC-42F3-B6C9-BAD3D09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0896-9394-4911-BF60-D2B3738A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FB25-8DD8-4739-A35F-AEEFA94C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EBF-B049-4796-B35A-B5E34127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331-B5A7-4EC5-8CF4-D0DC6D87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525-A2FE-4AEF-8179-163B5DA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B65-FAA2-4F5F-B913-EB66B30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922-0DD8-4F61-A9E4-DD6BC37A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294-D9A5-4EEC-8005-78842644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12B-036D-479C-B099-69C51246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C34-57C3-488A-9B6C-1732287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0C7-7605-4CE1-93FC-526945CA4D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F035-D2B5-44C8-A971-99D587509DD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204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16059"/>
                </a:solidFill>
                <a:latin typeface="Arial"/>
              </a:rPr>
              <a:t>Нервная систем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Вегетатив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 flipH="1">
            <a:off x="2268360" y="1773360"/>
            <a:ext cx="1943280" cy="10792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39640" y="2997360"/>
            <a:ext cx="3095640" cy="8632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имп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435640" y="1773360"/>
            <a:ext cx="1800360" cy="115092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5435640" y="2997360"/>
            <a:ext cx="338436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Парасимп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611280" y="3933720"/>
            <a:ext cx="2952720" cy="2519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ключается 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ремя интенси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работы, требующ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затрат энерг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508720" y="4005360"/>
            <a:ext cx="3311280" cy="25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Способству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осстановлению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запасов энергии 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ремя сна и отдых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В основе работы нервной системы лежит рефлек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af7d"/>
                </a:solidFill>
                <a:latin typeface="Arial"/>
              </a:rPr>
              <a:t>Рефлекс – ответ организма на раздражение, который осуществляется и контролируется ЦН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af7d"/>
                </a:solidFill>
                <a:latin typeface="Arial"/>
              </a:rPr>
              <a:t>Виды рефлекс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95280" y="981000"/>
          <a:ext cx="8559720" cy="5730840"/>
        </p:xfrm>
        <a:graphic>
          <a:graphicData uri="http://schemas.openxmlformats.org/drawingml/2006/table">
            <a:tbl>
              <a:tblPr/>
              <a:tblGrid>
                <a:gridCol w="4280040"/>
                <a:gridCol w="4279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Безусловны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Условны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0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Врождённые, наследственно передающиеся реак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Рефлекторные центры находятся на уровне спинного мозга и в стволе головного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Приобретённые в процессе жизнедеятельности, не наследуемые реакции организ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Возникают на основе жизненного опыта организма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Рефлекторные центры находятся в коре головного мозга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Пищевой, половой, оборонительный и пр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Слюноотделение на запах пищ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Значение: помогают выживанию, это применение «опыта предков» на практик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Значение: помогают приспосабливаться к меняющимся условиям внешней сред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Рефлекторная дуга -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9af7d"/>
                </a:solidFill>
                <a:latin typeface="Arial"/>
              </a:rPr>
              <a:t>Путь, по которому проводятся нервные импульсы при осуществлении рефлекс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Picture 8" descr="stretchreflex"/>
          <p:cNvPicPr/>
          <p:nvPr/>
        </p:nvPicPr>
        <p:blipFill>
          <a:blip r:embed="rId2"/>
          <a:srcRect l="0" t="24769" r="3297" b="0"/>
          <a:stretch/>
        </p:blipFill>
        <p:spPr>
          <a:xfrm>
            <a:off x="324000" y="3213000"/>
            <a:ext cx="6335640" cy="2845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468360" y="2637000"/>
            <a:ext cx="424800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Чувствитель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2843280" y="3141720"/>
            <a:ext cx="358560" cy="115092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2268360" y="6237360"/>
            <a:ext cx="3816360" cy="431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Исполнитель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 flipV="1">
            <a:off x="3851280" y="4652640"/>
            <a:ext cx="649440" cy="15843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5508720" y="2565360"/>
            <a:ext cx="338436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ставоч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 flipH="1">
            <a:off x="5508360" y="3141720"/>
            <a:ext cx="1368360" cy="5745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0920" y="2707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b781"/>
                </a:solidFill>
                <a:latin typeface="Arial"/>
              </a:rPr>
              <a:t>Централь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b781"/>
                </a:solidFill>
                <a:latin typeface="Arial"/>
              </a:rPr>
              <a:t>Строение спин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4" name="Picture 6" descr="spinal"/>
          <p:cNvPicPr/>
          <p:nvPr/>
        </p:nvPicPr>
        <p:blipFill>
          <a:blip r:embed="rId1"/>
          <a:stretch/>
        </p:blipFill>
        <p:spPr>
          <a:xfrm>
            <a:off x="2603520" y="1341360"/>
            <a:ext cx="4060800" cy="53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b781"/>
                </a:solidFill>
                <a:latin typeface="Arial"/>
              </a:rPr>
              <a:t>Спинно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6" name="Picture 9" descr="n5551554"/>
          <p:cNvPicPr/>
          <p:nvPr/>
        </p:nvPicPr>
        <p:blipFill>
          <a:blip r:embed="rId1"/>
          <a:srcRect l="0" t="0" r="60168" b="0"/>
          <a:stretch/>
        </p:blipFill>
        <p:spPr>
          <a:xfrm>
            <a:off x="539640" y="981000"/>
            <a:ext cx="3343320" cy="547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anatomy5"/>
          <p:cNvPicPr/>
          <p:nvPr/>
        </p:nvPicPr>
        <p:blipFill>
          <a:blip r:embed="rId2"/>
          <a:srcRect l="24587" t="0" r="24417" b="0"/>
          <a:stretch/>
        </p:blipFill>
        <p:spPr>
          <a:xfrm>
            <a:off x="5076720" y="1052640"/>
            <a:ext cx="3094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Функции спин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флекторная – здесь находятся центры безусловных рефлек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Проводниковая функция – белое вещество спинного мозга обеспечивает связь всех отделов ЦН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6059"/>
                </a:solidFill>
                <a:latin typeface="Arial"/>
              </a:rPr>
              <a:t>Головной мозг регулирует работу спинного!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16059"/>
                </a:solidFill>
                <a:latin typeface="Arial"/>
              </a:rPr>
              <a:t>Головной мозг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1" name="Picture 7" descr="homer-simpson-wallpaper-brain-1024"/>
          <p:cNvPicPr/>
          <p:nvPr/>
        </p:nvPicPr>
        <p:blipFill>
          <a:blip r:embed="rId1"/>
          <a:stretch/>
        </p:blipFill>
        <p:spPr>
          <a:xfrm>
            <a:off x="782640" y="1596960"/>
            <a:ext cx="526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f13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6059"/>
                </a:solidFill>
                <a:latin typeface="Arial"/>
              </a:rPr>
              <a:t>Строение голов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3" name="Picture 11" descr="f15-1ap-442_the_human_b_c"/>
          <p:cNvPicPr/>
          <p:nvPr/>
        </p:nvPicPr>
        <p:blipFill>
          <a:blip r:embed="rId1"/>
          <a:srcRect l="13457" t="1860" r="10460" b="2794"/>
          <a:stretch/>
        </p:blipFill>
        <p:spPr>
          <a:xfrm>
            <a:off x="2340000" y="1773360"/>
            <a:ext cx="5040360" cy="49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Нервная тка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9af7d"/>
                </a:solidFill>
                <a:latin typeface="Arial"/>
              </a:rPr>
              <a:t>Основу нервной ткани составляют нервные клетки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9af7d"/>
                </a:solidFill>
                <a:uFillTx/>
                <a:latin typeface="Arial"/>
              </a:rPr>
              <a:t>НЕЙРО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2" descr="co15_brain_and_cranial__c"/>
          <p:cNvPicPr/>
          <p:nvPr/>
        </p:nvPicPr>
        <p:blipFill>
          <a:blip r:embed="rId1"/>
          <a:srcRect l="0" t="3514" r="2539" b="3740"/>
          <a:stretch/>
        </p:blipFill>
        <p:spPr>
          <a:xfrm>
            <a:off x="2050920" y="836640"/>
            <a:ext cx="4967280" cy="4786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3"/>
          <p:cNvSpPr/>
          <p:nvPr/>
        </p:nvSpPr>
        <p:spPr>
          <a:xfrm>
            <a:off x="2987640" y="5877000"/>
            <a:ext cx="3529080" cy="647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долговаты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395280" y="5013360"/>
            <a:ext cx="1584360" cy="5032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7164360" y="4508640"/>
            <a:ext cx="1871640" cy="576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жеч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6877080" y="2997360"/>
            <a:ext cx="2266920" cy="50292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24000" y="189000"/>
            <a:ext cx="273528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межуточ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6443640" y="189000"/>
            <a:ext cx="252108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льш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олушар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Line 19"/>
          <p:cNvSpPr/>
          <p:nvPr/>
        </p:nvSpPr>
        <p:spPr>
          <a:xfrm flipV="1">
            <a:off x="4356000" y="4653000"/>
            <a:ext cx="503280" cy="122400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Line 20"/>
          <p:cNvSpPr/>
          <p:nvPr/>
        </p:nvSpPr>
        <p:spPr>
          <a:xfrm flipV="1">
            <a:off x="1979640" y="3716280"/>
            <a:ext cx="2448000" cy="144144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Line 21"/>
          <p:cNvSpPr/>
          <p:nvPr/>
        </p:nvSpPr>
        <p:spPr>
          <a:xfrm flipH="1" flipV="1">
            <a:off x="4571640" y="2997000"/>
            <a:ext cx="2305080" cy="21564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2195640" y="1125360"/>
            <a:ext cx="2016000" cy="17272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Line 23"/>
          <p:cNvSpPr/>
          <p:nvPr/>
        </p:nvSpPr>
        <p:spPr>
          <a:xfrm flipH="1">
            <a:off x="5148360" y="907920"/>
            <a:ext cx="1295280" cy="5050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Line 24"/>
          <p:cNvSpPr/>
          <p:nvPr/>
        </p:nvSpPr>
        <p:spPr>
          <a:xfrm flipH="1" flipV="1">
            <a:off x="5795640" y="3715920"/>
            <a:ext cx="1368360" cy="10810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3276720" y="115920"/>
            <a:ext cx="2879640" cy="6490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олистое т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 flipH="1">
            <a:off x="4140360" y="765000"/>
            <a:ext cx="287280" cy="122400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8" descr="18117"/>
          <p:cNvPicPr/>
          <p:nvPr/>
        </p:nvPicPr>
        <p:blipFill>
          <a:blip r:embed="rId1"/>
          <a:srcRect l="0" t="0" r="35727" b="0"/>
          <a:stretch/>
        </p:blipFill>
        <p:spPr>
          <a:xfrm>
            <a:off x="324000" y="260280"/>
            <a:ext cx="4692600" cy="58420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4427640" y="476280"/>
            <a:ext cx="3024000" cy="57636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елое вещест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932360" y="2276640"/>
            <a:ext cx="2952720" cy="647640"/>
          </a:xfrm>
          <a:prstGeom prst="rect">
            <a:avLst/>
          </a:prstGeom>
          <a:solidFill>
            <a:srgbClr val="9696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ерое вещест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347640" y="981000"/>
            <a:ext cx="1079640" cy="93528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4140360" y="2708280"/>
            <a:ext cx="792000" cy="50472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 flipH="1">
            <a:off x="3058920" y="2708280"/>
            <a:ext cx="1873080" cy="5763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 flipH="1" flipV="1">
            <a:off x="4284360" y="2133720"/>
            <a:ext cx="647640" cy="5745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5219640" y="2997360"/>
            <a:ext cx="3600360" cy="17269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Белое вещество составля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проводящие пут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вязывающие головной мозг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о спинным, а также ча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головного моз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5219640" y="4869000"/>
            <a:ext cx="360036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ерое вещество в вид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отдельных скоплений (ядер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располагается внутри белог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а также образу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кору головного моз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Продолговатый мозг и мост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46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Регуляц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Дых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ищеварения (слюноотделение, жевание, глотание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ердечно-сосудистой систем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Защитные рефлек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Чихание, моргание, кашель, рво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6" descr="f15-22a_cerebellum_mids_c"/>
          <p:cNvPicPr/>
          <p:nvPr/>
        </p:nvPicPr>
        <p:blipFill>
          <a:blip r:embed="rId7"/>
          <a:srcRect l="19976" t="22411" r="1925" b="4478"/>
          <a:stretch/>
        </p:blipFill>
        <p:spPr>
          <a:xfrm>
            <a:off x="4716360" y="1484280"/>
            <a:ext cx="410868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37450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Мозжеч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Координация произвольных движ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Сохранение положения тела в пространств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гуляция мышечного тонуса и равновес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Picture 6" descr="f15-22a_cerebellum_mids_c"/>
          <p:cNvPicPr/>
          <p:nvPr/>
        </p:nvPicPr>
        <p:blipFill>
          <a:blip r:embed="rId4"/>
          <a:srcRect l="24686" t="21880" r="3216" b="4685"/>
          <a:stretch/>
        </p:blipFill>
        <p:spPr>
          <a:xfrm>
            <a:off x="6372360" y="189000"/>
            <a:ext cx="2074680" cy="2519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f15-1ap-442_the_human_b_c"/>
          <p:cNvPicPr/>
          <p:nvPr/>
        </p:nvPicPr>
        <p:blipFill>
          <a:blip r:embed="rId5"/>
          <a:srcRect l="12084" t="2104" r="10342" b="4672"/>
          <a:stretch/>
        </p:blipFill>
        <p:spPr>
          <a:xfrm>
            <a:off x="4859280" y="2852640"/>
            <a:ext cx="3889440" cy="380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f13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421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Средни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7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Arial"/>
              </a:rPr>
              <a:t>Ориентировочные рефлексы на зрительные и слуховые раздражители (поворот головы и тела в сторону световых или звуковых раздражителе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Arial"/>
              </a:rPr>
              <a:t>Регуляция мышечного тонуса и позы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7" name="Picture 6" descr="co15_brain_and_cranial__c"/>
          <p:cNvPicPr/>
          <p:nvPr/>
        </p:nvPicPr>
        <p:blipFill>
          <a:blip r:embed="rId3"/>
          <a:srcRect l="1956" t="3376" r="3543" b="5147"/>
          <a:stretch/>
        </p:blipFill>
        <p:spPr>
          <a:xfrm>
            <a:off x="4572000" y="1268280"/>
            <a:ext cx="4464000" cy="43754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7"/>
          <p:cNvSpPr/>
          <p:nvPr/>
        </p:nvSpPr>
        <p:spPr>
          <a:xfrm>
            <a:off x="5724360" y="5805360"/>
            <a:ext cx="2951280" cy="719280"/>
          </a:xfrm>
          <a:prstGeom prst="rect">
            <a:avLst/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 flipV="1">
            <a:off x="6877080" y="3284640"/>
            <a:ext cx="0" cy="252072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8687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Промежуточны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4192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Поддержание обмена веществ и энергии на оптимальном уровн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Сбор и оценка поступающей информации от органов чувст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гуляция сложных движений: бег, ходьба, плав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Picture 9" descr="co15_brain_and_cranial__c"/>
          <p:cNvPicPr/>
          <p:nvPr/>
        </p:nvPicPr>
        <p:blipFill>
          <a:blip r:embed="rId4"/>
          <a:srcRect l="0" t="1896" r="0" b="6124"/>
          <a:stretch/>
        </p:blipFill>
        <p:spPr>
          <a:xfrm>
            <a:off x="4859280" y="1125360"/>
            <a:ext cx="4097520" cy="38163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0"/>
          <p:cNvSpPr/>
          <p:nvPr/>
        </p:nvSpPr>
        <p:spPr>
          <a:xfrm>
            <a:off x="5364000" y="5084640"/>
            <a:ext cx="3600720" cy="865440"/>
          </a:xfrm>
          <a:prstGeom prst="rect">
            <a:avLst/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межуточны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 flipH="1" flipV="1">
            <a:off x="6732360" y="2637000"/>
            <a:ext cx="144360" cy="252072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635652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Большие полушар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Picture 5" descr="14236"/>
          <p:cNvPicPr/>
          <p:nvPr/>
        </p:nvPicPr>
        <p:blipFill>
          <a:blip r:embed="rId1"/>
          <a:stretch/>
        </p:blipFill>
        <p:spPr>
          <a:xfrm>
            <a:off x="1403280" y="1125360"/>
            <a:ext cx="5977080" cy="50547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6877080" y="2060640"/>
            <a:ext cx="208764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Лобная 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5364000" y="1052640"/>
            <a:ext cx="244800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роз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50920" y="981000"/>
            <a:ext cx="280836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ковая бороз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179280" y="1700280"/>
            <a:ext cx="1727280" cy="7189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Теменн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5940360" y="5157720"/>
            <a:ext cx="187164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Височн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0" y="4508640"/>
            <a:ext cx="1979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Затылоч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-72360"/>
            <a:ext cx="8404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Затылоч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зритель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Височ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луховая, вкусовая, обонятель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Лоб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произвольные внимание, произвольные движ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Темен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кожно-мышеч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С большими полушариями мозга связан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Творческие процес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нимани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готовила учитель биологии МБОУ СОШ №6 ст. Приазовской Приморско – Ахтарского района Краснодарского края                                                                  Латышева валентина Николаев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Строение нейр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8" descr="neuron1"/>
          <p:cNvPicPr/>
          <p:nvPr/>
        </p:nvPicPr>
        <p:blipFill>
          <a:blip r:embed="rId1"/>
          <a:srcRect l="4934" t="8061" r="4713" b="11458"/>
          <a:stretch/>
        </p:blipFill>
        <p:spPr>
          <a:xfrm>
            <a:off x="2050920" y="1773360"/>
            <a:ext cx="5904000" cy="3311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9"/>
          <p:cNvSpPr/>
          <p:nvPr/>
        </p:nvSpPr>
        <p:spPr>
          <a:xfrm>
            <a:off x="108000" y="3213000"/>
            <a:ext cx="187164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дендрит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1979640" y="2565000"/>
            <a:ext cx="122400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979640" y="3500280"/>
            <a:ext cx="936720" cy="2890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2843280" y="5300640"/>
            <a:ext cx="151272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т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нейро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 flipV="1">
            <a:off x="3492360" y="3789360"/>
            <a:ext cx="71640" cy="15112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003640" y="5516640"/>
            <a:ext cx="180036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акс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 flipV="1">
            <a:off x="5796000" y="4076640"/>
            <a:ext cx="0" cy="144000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Синапс -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af7d"/>
                </a:solidFill>
                <a:latin typeface="Arial"/>
              </a:rPr>
              <a:t>Место контакта нейронов друг с другом и с другими клетк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synapse"/>
          <p:cNvPicPr/>
          <p:nvPr/>
        </p:nvPicPr>
        <p:blipFill>
          <a:blip r:embed="rId2"/>
          <a:stretch/>
        </p:blipFill>
        <p:spPr>
          <a:xfrm>
            <a:off x="4089240" y="907920"/>
            <a:ext cx="4759560" cy="58341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108000" y="4941720"/>
            <a:ext cx="3959280" cy="7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узырьки с медиатор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3924360" y="3860280"/>
            <a:ext cx="1152360" cy="1081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V="1">
            <a:off x="3924360" y="3284280"/>
            <a:ext cx="1152360" cy="1657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08000" y="5877000"/>
            <a:ext cx="381636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инаптическая щ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V="1">
            <a:off x="4067280" y="4437000"/>
            <a:ext cx="1728720" cy="172872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Типы нейронов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 flipH="1">
            <a:off x="1692360" y="1773360"/>
            <a:ext cx="1800000" cy="79200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79280" y="2708280"/>
            <a:ext cx="316872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Чувств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4788000" y="1773360"/>
            <a:ext cx="0" cy="201600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276720" y="3860640"/>
            <a:ext cx="2950920" cy="79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Вставоч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6084720" y="1844640"/>
            <a:ext cx="1366920" cy="72072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084720" y="2708280"/>
            <a:ext cx="291636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Исполн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79280" y="3500280"/>
            <a:ext cx="3024360" cy="21607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нформацию о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оверхности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 внутрен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рганов в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3348000" y="4724280"/>
            <a:ext cx="2879640" cy="18003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Анализирую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нформацию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вырабатываю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реш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3573360"/>
            <a:ext cx="2664000" cy="273528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мпуль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(команд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т головного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спинного  мозг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рган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6" descr="nervsys"/>
          <p:cNvPicPr/>
          <p:nvPr/>
        </p:nvPicPr>
        <p:blipFill>
          <a:blip r:embed="rId1"/>
          <a:stretch/>
        </p:blipFill>
        <p:spPr>
          <a:xfrm>
            <a:off x="2411280" y="907920"/>
            <a:ext cx="4368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9af7d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124000" y="1052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 flipH="1">
            <a:off x="2339640" y="1628640"/>
            <a:ext cx="115236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187280" y="2133720"/>
            <a:ext cx="2521080" cy="1224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истема (ЦНС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1628640"/>
            <a:ext cx="115092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932360" y="2205000"/>
            <a:ext cx="3024360" cy="1079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ерифер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 систе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 flipH="1">
            <a:off x="1258560" y="3357720"/>
            <a:ext cx="64908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79280" y="4292640"/>
            <a:ext cx="1800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Головн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2627280" y="3357720"/>
            <a:ext cx="57636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219564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пин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 flipH="1">
            <a:off x="5076360" y="3284640"/>
            <a:ext cx="35892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995640" y="4292640"/>
            <a:ext cx="144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6443640" y="3284640"/>
            <a:ext cx="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558000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узл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7093080" y="3284640"/>
            <a:ext cx="1224000" cy="865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7236000" y="4292640"/>
            <a:ext cx="180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оконч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-6732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Нервы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копления отростков нейронов вне ЦНС, заключённые в общую оболочку и проводящие нервные импуль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Нервные узлы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копления тел нейронов вне ЦН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Функциональное деление нервной систем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411280" y="206064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3058920" y="2852640"/>
            <a:ext cx="936360" cy="64764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332000" y="3573360"/>
            <a:ext cx="295272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Сом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364000" y="2852640"/>
            <a:ext cx="1152720" cy="57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076720" y="3573360"/>
            <a:ext cx="295128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егетати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1403280" y="4221000"/>
            <a:ext cx="2808360" cy="863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Подчинена вол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челове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403280" y="5157720"/>
            <a:ext cx="2808360" cy="9367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скелетных мышц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5148360" y="4221000"/>
            <a:ext cx="2808360" cy="863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Не подчинен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оле челове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5148360" y="5157720"/>
            <a:ext cx="2879640" cy="11509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внутрен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орган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8:09:49Z</dcterms:created>
  <dc:creator>белый лукич</dc:creator>
  <dc:description/>
  <dc:language>en-US</dc:language>
  <cp:lastModifiedBy>User</cp:lastModifiedBy>
  <dcterms:modified xsi:type="dcterms:W3CDTF">2018-01-24T09:25:32Z</dcterms:modified>
  <cp:revision>9</cp:revision>
  <dc:subject/>
  <dc:title>Нервная система</dc:title>
</cp:coreProperties>
</file>