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2691-0AB6-4801-A0FD-C313C5942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6D5F-0E5C-427B-AF80-BA4CBBAF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7FA0-BBED-4B1C-AD2D-BD9D29D1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B088-C0A7-4C76-8348-148CA0F5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227E-086A-4C40-9AD4-9A98B6F30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719F-E20C-4358-9D69-43757AC9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5688-5A4A-4F49-B380-9143EA45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1D73-4E92-4C8B-8383-DCA63789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6E3D-DE96-42EE-BF08-E0E6527F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BE4C-2C7E-4028-89F4-E1DCAAE1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7352-483F-4C32-AE5D-50CC1F6D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C873-2BC9-4372-94CA-CA5696FC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F473-6EBC-4E21-BA8C-E1764908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5F35-F09B-4F69-A45B-966906BB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6C35-F6E6-44BD-82E3-FF96A538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C452-0CFB-4D17-BCC5-253D4ECBB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85B6-CE5B-4BBF-864B-911B03267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A0E06-C1C5-4EAA-AC56-2C8A36EC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760CB-A98F-49DE-8803-DB9B57EF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12875-C3F5-4A01-9C15-F54C6884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B5B6C-3834-4B98-9E49-3A2579FE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0A7B9-25B8-42E3-B029-1EA31264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EB04-3087-4795-BF3F-9215120E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37CBE-4E2A-42D0-BA5B-E503EA6B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1184E-5EE9-43B7-BCE5-B21E5ED4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3EE26-8434-4A6D-B474-CA13B827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5328C-5351-409C-ACE1-33DD0FEC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112D2-14B3-4A14-BF74-51FDBE46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0AE96-B2B5-41E0-9BCE-AE940324A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9B7EC-88C5-4B60-BF5A-C4223FA58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FADFD-1B00-4C6E-BA0A-2747CFC67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14712-0613-4D1B-BD57-173966CA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BB843-0610-478B-B1F0-C6A7D973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7CC2-ECCB-4A83-B40E-B00C9378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2063A-C1D7-404A-AB0E-54CE7191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485DE-598D-4554-8202-EAB0D058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28C9A-D14F-48B0-A160-2AA961DD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67C4E-5B7E-4C6F-9BB8-DA09E9AD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8D040-9818-4FDC-8228-62714DCB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4B784-DD66-44BE-A76D-57CFA0AB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9699E-A416-4C17-A8EE-8094A0E8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212AF-94C0-4BE7-A633-E9E36E181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95076-B8DC-4943-B626-927A19B1E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A898-E7BF-4830-8C11-D0C8AC2A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B3D6-BEE9-4325-BBF0-02F5E66C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65E5-856E-4112-96C0-D646C378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DA9E-312D-44F3-A8A1-238A0BC7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EDDA-BD69-4A39-B194-A3404A51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2964-475E-49F6-9048-9CAC53803E2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B844-07D8-4BF9-9959-D66DCF104A1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4854-7522-4613-8407-8E197F625A3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07D4-111F-4E4A-BFB7-E20164AA017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nfourok.ru/go.html?href=https://ru.wikipedia.org/wiki/&#1052;&#1086;&#1083;&#1083;&#1102;&#1089;&#1082;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7864560" cy="2559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933360"/>
            <a:ext cx="7854840" cy="1047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Урок русского языка в 8 классе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Учитель МБОУ СОШ п Аскиз Шулбаева Э.Н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387026"/>
                </a:solidFill>
                <a:latin typeface="Calibri"/>
              </a:rPr>
              <a:t>Творческое задание: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Picture 2" descr="C:\Users\User\Desktop\хакас.jpg"/>
          <p:cNvPicPr/>
          <p:nvPr/>
        </p:nvPicPr>
        <p:blipFill>
          <a:blip r:embed="rId1"/>
          <a:stretch/>
        </p:blipFill>
        <p:spPr>
          <a:xfrm>
            <a:off x="1386000" y="1413000"/>
            <a:ext cx="6570720" cy="5040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Users\User\Desktop\дет.jpg"/>
          <p:cNvPicPr/>
          <p:nvPr/>
        </p:nvPicPr>
        <p:blipFill>
          <a:blip r:embed="rId1"/>
          <a:stretch/>
        </p:blipFill>
        <p:spPr>
          <a:xfrm>
            <a:off x="1000080" y="549360"/>
            <a:ext cx="7143840" cy="5256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C:\Users\User\Desktop\спа.jpg"/>
          <p:cNvPicPr/>
          <p:nvPr/>
        </p:nvPicPr>
        <p:blipFill>
          <a:blip r:embed="rId1"/>
          <a:stretch/>
        </p:blipFill>
        <p:spPr>
          <a:xfrm>
            <a:off x="395280" y="2602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546422"/>
                </a:solidFill>
                <a:latin typeface="Calibri"/>
              </a:rPr>
              <a:t>Науки юношей питают, отраду старым подают,</a:t>
            </a:r>
            <a:br>
              <a:rPr sz="2800"/>
            </a:br>
            <a:r>
              <a:rPr b="0" i="1" lang="ru-RU" sz="2800" spc="-1" strike="noStrike">
                <a:solidFill>
                  <a:srgbClr val="546422"/>
                </a:solidFill>
                <a:latin typeface="Calibri"/>
              </a:rPr>
              <a:t>в счастливой жизни украшают, в несчастной случай берегут….. М.В. Ломоносов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Picture 2" descr="C:\Users\User\Desktop\н.jpg"/>
          <p:cNvPicPr/>
          <p:nvPr/>
        </p:nvPicPr>
        <p:blipFill>
          <a:blip r:embed="rId1"/>
          <a:stretch/>
        </p:blipFill>
        <p:spPr>
          <a:xfrm>
            <a:off x="826920" y="1935000"/>
            <a:ext cx="7490160" cy="4589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1" descr="hello_html_m57df3ed.jpg"/>
          <p:cNvPicPr/>
          <p:nvPr/>
        </p:nvPicPr>
        <p:blipFill>
          <a:blip r:embed="rId1"/>
          <a:stretch/>
        </p:blipFill>
        <p:spPr>
          <a:xfrm>
            <a:off x="971640" y="620640"/>
            <a:ext cx="7416720" cy="5472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753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46422"/>
                </a:solidFill>
                <a:latin typeface="Calibri"/>
              </a:rPr>
              <a:t>1 группа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1. Укажите количество грамматических основ в первом предложении ________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2. Укажите номер(а) предложения(й), осложненные однородными членами _________. Объясните постановку знаков препинания во 2 предложении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3. Укажите номер предложения, осложненного причастным оборотом ________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4. Из предложения 1 выпишите слова, в которых выбор Н в суффиксе определяется правилом «В прилагательных с основой на Н пишется НН » ________________________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5. Выпишите грамматическую основу 3 предложения _______________________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1000"/>
          </a:bodyPr>
          <a:p>
            <a:pPr marL="248040" indent="-2480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)Дельфины характеризуются присутствием в обеих челюстях довольно значительного числа однородных конических зубов, оба носовых отверстия соединены обыкновенно в одно поперечное отверстие полулунной формы на вершине черепа, голова относительно небольшая, часто с заостренной мордой, тело вытянутое, есть спинной плавник. 2)Очень подвижные и ловкие, прожорливые хищники, живущие в основном общественно, водятся во всех морях, поднимаясь даже высоко в реки, питаясь рыбой,</a:t>
            </a:r>
            <a:r>
              <a:rPr b="0" lang="ru-RU" sz="1800" spc="-1" strike="noStrike">
                <a:solidFill>
                  <a:srgbClr val="0d0d0d"/>
                </a:solidFill>
                <a:latin typeface="Constantia"/>
              </a:rPr>
              <a:t> </a:t>
            </a: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моллюсками</a:t>
            </a:r>
            <a:r>
              <a:rPr b="0" lang="ru-RU" sz="1800" spc="-1" strike="noStrike">
                <a:solidFill>
                  <a:srgbClr val="0d0d0d"/>
                </a:solidFill>
                <a:latin typeface="Constantia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акообразными; иногда нападают и на своих сородичей. 3)Отличаются также любознательностью и традиционно хорошим отношением к человеку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87026"/>
                </a:solidFill>
                <a:latin typeface="Calibri"/>
              </a:rPr>
              <a:t>2 группа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7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1. Укажите количество грамматических основ во втором предложении ________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2. Укажите номер(а) предложения(й), осложненные однородными членами _________. Объясните постановку знаков препинания или их отсутствие во 2 предложении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3. Выпишите грамматическую основу первого предложения ______________________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4. Из первого предложения выпишите слово, в котором  выбор гласной в корне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определяется правилом «В корне после шипящих под ударением пишется Ё» ________________________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)Гастрит — воспаление слизистой оболочки стенки желудка. 2)Может развиться в результате ожога слизистой оболочки желудка различными химическими веществами: спиртом, щёлочью или  кислотой. 3)Прием некоторых лекарств также может спровоцировать гастрит, при этом лекарства из группы противовоспалительных препаратов вызывают гастрит не только за счет прямого раздражения слизистой оболочки желудка, но и за счет нарушения молекулярных механизмов защиты слизистой желудк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87026"/>
                </a:solidFill>
                <a:latin typeface="Calibri"/>
              </a:rPr>
              <a:t>3 группа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6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1. Укажите количество грамматических основ в первом предложении ________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2. Укажите номер(а) предложения(й), осложненные неоднородными членами _________. Объясните постановку знаков препинания в первом предложении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3. Выпишите грамматическую основу третьего предложения _________________________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4. Из второго предложения выпишите слово, в котором  выбор согласной на конце приставки зависит от последующей согласной __________________________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)Исходя из результатов эксперимента, можно сделать заключение, что объект имеет мягкую однородную структуру, свободно пропускает свет и может изменять ряд своих параметров при воздействии на него разности потенциалов в диапазоне от 5 до 33 000 В. 2) Исследования также показали, что объект необратимо изменяет свою молекулярную структуру под воздействием температуры свыше 300 К. 3) При механическом воздействии на объект с силой до 1000 Н видимых изменений в структуре не наблюдается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753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87026"/>
                </a:solidFill>
                <a:latin typeface="Calibri"/>
              </a:rPr>
              <a:t>4 группа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3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1. Укажите количество грамматических основ в четвертом предложении ________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2. Укажите номер(а) предложения(й), осложненные однородными членами _________. Объясните постановку знаков препинания в первом предложении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3. Выпишите грамматическую основу четвертого предложения _____________________________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4. Из 3 предложения выпишите слово, в котором  выбор гласной в окончании определяется правилом «В глаголах 2 лица ед числа в окончании пишется буква И» ____________________________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)Плакета – памятная или декоративная медаль, имеющая форму многоугольника. 2) Само слово происходит из французского языка и переводится как дощечка. 3) Чеканится она в качестве сувенира или для украшения. 4) В последнее время стало модным изготовлять плакеты к различным праздникам, юбилеям и церемониям, хотя раньше для таких целей использовали круглые медал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274320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87026"/>
                </a:solidFill>
                <a:latin typeface="Calibri"/>
              </a:rPr>
              <a:t>5 группа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: 1. Укажите количество грамматических основ в четвертом предложении ________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2. Укажите номер(а) предложения(й), осложненные однородными членами _________. Объясните постановку знаков препинания в 3 предложении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3. Выпишите грамматическую основу третьего предложения ________________________________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4. Из предложения 2 выпишите слово, в котором  правописание приставки не определяется ее значением _________________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: 1)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Речевой этикет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— система устойчивых формул общения, предписываемых обществом как правила речевого поведения для установления речевого контакта собеседников, поддержания общения в избранной тональности, взаимным отношениям в официальной и неофициальной обстановке. 2) Степень владения речевым этикетом определяет степень профессиональной пригодности человека. 3)Это относится к государственным служащим и политикам, педагогам и юристам, врачам и менеджерам, предпринимателям и журналистам, работникам сферы обслуживания.  4) Владение речевым этикетом способствует приобретению авторитета, порождает доверие и уважение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87026"/>
                </a:solidFill>
                <a:latin typeface="Calibri"/>
              </a:rPr>
              <a:t>6 группа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7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1. Укажите количество грамматических основ во втором предложении ________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2. Укажите номер(а) предложения(й), осложненные однородными членами _________. Объясните постановку знаков препинания или их отсутствие в данном предложении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3. Выпишите грамматическую основу второго предложения ___________________________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4. Из предложения 3 выпишите слово, в котором  выбор согласной на конце приставки зависит от последующей согласной. ________________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) Педагогика — совокупность теоретических и прикладных наук, изучающих воспитание, образование и обучение. 2) Педагогикой называется также учебный курс, который преподается в педагогических институтах и других учебных заведениях по профилирующим программам.3) Педагогика включает проблемы учебно-воспитательные, культурно-просветительные, исследует агитационно-пропагандистскую работу со взрослым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30T14:09:36Z</dcterms:created>
  <dc:creator>User</dc:creator>
  <dc:description/>
  <dc:language>en-US</dc:language>
  <cp:lastModifiedBy>Windows User</cp:lastModifiedBy>
  <dcterms:modified xsi:type="dcterms:W3CDTF">2018-01-30T14:44:06Z</dcterms:modified>
  <cp:revision>7</cp:revision>
  <dc:subject/>
  <dc:title>Повторение по теме: «Однородные члены предложения»</dc:title>
</cp:coreProperties>
</file>