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E44-EEE2-4679-ADA5-DF419C13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5F3-7ED6-4085-8B35-49434182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EB4-728A-4E52-B860-93D268E3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829-3752-4917-ABF1-E3E79756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41E-319D-419B-98C0-97CC2E3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5D4-0C63-4EA0-851A-4EC1CBFC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F10-DB54-4C74-AE00-8CA2BE58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67F-E28E-4B78-9F03-7BFA2F7A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FC7-EFDC-434E-87F6-E334CBC7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B40-F5EF-4427-9805-FCBCB0E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387-0CCF-4D89-806B-B067C339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27D-6AFB-4A8A-94ED-A453B5F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C59B-233C-49A2-8687-52EA1E467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«Основы безопасности жизнедеятельности ребенка»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вторая младшая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пликация «светофорч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hLk4p_62EI"/>
          <p:cNvPicPr/>
          <p:nvPr/>
        </p:nvPicPr>
        <p:blipFill>
          <a:blip r:embed="rId2"/>
          <a:stretch/>
        </p:blipFill>
        <p:spPr>
          <a:xfrm>
            <a:off x="0" y="0"/>
            <a:ext cx="3511440" cy="624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JAGfisg2vok"/>
          <p:cNvPicPr/>
          <p:nvPr/>
        </p:nvPicPr>
        <p:blipFill>
          <a:blip r:embed="rId3"/>
          <a:stretch/>
        </p:blipFill>
        <p:spPr>
          <a:xfrm>
            <a:off x="2895480" y="1752480"/>
            <a:ext cx="6248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xEX1B4v4bls"/>
          <p:cNvPicPr/>
          <p:nvPr/>
        </p:nvPicPr>
        <p:blipFill>
          <a:blip r:embed="rId2"/>
          <a:stretch/>
        </p:blipFill>
        <p:spPr>
          <a:xfrm>
            <a:off x="304920" y="1641600"/>
            <a:ext cx="84582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xfYoUjg8ehQ"/>
          <p:cNvPicPr/>
          <p:nvPr/>
        </p:nvPicPr>
        <p:blipFill>
          <a:blip r:embed="rId2"/>
          <a:stretch/>
        </p:blipFill>
        <p:spPr>
          <a:xfrm>
            <a:off x="5291280" y="0"/>
            <a:ext cx="385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T6WlASCL9HI"/>
          <p:cNvPicPr/>
          <p:nvPr/>
        </p:nvPicPr>
        <p:blipFill>
          <a:blip r:embed="rId1"/>
          <a:stretch/>
        </p:blipFill>
        <p:spPr>
          <a:xfrm>
            <a:off x="3962520" y="304920"/>
            <a:ext cx="495288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vyQEj0TjJts"/>
          <p:cNvPicPr/>
          <p:nvPr/>
        </p:nvPicPr>
        <p:blipFill>
          <a:blip r:embed="rId2"/>
          <a:stretch/>
        </p:blipFill>
        <p:spPr>
          <a:xfrm>
            <a:off x="228600" y="228600"/>
            <a:ext cx="3597120" cy="640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gHISkwesROo"/>
          <p:cNvPicPr/>
          <p:nvPr/>
        </p:nvPicPr>
        <p:blipFill>
          <a:blip r:embed="rId3"/>
          <a:stretch/>
        </p:blipFill>
        <p:spPr>
          <a:xfrm>
            <a:off x="3962520" y="3733920"/>
            <a:ext cx="4952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апка передвижка: «Рекомендации для родител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Папка передвижка: «Правила поведения на улиц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NZODaPrqFLk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57200" y="1599840"/>
            <a:ext cx="79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режде, чем учить ребенка основам безопасности жизнедеятельности, необходимо, самими придерживаться им. Помните, что дети учатся больше на ваших примерах, чем по учебникам и сказка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vhIocdQiss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819520" y="52574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ыполнила воспитатель Суровцева Е. 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Дошкольный</a:t>
            </a: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озрас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жнейший пери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формируется     личность и закладываются прочные основы опыта жизнедеятельности, здорового образа жизни. Малыш по своим физиологическим особенностям не может самостоятельно определить всю меру опасности. Поэтому на взрослого человека возложена миссия защиты своего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Уголок по ОБ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.Изучение и чтение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. Беседы об опасных предметов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. Знакомство со светоф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3. Знакомство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рожными знаками и правилами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апки передви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олок по ОБ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N-HOYWUi-kg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nS0gyVDkDHI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Hablon-dlya-prezentatsii-Rad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зучение теоретической литературы 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6EzCdSzeYRI"/>
          <p:cNvPicPr/>
          <p:nvPr/>
        </p:nvPicPr>
        <p:blipFill>
          <a:blip r:embed="rId2"/>
          <a:stretch/>
        </p:blipFill>
        <p:spPr>
          <a:xfrm>
            <a:off x="457200" y="2209680"/>
            <a:ext cx="197172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kmH1LMqS8o"/>
          <p:cNvPicPr/>
          <p:nvPr/>
        </p:nvPicPr>
        <p:blipFill>
          <a:blip r:embed="rId3"/>
          <a:stretch/>
        </p:blipFill>
        <p:spPr>
          <a:xfrm>
            <a:off x="3429000" y="2743200"/>
            <a:ext cx="218592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nC2Upn3PJfs"/>
          <p:cNvPicPr/>
          <p:nvPr/>
        </p:nvPicPr>
        <p:blipFill>
          <a:blip r:embed="rId4"/>
          <a:stretch/>
        </p:blipFill>
        <p:spPr>
          <a:xfrm>
            <a:off x="6629400" y="2133720"/>
            <a:ext cx="2014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RL2Tt8rwMD8"/>
          <p:cNvPicPr/>
          <p:nvPr/>
        </p:nvPicPr>
        <p:blipFill>
          <a:blip r:embed="rId1"/>
          <a:stretch/>
        </p:blipFill>
        <p:spPr>
          <a:xfrm>
            <a:off x="0" y="0"/>
            <a:ext cx="6781680" cy="381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QeN8Zxz9Dec"/>
          <p:cNvPicPr/>
          <p:nvPr/>
        </p:nvPicPr>
        <p:blipFill>
          <a:blip r:embed="rId2"/>
          <a:stretch/>
        </p:blipFill>
        <p:spPr>
          <a:xfrm>
            <a:off x="3048120" y="342900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7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4T11:32:32Z</dcterms:created>
  <dc:creator>1</dc:creator>
  <dc:description/>
  <dc:language>en-US</dc:language>
  <cp:lastModifiedBy>ДС45</cp:lastModifiedBy>
  <dcterms:modified xsi:type="dcterms:W3CDTF">2018-01-18T13:24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