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2C0-7B4A-4F8F-A572-A13F065C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941-E0CC-4417-9199-F64933C1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295-6AD9-4276-9826-8B85CA1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637-F9F5-4F58-BF9B-1708686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24D-4B99-4142-8758-FA912E0E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75B-E6B7-4A6F-A593-39FF6DB3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6C7-B486-4968-A6AD-774CA17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CB3-56A7-418A-9C11-760685F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13E-4455-4A43-A8D0-3D17ED5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73B-1663-4651-AE82-815B5FB1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951-4D65-40A3-AD57-50A55B4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B86-4CCE-499D-85BB-72BEE7A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3CB-E475-4851-9446-14C62654E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эста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5410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вторительно-обобщающий урок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Древний Егип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126"/>
          <p:cNvPicPr/>
          <p:nvPr/>
        </p:nvPicPr>
        <p:blipFill>
          <a:blip r:embed="rId2"/>
          <a:stretch/>
        </p:blipFill>
        <p:spPr>
          <a:xfrm>
            <a:off x="914400" y="1905120"/>
            <a:ext cx="4643280" cy="3271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ажно изучать Древнеегипетскую цивилиз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5" descr="ag00317_"/>
          <p:cNvPicPr/>
          <p:nvPr/>
        </p:nvPicPr>
        <p:blipFill>
          <a:blip r:embed="rId2"/>
          <a:stretch/>
        </p:blipFill>
        <p:spPr>
          <a:xfrm>
            <a:off x="304920" y="115920"/>
            <a:ext cx="1523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дерево Блоба"/>
          <p:cNvPicPr/>
          <p:nvPr/>
        </p:nvPicPr>
        <p:blipFill>
          <a:blip r:embed="rId2"/>
          <a:stretch/>
        </p:blipFill>
        <p:spPr>
          <a:xfrm>
            <a:off x="152280" y="152280"/>
            <a:ext cx="510552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562360" y="304560"/>
            <a:ext cx="3352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Зеленый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ю, могу объяснить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елтый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ю, но объяснить не 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расный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до под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ажно изучать Древнеегипетскую цивилиз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ag00317_"/>
          <p:cNvPicPr/>
          <p:nvPr/>
        </p:nvPicPr>
        <p:blipFill>
          <a:blip r:embed="rId2"/>
          <a:stretch/>
        </p:blipFill>
        <p:spPr>
          <a:xfrm>
            <a:off x="304920" y="115920"/>
            <a:ext cx="1523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ешь ли ты, где находи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ип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олица Древнего Еги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ь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и, куда совершали свои походы фараоны Еги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кажи о том, ка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Древнем Египте ремесленники и земле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Древнем Египте вельм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Древнем Гепите фара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м из папирусов есть таки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еми домах было по семь кошек, каждая кошка съела семь мышек, каждая мышка съела семь колосков, из каждого колоска могло получиться семь мер зерна. Надо сосчитать, сколько полу­чится, если все сложить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гура – прямоугольник. Одна сторона -  10, другая - 4. Узнай его площ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азвитии каких научных знаний свидетельствуют эти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о этим задачам судить об уровне развития образования в Егип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бочая тетрадь №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ве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пользу египтянам приносила ко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первые фараоны не строили пирамид, потом стали их строить, а еще позднее – опять перес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чайн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 для пись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езанная из камня фигура льва с головой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й бог сухо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египетских фарао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, который вырезает из дерева, высекает из мрамора художественные изоб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евольный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лав меди и о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й, который изучает звездное не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а Егип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ипетская гроб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еский историк, который описал историю Егип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обитный сна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ы в пользу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гадай 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приспособление, при помощи которого египтяне поливали высоко расположенные сады и ог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иня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иня прав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отный египтянин на службе у фараона или вельм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раон, для которого была выстроена самая большая гроб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ы полусгнивших растений и горных пород, остающиеся на берегах Нила после раз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в Северном Египте, похожая на огром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вок зелени посреди пусты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мерт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шь ли ты термины и д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игия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и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о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объединились Северное и Южное ц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3:23:43Z</dcterms:created>
  <dc:creator>Марина</dc:creator>
  <dc:description/>
  <dc:language>en-US</dc:language>
  <cp:lastModifiedBy>MATINA</cp:lastModifiedBy>
  <dcterms:modified xsi:type="dcterms:W3CDTF">2018-02-05T15:40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