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9ADA-1BED-4107-8C42-CC584E1A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52B4-7088-4BD1-B487-2A976368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12B9-33F4-431D-AF56-F302495C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2F37-FCCB-4E39-BCB6-E5C2D460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7D0B-E880-4920-86E0-16F30AA6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CD7D-FE40-4597-B490-A745B2E8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0E1F-C3E8-44D0-B9FA-4FD74C9C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BE7D-DE18-4A75-8B8D-9D09EF1D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3B4A-11E8-4F57-88D7-4370A0C5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FD0E-FD91-4FF1-AB53-D662C3F7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F167-6669-40E4-AF7A-EC69C0FF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77E4-B85F-4D81-9BE2-675BB9DB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9718-D5AC-40EC-88B7-0563908D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3EBC-4F59-4B98-8C83-21852753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D860-EBCC-4781-A2F4-7D15BA09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CA59-AB1D-459B-B0A3-72C0DE76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B0B9-F787-4E54-BBE9-C67E3620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2953A5-B90B-4DC0-BADC-B744B114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10E72C-CF1C-453C-81C2-A894C76C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B07BE-1ED6-4B8A-94C0-B5E6F8C8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F60605-AACE-451A-984C-800C96F1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6C128-3B32-498D-A89C-A36BE5B7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1ECA-F24C-4D7B-B7DC-9BCB1D1F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BAFA65-50E4-47AC-A8BD-879C771A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1F9469-9D85-473D-9F1E-3DE9D07D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DE3D89-7273-463B-B83C-6227D1C7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C1E5CB-02E6-49EB-9303-B69C042C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32FFAF-0F0F-4288-9E7E-4DC4E5B3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727507-9E8C-461D-A2AB-08EAF7B6D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260241-CE83-4E2A-8D8A-D369E3C5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FC61F-5393-4CFC-AA40-95CCB1DA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96DB4-8072-43B7-A838-10A401C7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D5B85-063E-4830-B323-8CC4EA18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FD31-12F0-4106-A22C-DED47159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B3BCD-ED8E-4A29-8884-C4FF1E02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F1764-B739-4850-8C8D-A068F79C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083CA-7745-4473-A526-0EFC0EDE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681B4-445E-4813-A159-2E486364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4448D-522F-4518-B5B4-C6B50542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F0AF8-1FC2-4E1E-92CA-76A6C0E1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ACE15-E3C9-450B-A568-E1F435C4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BC76E-CFB3-4174-93AB-2747A45A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804CF-0507-4804-91C3-4E933AFD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448BA6-06E0-455C-B25E-11C86157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6C62-8BE1-40D4-A999-CF8393C1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D10193-DCC8-4BB2-B93C-81E8D07C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972E1B-6552-4BFC-ACDA-CC491186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D278A6-C1FA-4942-82CB-5FB99D1C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1D1B26-0317-4C55-82E6-E9FAA97F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D4245C-DAAC-49C0-B9EE-FA5C2FEB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F4F327-7B84-4AEC-8B74-1FDBAEBD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43A83C-843C-4E65-9BC6-FD030101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49C96C-18F7-4597-A412-4FF994D5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AC4164-568F-4759-9AD0-637616A4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49AA80-7465-4836-9176-B6561519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D2FF-1E7E-4868-BD77-D9E847BE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DA010C-D202-47E6-B860-3E01919F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62032A-B634-47B5-B9B8-7A1106F5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B2AE99-A743-4F96-A025-0C011919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7B14AA-619E-4A0D-834D-754FC6A8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98C17D-E0CA-4473-8505-10FAF34C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56598F-C198-43D5-AAF5-F9C0070A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A2E8E7-73D6-4DD1-AC10-381C0A1B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BB75FF-550A-4D0F-AADC-CE4BD468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56F71E-162D-4B63-BE05-8C997C97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69823D-0ECA-4F54-B2E8-9A6FE71E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C105-6DC6-4575-BAA9-D9BCA90E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3E0EBE-F058-42C9-98D4-FBBB3657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048D1A-8CEA-43F9-8067-32045257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1E59DA-4320-4353-BB40-0904D00C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F60FEB-85ED-43B9-A713-6892298B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60E80A-FBCF-4BA7-9A17-68BAF777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BCDE16-AF1B-45CD-BF76-FBFACB9C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D4C961-BA9F-4F91-91B6-709176C9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CF5283-9E88-455A-96B2-83F0E9FD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3D541A-31A7-4C2D-9901-76206C00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77BD65-E9B3-4795-97B3-E130E594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0860-739F-40B8-B8C2-35596BC7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EF2161-CAD6-4A51-B4C7-9E3CCE36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12A511-B3B2-4A77-90E9-8E396D01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36BA5B-B849-4A2A-880A-695D41D1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81F4AD-D4D3-4E3C-A72F-070E4796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66FD94-B3BA-4220-A8BF-6551A112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C8BB-7767-4577-A418-772C6428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3C9A-1436-46BE-BA45-FB39FDD1B16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824C-0921-4563-87E8-1FC9DD532EB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E47F-92BA-4A62-87B6-E74F4270F08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9998-9252-4C16-B74A-F561A3C3FF7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D98E-1499-48C7-A40C-CFF29B28C84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FCE4-ED7A-42F9-9B4D-C113071DF65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158F-A0D2-447F-8B93-C9058759590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oikompas.ru/img/compas/2008-03-22/podgotovka_shkole_deti/57652023_ori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oikompas.ru/img/compas/2008-03-22/podgotovka_shkole_deti/35463096_orig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oikompas.ru/img/compas/2008-03-22/podgotovka_shkole_deti/46258850_orig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71680"/>
            <a:ext cx="61722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4617b"/>
                </a:solidFill>
                <a:latin typeface="Century Schoolbook"/>
              </a:rPr>
              <a:t>ПОЗНАВАТЕЛЬНАЯ АКТИВНОСТЬ МЛАДШИХ ШКОЛЬНИКОВ</a:t>
            </a:r>
            <a:endParaRPr b="0" lang="en-US" sz="48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3786120"/>
            <a:ext cx="6643800" cy="263232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ни активности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одуктивно-подражательная активность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ово-исполнительная активность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активность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3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3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3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30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214720" y="2500200"/>
            <a:ext cx="6643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4617b"/>
                </a:solidFill>
                <a:latin typeface="Century Schoolbook"/>
              </a:rPr>
              <a:t>Ученику не будет доставлять радости похвала, если он «все равно хуже». С другой стороны, преувеличение успеха создает впечатление несправедливости, когда хвалят за неодинаковые результаты работы. Чтобы этого не происходило, нужно сравнивать школьника не с другими учениками, а с его прежними работами, т.е. оценивать продвиже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img_9" descr="уроки, первоклассник, домашние задания"/>
          <p:cNvPicPr/>
          <p:nvPr/>
        </p:nvPicPr>
        <p:blipFill>
          <a:blip r:embed="rId1"/>
          <a:stretch/>
        </p:blipFill>
        <p:spPr>
          <a:xfrm>
            <a:off x="2214720" y="142920"/>
            <a:ext cx="4762440" cy="2352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2285640" y="4143240"/>
            <a:ext cx="617220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4617b"/>
                </a:solidFill>
                <a:latin typeface="Century Schoolbook"/>
              </a:rPr>
              <a:t>Формирование познавательной активности школьников достигается в процессе  внеурочной деятельности. Данное работа способствует формированию потребности школьников в самостоятельном приобретении знаний, умений и навыков, творческому их использованию и развитию устойчивого познавательного интерес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img_13" descr="44130634"/>
          <p:cNvPicPr/>
          <p:nvPr/>
        </p:nvPicPr>
        <p:blipFill>
          <a:blip r:embed="rId1"/>
          <a:stretch/>
        </p:blipFill>
        <p:spPr>
          <a:xfrm>
            <a:off x="2571840" y="285840"/>
            <a:ext cx="5000400" cy="3786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2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3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5640" y="499680"/>
            <a:ext cx="61722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4617b"/>
                </a:solidFill>
                <a:latin typeface="Century Schoolbook"/>
              </a:rPr>
              <a:t> </a:t>
            </a:r>
            <a:r>
              <a:rPr b="1" i="1" lang="ru-RU" sz="2700" spc="-1" strike="noStrike">
                <a:solidFill>
                  <a:srgbClr val="04617b"/>
                </a:solidFill>
                <a:latin typeface="Century Schoolbook"/>
              </a:rPr>
              <a:t>ПОЗНАВАТЕЛЬНУЮ АКТИВНОСТЬ МОЖНО ОПРЕДЕЛИТЬ КАК ПОСТОЯННО  МЕНЯЮЩЕЕСЯ СВОЙСТВО ЛИЧНОСТИ, КОТОРОЕ ОЗНАЧАЕТ ГЛУБОКУЮ УБЕЖДЕННОСТЬ УЧЕНИКА В НЕОБХОДИМОСТИ ПОЗНАНИЯ, ТВОРЧЕСКОГО УСВОЕНИЯ СИСТЕМЫ НАУЧНЫХ ЗНАНИЙ, ЧТО НАХОДИТ ПРОЯВЛЕНИЕ В ОСОЗНАНИИ ЦЕЛИ ДЕЯТЕЛЬНОСТИ, ГОТОВНОСТИ К ЭНЕРГИЧНЫМ ДЕЙСТВИЯМ И В ПОЗНАВАТЕЛЬНОЙ ДЕЯТЕЛЬНОСТИ.</a:t>
            </a:r>
            <a:endParaRPr b="0" lang="en-US" sz="27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74" name="img_17" descr="47088776"/>
          <p:cNvPicPr/>
          <p:nvPr/>
        </p:nvPicPr>
        <p:blipFill>
          <a:blip r:embed="rId1"/>
          <a:stretch/>
        </p:blipFill>
        <p:spPr>
          <a:xfrm>
            <a:off x="571680" y="357120"/>
            <a:ext cx="1571400" cy="1857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4617b"/>
                </a:solidFill>
                <a:latin typeface="Century Schoolbook"/>
              </a:rPr>
              <a:t>ФАКТОРЫ  РАЗВИТИЯ ПОЗНАВАТЕЛЬНОЙ АКТИВНОСТИ 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2285640" y="1857240"/>
            <a:ext cx="617220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4617b"/>
                </a:solidFill>
                <a:latin typeface="Century Schoolbook"/>
              </a:rPr>
              <a:t>Факторы, связанные с психологическими особенностями учащихс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4617b"/>
                </a:solidFill>
                <a:latin typeface="Century Schoolbook"/>
              </a:rPr>
              <a:t>Факторы, связанные с  содержанием обучения и методами преподавания</a:t>
            </a:r>
            <a:r>
              <a:rPr b="1" i="1" lang="ru-RU" sz="1800" spc="-1" strike="noStrike">
                <a:solidFill>
                  <a:srgbClr val="04617b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571400" y="142920"/>
            <a:ext cx="681516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4617b"/>
                </a:solidFill>
                <a:latin typeface="Century Schoolbook"/>
              </a:rPr>
              <a:t>Развитие познавательной активности осуществляется путем накопления положительного учебно-познавательного опыта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img_0" descr="576520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72080" y="3071880"/>
            <a:ext cx="2405160" cy="3429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071880" y="500040"/>
            <a:ext cx="5386320" cy="58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Century Schoolbook"/>
              </a:rPr>
              <a:t>У многих детей младшего школьного возраста отмечается недостаточный уровень развития внимания, памяти, мышления способности регуляции умственных действий. Истинное их развитие подменяется усвоением стереотипных способов действия в стандартных условиях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img_20" descr="354630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214200"/>
            <a:ext cx="2500200" cy="278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3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3714840" y="214200"/>
            <a:ext cx="47433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Century Schoolbook"/>
              </a:rPr>
              <a:t>На основе психолого-педагогической диагностики учащихся учителем разрабатывается система индивидуальных занятий с постоянным возрастанием роли  ученика в осуществлении индивидуального образовательного маршрута (ИОМ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img_21" descr="462588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357120"/>
            <a:ext cx="3200400" cy="2381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78580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4617b"/>
                </a:solidFill>
                <a:latin typeface="Century Schoolbook"/>
              </a:rPr>
              <a:t>ИНДИВИДУАЛЬНЫЙ ОБРАЗОВАТЕЛЬНЫЙ МАРШРУТ ВКЛЮЧАЕТ В СЕБЯ СЛЕДУЮЩИЕ ЭТАПЫ: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714760" y="1928880"/>
            <a:ext cx="5743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entury Schoolbook"/>
              </a:rPr>
              <a:t>1.Обучение учащихся самооценке собственной деятельност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entury Schoolbook"/>
              </a:rPr>
              <a:t>2.Обучение учащихся самоконтролю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entury Schoolbook"/>
              </a:rPr>
              <a:t>3. Обучение учащихся выбору при выполнении учебных действи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entury Schoolbook"/>
              </a:rPr>
              <a:t>4.Обучение учащихся целеполаганию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zoom dir="in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28760" y="356760"/>
            <a:ext cx="802944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4617b"/>
                </a:solidFill>
                <a:latin typeface="Century Schoolbook"/>
              </a:rPr>
              <a:t>Известно, что отрицательное отношение к учению возникает при отсутствии успехов. .  Издавна успех считался важнейшим стимулом учения. . Впечатление от успеха бывает так велико, что может поколебать даже сложившееся отрицательное отношение к учен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img_15" descr="кризис 7лет, первоклассник"/>
          <p:cNvPicPr/>
          <p:nvPr/>
        </p:nvPicPr>
        <p:blipFill>
          <a:blip r:embed="rId1"/>
          <a:stretch/>
        </p:blipFill>
        <p:spPr>
          <a:xfrm>
            <a:off x="5214960" y="34290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3143160" y="142920"/>
            <a:ext cx="5315040" cy="62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4617b"/>
                </a:solidFill>
                <a:latin typeface="Century Schoolbook"/>
              </a:rPr>
              <a:t>Успех вызывает у ребенка возникает прилив энергии, он стремится еще и еще раз отличиться. Активность, вызванная стремлением к похвале и всеобщему одобрению, переходит в неподдельный интерес к самой работ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4617b"/>
                </a:solidFill>
                <a:latin typeface="Century Schoolbook"/>
              </a:rPr>
              <a:t>Успех, выпавший на долю ученика, производит большое впечатление на его одноклассников. У них возникает стремление подражать ему в надежде на та­кую же удач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img_2" descr="75689453"/>
          <p:cNvPicPr/>
          <p:nvPr/>
        </p:nvPicPr>
        <p:blipFill>
          <a:blip r:embed="rId1"/>
          <a:stretch/>
        </p:blipFill>
        <p:spPr>
          <a:xfrm>
            <a:off x="142920" y="142920"/>
            <a:ext cx="2857320" cy="2381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2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2500200" y="500040"/>
            <a:ext cx="64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Century Schoolbook"/>
              </a:rPr>
              <a:t>Следовательно, ситуации успеха надо создавать искусственно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Century Schoolbook"/>
              </a:rPr>
              <a:t>Учитель должен предложить для начала легкое и занимательное задание, не обращая внимания на его важность. Пусть ребенок познает радость успеха, захочет повторить его, поверить в свои силы. Это позволит учителю незаметно повысить требования к нему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img_8" descr="68598238"/>
          <p:cNvPicPr/>
          <p:nvPr/>
        </p:nvPicPr>
        <p:blipFill>
          <a:blip r:embed="rId1"/>
          <a:stretch/>
        </p:blipFill>
        <p:spPr>
          <a:xfrm>
            <a:off x="214200" y="357120"/>
            <a:ext cx="2214720" cy="2928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2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2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12:14:25Z</dcterms:created>
  <dc:creator>User</dc:creator>
  <dc:description/>
  <dc:language>en-US</dc:language>
  <cp:lastModifiedBy>Коля</cp:lastModifiedBy>
  <dcterms:modified xsi:type="dcterms:W3CDTF">2013-04-12T17:03:49Z</dcterms:modified>
  <cp:revision>12</cp:revision>
  <dc:subject/>
  <dc:title>Познавательная активность младших школьников</dc:title>
</cp:coreProperties>
</file>