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84-3A73-4CD1-8550-A826E170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253-7895-4A94-8E01-1D81AF53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11637-A6A4-47BC-B172-7BA3445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ACFD2-EA49-4C15-B113-9DA8C85E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696ED-8EF1-4251-A63D-23B45D2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6BCEB-750C-4C6B-8ED5-86E1EE6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1F149-3E70-4E2F-BD78-61316EB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36646-D41A-443B-9D1E-9FAB50DB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0FF2C-E32A-4950-B8A7-5628129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28065-31EE-4448-8107-612371C4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1CAB-0D66-4813-BB5B-5C39FB80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87A8-2E8F-44DB-9626-9D53D3FB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673-F9AE-4C26-990D-05800F4F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7753-D9E5-4884-AAB2-5E108E3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623E2-DA88-444C-A13A-9D1BE7D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9970C-D710-4A97-B14E-9FDC334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BBF14-62BB-40CF-A7D6-2BFE5AB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6D80A-89A1-491D-AD5A-9614D74D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5B87E-4DEB-4263-A50E-29EC99D3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D861F-584A-4618-B4EC-834ADFB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88C1A-DBE8-4E4B-AA7F-031593AF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3A958-8626-4E70-83DE-88486E2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2A629-94CA-4198-BB14-7EDD1CB2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FC2-BA64-42E8-8778-631148ED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EFDF3-6AC4-4873-B3ED-FECDAB14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9F1E-0B2D-4E3F-B560-622D25E1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38A9-494F-472C-94EC-0AB8297C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1501-8DF5-40C3-ADF3-9765AD2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94F1-8FC7-4CC3-B086-0EFE109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D8A0-6E66-4F94-948A-75DE200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9EC9-C2E2-4CDD-B290-9A24016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6B09C-31D9-4B4F-BE67-9C28DED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94A5-DEC6-4383-AB93-58D17DE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6A22-5EB4-44F4-9D5D-FB2834A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32C-02D0-45BC-8FC5-A9EA3970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E6D0-2339-4ABF-9752-64696AD9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DBBD-9489-45D9-B753-9C6FFE6C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89640-E1EC-4F76-B62A-CE3700F7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819DB-FF80-4DEC-A343-4AF3DF98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FA20F-8A18-49DB-A017-6F37D69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76F3C-8D6C-4E61-80DF-A60375A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84A4E-C146-470F-A47C-38B79D5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A8622-F0DC-44D5-86B8-D4C8802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D83A0-7267-4CFE-ABD4-63D14E78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C3F51-F5FA-45FD-9255-A537142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5FB-8F7A-4E42-A5E9-94524C82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D4FD4-7F47-463E-93CB-491499F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2D8E4-E2D0-412F-9708-B93F77A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33E9-E8B2-49F5-B42B-D678A39B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C0A59-1A10-4521-8DBB-4B0C8528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AF1B3-9D61-42DB-92FE-E14269DE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21A61-76C2-4538-9834-32B900F5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5F554-662E-4AB7-965C-152A73D9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939A-DF16-4D9A-9880-32A4344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BC4A2-34D0-49C5-8281-5764A7D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A5D3B-CF3D-43D6-9E6E-E60562F1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F14-F5ED-4EE7-8589-D8C833A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10DB2-9580-4C8E-BE2D-DA4F3FB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713F5-F6C5-46A9-9C98-75FC26F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69F04-782D-4521-82FB-2A7C6E2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1CD20-2D11-4CF5-8F48-9361E57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DA6EE-61C6-4E4B-A003-C08ED81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D472-D6CB-4E47-8503-8FD146C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9013B-DA63-47EA-8706-E99CF6E8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50AFA-8416-435F-8523-002F0181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ED3B2-939A-4C1D-9DE4-99FD5B0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75736-5AFB-4E4F-9942-A1DE86C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B16-BB59-4495-9544-1066313C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BCB74-8246-4239-A0FD-447E66C0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3F53E-C76E-43AF-95F3-9AA148B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CC7A4-617A-41CA-91C5-C1AD65C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34ACE-577C-4419-89BE-956DEBB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C191B-2EA6-4361-A9ED-3AF85DE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3C1D2-7697-4DC2-A5C9-271FEA1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FE6A3-A335-4AE3-A0EF-DB312EA6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52082-EDB9-49EA-8064-53A65D53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E1D4F-9B05-4B78-B4BA-17834A89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94F46-4DA5-4877-B829-6ACA1E3B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800C-F80B-4322-A288-23D4BB6B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9C1DC-1C02-400B-BC13-8B20B89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1584B-EEEB-4E91-9F33-17D1D07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D2081-D415-4503-B329-570AD58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3B00B-51FA-4D31-9F3C-554486B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CBC53-750F-4E70-9F2A-4D054BB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E789E-0FC1-490F-A69A-C3D558E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25D2E-8CDE-452C-AD04-6A31EF0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48FF5-80F6-44D8-8A45-5C6EA32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27D15-7D2D-4FA9-B26F-58E197A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8A0E5-9840-4BBE-840F-6E67004D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7BE9-ED3D-409F-A9EA-A46DCE3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30166-1D1C-41A4-9943-64761C44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793C3-80FF-47E0-9815-FEBC3007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3A3C8-1EAA-49D1-8F47-D1902F2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0F268-2A7E-41CF-A7D4-6CCE4B9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251F8-AACE-4A9F-BAA0-A3AE73E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0F57A-46B9-4200-A565-846A37BC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1AD76-782B-45B9-B839-39879000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B9242-DA66-4760-B814-24677AA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974AF-2AC7-4A98-B437-D662831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954F2-988F-42E9-BBF7-4866676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5952-BA4B-4E0B-9790-0F80391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DBDBC-D453-4907-B57F-A7DCE7D8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F2388-E5F4-4491-87EA-B5F2D03E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02BE9-9E13-48EA-B852-0A46B310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59008-922F-4BDF-81B4-56FA3FD3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5474A-9612-4B31-A08E-7D4EF63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31740-92BB-4E53-A5EC-02AE6C7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34A5F-E471-4324-8ACF-49A5534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423BB-6B32-40CA-825E-0CD5322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BAB28-5854-4601-9B5A-107E943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E0ED2-EDD8-4468-B0A2-4F38DC4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609-8E7E-4C03-BAF5-53AA6C84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F81-8D26-4B4B-A719-99C144F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6C146A-E7FF-415A-9E18-172D1F0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8952B-F3D6-4435-9B73-47B9752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4F25F-8509-4F12-991C-AB0693E0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2779F-C847-4CE9-B68E-154901F2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89927-97C9-4A01-B7FD-BBAA0BA8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5DD93-1A07-46AE-8CDA-8E4D19B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3EF31-B13D-44F1-AD6C-275FB42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B5233-B3FA-4685-93E2-AF210CC8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AB1A8-CDC2-43C7-ABD1-94C02AE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D8885-C7AC-4759-A3E9-471F97E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0C49-7CE8-4DF7-A637-B5A81982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459E8-9B7C-46FC-9CD3-BDEBB82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FE669-C0C1-40D7-B0B6-25912ED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F7028-8556-4B5E-9043-6A64D890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35509-ABF7-4C3D-AB3C-D8BF1C8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10D6B-F7DD-4425-91DC-08465969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7AB92-9124-4EEC-AF64-96B38292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DE7A8-BDFA-4443-BC94-A069B121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296BB-771C-4ED8-8F7A-DC162D07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FCE16-B546-45F7-A8AE-32E3340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BF955-75A3-49F6-B12E-C1882BE5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EC1B-E841-41F1-8508-E3209A9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E7645-734A-4605-B0C8-91ABAEE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5E258-6C06-4DAC-A3A1-9F45A86E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9788B-C815-4D37-88FE-1518AE0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C6EDF-C581-46D1-AE22-30AEFDD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7271E-167F-40CE-AFBB-93F304A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19A81-20F5-428E-B0BD-2414F67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D7DA2-D6BE-44E5-826F-1CF0AAA2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CCF4E-4A9A-4DD6-BD02-80CFC75B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2D293-2F7B-44AC-B2F0-7F3F91E2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952AC-F56F-4375-9A03-64F42D0C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810-685F-4654-8281-AF729175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4AB8D-8969-4FA4-B0A2-D45419F3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B2F09-1C11-460B-AF01-CC8B711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686EC-CF76-40C3-A216-C7D3021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AB3D90-89E0-4810-82F2-FE3D6483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A32E7-739C-43B7-9B21-4F86202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E4CC4-D6F1-47F9-8985-73AC2E3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53ED2-050D-442F-81B8-10F19F9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18261-4D51-4066-B80C-88B0C48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1A458-8762-403B-B4CD-0D7A1CF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B264E-A96B-4C95-9DBE-A475EA47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0C8-B901-4E74-98EC-9721E255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451E3-37AF-45CC-BB25-4AC7B4FF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0D343F-0936-4006-9083-1130BD2E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7B1E0-ACF7-4371-920C-0EFB84F5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06FD9-2EDD-46AA-8DEA-BD348A2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38391-29C4-4341-831D-EDD9140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C03D7-F9C4-4ADD-970A-4A9A843E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5BFD7-94CD-40EF-9E39-18E8B62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C3581-5112-47B3-B04D-4C948B70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C145B-D77E-4E6B-A535-6E17241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27E75-F162-4290-B1F3-2437A86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A1B3-9B17-4976-B407-43865D9D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B4B75-D402-4F9C-A0D5-547FC0C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46DA6-D851-4543-9FBD-AA5F5C4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69ADA-1F7C-4AC3-B8FB-FF9EE3FC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390F4-407F-4430-9954-645DDE04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F93CA-12A4-4ACD-BCC8-D288E545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0A111-95B3-4BA0-9CE1-8CC00D7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29F30-F423-468D-9A05-53D7764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875A8-ECE6-4F46-BCEA-BCB99E15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4CBB18-9A47-45D1-B485-AA37481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08211-12A5-4805-841C-DC77B1F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BD10-14EE-4356-BA50-491F9624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30C8F2-EB5D-4CC1-B74C-B2422031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D254A-B021-4C89-92C6-861E565F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53A6C2-860C-405B-83EB-553E2D07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468A4-188C-4A97-BD68-E09DEF40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9296F0-0F89-4ABA-A75C-FDD358D9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4992B6-9CBE-4D25-942F-35705A6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F1A28-BFFD-4868-AA4D-3308D3A3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FB485-20DD-48C2-8FF8-732CB6F3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29974-B924-4A55-A05F-F115106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BB909B-74AE-4DA1-B36D-B6D0F75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EFD5-8896-400B-A4E2-A2C74BE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8F6E5-1480-4045-8A08-9FD90A0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55D00-2916-4145-9E69-EF329F7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BFF356-A09C-403B-8A00-7D8925E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3DEC17-CAF8-44C7-A881-9F7F91A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FCF1D-6BBF-4024-9CA0-A7CD97F0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346C1-564F-424F-871A-7B1158F8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DD9BB-4B97-485C-954E-855AC30A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5AC34-8D70-4B83-AB5D-C9CFD2C4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EA9D15-ED7D-49DA-A856-0C134E7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A1EE6E-E23E-40F5-A1A6-E286B38E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EBBE-58FB-467D-9046-2CA4A5CD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03B00C-48C2-4271-ACB7-8186D11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96FFFE-00CB-481C-9F4C-B4A83A13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25C22-2597-46A3-A651-F8C8AB36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CF33CD-65CE-4B18-808A-592FFE1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372BFB-CDB0-476D-8513-0DE9A13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423F2F-BFE6-43F3-B053-5A9C839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2C898-29AD-47EC-8352-AD84D524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D10721-B5F8-4155-856C-F4B3F8D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B5F9B6-5278-4DD6-8834-C9B86F75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0B31D8-CEFE-438D-92A7-B88B67CC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59EA-C96B-4BAD-B90F-15A85D6F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8C184C-2DA9-444A-9AC8-9235591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3250D6-2E7B-454C-BB93-C699DC2E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AF1EC7-C996-426A-A96F-976023DD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7FB12A-88D3-48A7-A64C-95B4281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9A195-8C8C-4B19-A181-2905CB8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39781-411F-4CE0-9B8E-38F844E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16934-B95A-4FE8-AD22-8F99F4F3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BE2E3B-33E3-4FAB-B2EA-FD2713D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D7FC50-2CE4-4045-862F-583AC76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F63A10-B883-405D-9D59-8AB801DB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BA0-8F4F-4B7E-8881-0B929B5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2004-3D85-4CD6-8B6E-11585A5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47B1DE-BBC8-4977-A3AF-EA5F7BCF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7C63EF-4228-463F-B236-13D7EA8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8BB0A0-C41E-4A09-81D8-12392C8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B62A1-0167-4554-BCC6-E64F196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94EADB-C00C-455A-A4B7-285B438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D1C73E-A014-498B-91DC-DD6ECCBC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BE176C-4404-4C72-AFEE-2FC4EB4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7DCB42-302D-471B-B507-3DAEC86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8BE620-BAED-46B2-B3D4-190D0CF9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75C9DD-F3F9-4178-AFA4-E67E4B9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A080-388E-4F47-BB5D-3196F13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BB1241-C861-45E6-B64D-017FB52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F5A7E7-DD30-44A4-8B3D-4AE1CA2C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A15167-82DD-485E-AF31-CCF1E86C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33AFCC-F6E4-436F-9999-7D66AD76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3DBE9-7FA8-423E-AC1A-81EA16A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AD57FE-F02C-49DD-BA4B-5FCC925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AEFF08-19E1-437D-830F-1943B8B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087A58-1693-4E77-98D0-5EBB451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E3FA20-E06B-4638-935B-CE90780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658A83-CE88-4DDC-91AC-2B345B1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4407-39FA-468B-BFF9-2F5373F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DF7AA-163F-4F71-BDAC-ADA36F7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6DEF74-4D09-47ED-852B-F51CCF6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14686-CCE5-4510-B5DF-C63AAED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7E09DB-CFED-4BA4-9AD6-0787B009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0B38ED-BC40-4854-9990-CE4D0C5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03220B-8C47-4549-9D3B-0B2BCB9D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71A38D-E747-41F6-932C-D65D342C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7C8F79-DBEE-446F-9A85-99C731F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2C17FF-9AB0-42B9-BEF3-25B2AD9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3CC729-A25F-466F-B89F-8AEA4B71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ABC1-4B58-4735-BCCE-DECCE0C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590F5D-E3B5-4C48-8B71-CB7DE6A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901001-92E7-42D6-94F5-0BF5159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556BE6-80E1-4C68-A640-3F78B2E2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E4B4C-8D3A-4B7C-A0EC-C6CA428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A7874E-7CD0-478A-99B2-4510FE8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4A60DD-FFB0-431B-9F63-CE1B44B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3E7BDD-BF56-41F6-93EE-3FBEAB4D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D42CA1-790F-4633-A431-0CC18D29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835BF5-76A2-45A3-8B72-77BA12B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D8E197-D938-44C9-A75C-B0C1882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9BD8-57CB-474B-AB18-1976A9F4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65DF5C-108E-47E0-8697-FFEC9C3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8DE69C-FB61-45CB-A7AC-70F1849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E3E066-80CA-48FF-8FFC-EB6420F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3CAD0C-EC28-41EE-80D1-CCD2B09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67CC5-B889-42BA-B6DB-A92F045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44984D-8D1B-4FFA-ABF5-C2AE8482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6A69AA-33C5-46C6-8B88-67763EAF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F20425-0C14-4F35-8BBC-A47F9DA7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C3706-0EEA-4769-9168-95B8E33E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DB8E-6CDF-4286-B295-401488F4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A2CA-BF3E-49BD-8024-639BE44C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74B1-E75F-4453-96F6-76FF07B8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F37C-EF7B-45B3-8E8A-6ADD118C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95FF-C177-4680-B99D-F0F6048D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DC4-D840-4EFF-B202-6F805BFD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D61A-CBF4-4E78-819A-E474F61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0D15-207F-42B3-950F-E8D9C1DA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477E-270B-45B8-AD3E-907259B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A50A0-DE03-4408-A6A7-7118F77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7ECF-14ED-4707-BA31-68EE933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52FE-04E9-4CA6-8FD1-99235BA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E56D-DB82-4879-9170-2BD3C48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E3A5-11AE-49AC-8584-BEC5E78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2CDD-DF01-4E97-8C6D-E3E82AF7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30BE-42FD-4D96-9358-85124599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035-02D8-4200-A95C-0BF19FE5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C134-F93A-412C-B3BE-56010F7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63EC-9702-4E72-931A-989ED2F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48B04-5547-4F9A-A84A-CFEEF35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7D6D-7310-4C4A-8EDD-4A07BF5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F9C14-897D-414D-8695-E81FC747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9F18-D46A-4BA6-9825-0D36A55A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0739-1098-4AD2-A8EB-E1D2AA5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D494-E0EE-43D2-8A5C-FC9F73F8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7310-7761-4AFC-8B7F-55625EC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71E0-AA88-4BBC-A93F-B7E9FB20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7EF-87C4-45A3-89B4-1E3E665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9B0D-1FBE-4AB5-AE18-3084E982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E549-BABB-4F6D-B3B7-789EA0E8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6E611-3D20-43A9-8ED4-5115BD3E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C5D2E-7B85-4FB2-96A0-870EB98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82E1-328D-4D94-AE84-FB9995C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945D-4C10-4DAC-B91D-115BE16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750E7-E94D-4F3A-83CE-6BB5321B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0CD6-BD34-4080-B8A5-B35048C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5973-D431-49FC-95A6-FEB7BC8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4BE7-9656-400F-AA5D-26148B8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E26-6C38-418D-8940-ECA1052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99E5-CB3E-4A38-BA58-C39D54C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CC87-43A4-4B55-B082-02706C0E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6AA0-4C1F-495B-A42D-047724F2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8C87-E3F9-4A25-9E6C-40F791FD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7679-69C4-46F7-92CD-3EF2228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78AF-4264-4D99-B6E1-5256CBE5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B087A-CC24-487F-A537-41C2F3AC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BF7A-61EA-4E49-9E14-813DE21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679E0-4251-4205-909C-46D2DA1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B314E-44CB-46EB-A63A-4960D12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6D0-D76A-4AF1-B4F1-7B408CD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67AB-C537-4792-9815-6F580EF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1A46-6FD6-41EA-8519-6EE0DD4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F1E3-09E5-4B51-89D3-E38A46E3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491B-616A-40AB-98E9-B9AA5CD1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4103-8324-4317-8342-C2CB0CFB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C8FA4-A023-4940-966A-F2D5B684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59AE-3E52-4CDA-A1B3-47C7D98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51901-95E0-4AD9-9196-B3C2BEE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B86EE-2CD5-44B9-8F49-7D43526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0B18-9699-4E9A-B138-1EEBEFDD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269-953F-45A2-8892-447CDD1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1FD8-DF16-45DA-A4DF-5B40676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4B13-A2AA-4E1D-9375-BB16D31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076B0-4D42-4074-86E3-8FE77B15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971A9-F64B-4780-80BE-BE7DDB2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A9EE-9BFE-4D5D-A89C-D1C45EA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691B-EF67-4BB8-B16A-8D898C13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3513-81F2-42F8-B75E-E7643834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47161-9B27-42ED-86F7-D04A7933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5EC0A-E01D-4561-B306-3CAB582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D523-5B9D-4854-8BF2-C8A862B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0A14-072D-4A6D-ACA2-0FE588156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4B9A-81F2-4A67-BF1C-AEA45E7DB65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6AF-409A-414A-8D06-5A85D44D5E55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5D32-C32C-451B-84A3-36A112BAD4C6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25D1-E7F6-4305-B5FE-4D2859D4496B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536F-FE71-4DAC-A5DA-36D07BE6F1E6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ED5-1464-4E60-803C-6DCC96FABD5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6B4-99A8-4F5B-B52B-A1D8CEC1A57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6B7D-7EB2-436C-929F-F3AC0642B435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C5B0-32C3-441B-843A-72F932F1897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EB05-5BA3-48EC-BC74-302E17ACCD0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BB00-3D78-4ECB-AA48-C4A5CB0CF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0F3-2310-4D07-A141-28A3C65F112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D8BB-4E7C-4B87-9B8E-2168DF7A4B3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9543-0DD7-4CED-87D1-1E7B2AA58F10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B8BA-D9A7-45DE-9D75-D68172FCB57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211-1A88-4838-8413-D94E2202E81D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C4A-62F6-4BD1-AFB4-9A290317103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0259-2E4D-41AC-A3FC-69605E0F8FE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4BC-1CE9-4D6B-A741-E73B9C42CFC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982-ECE5-4D17-930F-74833840879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A3A-49E6-4350-B39A-C8731B288BD5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23E5-FECB-44F0-95F9-07D472114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22B-0E4E-44BF-8EA3-F230DB688AC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1F8-EA72-47CF-89F3-0A81FC208FE3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6BC-7427-4732-B641-D529EDBF03CC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546-23EE-4A5E-A84F-2223D70164F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553-5E02-49B3-91D5-C3EF629FA199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DA1-CD63-4536-A43F-3400EA1BCF60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ВОПРОСЫ ФАРМАКОДИНА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98160" y="40464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826920" y="-7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ВОПРОСЫ 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880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Что изучает фармакокинети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Какие пути введения ЛС относятся к парентеральны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еречислите инъекционные и другие парантеральные пути введения ЛС в организм. Каковы особенности введения ЛС под кожу, в мышцу, в вен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Каково значение путей введения для скорости и характера действия Л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Что такое биодоступность ЛС и каково ее знач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От чего зависит распределение ЛС в организм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Что такое метаболизм лекарственного вещества, какого его знач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Укажите основные способы экскреции ЛС из организма в зависимости от свойств веще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Что изучает фармакодинамика? Что такое фарамакологические эффек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ВОПРОСЫ ТЕМ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.Дайте краткую характеристику механизмов действия Л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.Дайте характеристику видов действия лекарственных веществ (местное, резорбтивное, главное, побочное, прямое, косвенное, рефлекторно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.Дайте понятие о тератогенном, эмбриотоксическом, фетотоксическом действии ЛС при берем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.Что такое терапевтическая широта действия Л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4.Чем отличается побочное действие ЛС от токсическ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5.Чем отличается привыкание организма к ЛС от лекарствен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.Что такое кумуляция и чем она опас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.Виды комбинированного действия ЛС и их зна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4:17:56Z</dcterms:modified>
  <cp:revision>17</cp:revision>
  <dc:subject/>
  <dc:title>Практическое занятие №</dc:title>
</cp:coreProperties>
</file>