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0E4-31BC-4A58-BF43-EA9686C5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A40-AA4D-4E3E-8A09-B86BBACE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87D-7401-476C-B629-438A131C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73E-B591-451F-B42C-16538F82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063C-F04E-4C43-BA16-8A1ED8B3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B353-39F5-4D60-A6D0-4E397B46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77BC-48EB-4A08-8551-FCE18255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187B-3B05-4D87-ADA8-C1199EF6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DC94-B6AC-4DF2-B4C5-DD0FA5B7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DFB3-733B-4135-AB0A-6D7C1B38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828E-0622-4FBC-87E8-7472C020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A66-1413-4E37-B0FE-4AAF8FCA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145F-2B6D-46A7-8F3F-47831BF7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A050-896C-4C54-AA3F-96A0FA6C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CA39-0431-4DE3-8D13-1A70B7D9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956B-A47A-440D-A747-9AFA4EF6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40F0-9FAE-466F-904D-E2ACF537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817-0180-403A-B4E1-2FA447C1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F67-FB9E-4139-81E4-4F241A59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67A-6B32-4803-85C0-835E8A5D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D1C-917B-485C-A525-DD1B2993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5DD-0A7F-49AD-8430-6C3A92CD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A52-16F5-4458-A266-CF82DF94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18A-1DB9-4167-BA4A-06E5856B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371E-8C9A-4132-BCC3-052240210A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8DB6-3899-42ED-A918-957D57B19E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ческое занятие № 1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РЕДСТВА, ДЕЙСТВУЮЩИЕ НА ФУНКЦИИ ОРГАНОВ ДЫХ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66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одготовила Пашедко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71240" y="32868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Государственное бюджет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«Медицинский колледж №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1268280"/>
            <a:ext cx="8229600" cy="4997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сификация средств, влияющих на функции органов дых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имуляторы дыхания прямого типа действия: кофеин, кам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а, бемегрид, кордиамин. Сравнительная характеристика. Показания к применению. Пути в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имуляторы дыхания рефлекторного типа действия: цититон, лобелии. Механизм действия и особенности приме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тивокашлевые средства, их классификация. Механизм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тивокашлевого действия и показания к применению. Меры предосторожности при назначении коде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щая характеристика отхаркивающих средств. Их классификация. Особенности действия. Показания к примен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харкивающие средства рефлекторного типа действ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параты термопсиса. Механизм действия. Приме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836280"/>
            <a:ext cx="8856720" cy="5040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Сравнительная характеристика отхаркивающих средств прямого типа действия: калия йодид, натрия гидрокарбонат, капли нашатырно-анисовые, трипсин, химотрипсин кристалличес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Комбинированное использование противокашлевых и отхаркивающих сред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 Бронхолитические средства. Общая характеристика. Показания к приме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. Различия в механизмах действия м-холиноблокаторов, ад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номиметических и спазмолитических средств миотропного действия. Пути в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4000" y="1341360"/>
            <a:ext cx="788508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. Общая характеристика групп лекарственных средств, применяемых при отеке легк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. Использование дегидратирующих свойств маннита и моче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ны для инъекций при отеке легк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3. Противовспенивающее действие спирта этилового, кислорода и антифомсил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06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ства, действующие на функции органов дых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drawingml/2006/table">
            <a:tbl>
              <a:tblPr/>
              <a:tblGrid>
                <a:gridCol w="4408560"/>
                <a:gridCol w="4735440"/>
              </a:tblGrid>
              <a:tr h="580536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Адреналина гидрохлор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enalini hydrochlorid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Атропина сульф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opini sulf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Бемегрид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grid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 Бромгексин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mhexi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Калия йод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i iodid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Капли нашатырно-анис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guor Ammonii anisa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Кодеин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i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marL="407880">
                        <a:spcBef>
                          <a:spcPts val="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 Кордиамин Со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diaminum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 Кофеин бензоат натрия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feinum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rii benzo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078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 Либексин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bexi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078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 Лобелина гидрохлорид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belini hydrochlorid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078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Манн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078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. Мочевина для инъек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078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. Натрия гидрокарбона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078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trii hydrocarbon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078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. Строфантин К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rophanthinum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078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Трипсин кристалличес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078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 Фенотерол (партусисте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07880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noterol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характеристику лекарственного средства по алгоритму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ое название препарата(торговое, МНН)./Латинское название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рмакологическая груп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ханизм дей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оказания к применению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бочные эффекты препарата, противопоказ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 введения, особенности введения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передозировки, первая помощ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карственная форма выпуска препарата (таблетки, раствор) и правила хра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цепт на лекарственную форму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исать в рецеп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ронхолитическое средство из группы холиноблокатор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тивокашлевое средств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харкивающие средства рефлекторного типа действ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имулятор дыхания прямого (центрального) типа действ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егидратирующее средство при отёке лёгки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харкивающее средство прямого типа действ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парат для лечения рини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ронхолитическое средство из группы адреномиметик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07:27:57Z</dcterms:created>
  <dc:creator>ФармОВП</dc:creator>
  <dc:description/>
  <dc:language>en-US</dc:language>
  <cp:lastModifiedBy>ФармОВП</cp:lastModifiedBy>
  <dcterms:modified xsi:type="dcterms:W3CDTF">2018-02-05T08:24:00Z</dcterms:modified>
  <cp:revision>22</cp:revision>
  <dc:subject/>
  <dc:title>Практическое занятие №</dc:title>
</cp:coreProperties>
</file>