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B7FD-6DD9-4B5B-A269-C9BF5252E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5F39-C865-4CC3-BC02-556074B9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67BB-A226-438F-BF6E-4EEBB3F35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FAAD-1CCE-4953-B4E6-AEA31AF32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96D9-7DD6-4E3A-86CD-B485FD019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5B0E-DEE4-438F-95EE-0D402C74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02F2-2D4E-4588-9566-2366E4F6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6743-0263-47DB-A439-97658E57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F3CBA-A460-4162-8AD3-216AF77E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77792-61F3-44BC-9C7E-A2BD506B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DE3A-DDC1-454F-9339-DCA6F504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FA7F-BD63-46DA-B2C4-3B3970BE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B435-34B6-457C-BC49-B3697E80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FF3E-841F-410A-AAAB-79E7E6E9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5862-784A-461B-9893-F2C03934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47E8-4081-4578-952E-951BD402A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FB16-134D-418A-87BA-07BB675CC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1631-7D9B-49C3-B0E1-647A7D2E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A7AF-D7BD-40BD-BD06-2D19A296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7641-7F45-4A3A-A774-1D884617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7023-B7F7-404D-B799-47AA403A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64C6-A40A-40B1-97B1-264C6D68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4A97-F05B-4F3C-8E8B-CCD92740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D8A8-ADA1-4E77-B9E4-F3D71F5D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3B57-BBF4-48B8-81D4-E68EC92C96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CF4A-3E95-48B0-A680-693FF12C82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актическое занятие № 11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ИПОТЕНЗИВНЫЕ, ДИУРЕТИЧЕСКИЕ СРЕД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66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Подготовила Пашедко О.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2017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471240" y="328680"/>
            <a:ext cx="813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b5ff"/>
                </a:solidFill>
                <a:latin typeface="Calibri"/>
              </a:rPr>
              <a:t>Государственное бюджетное профессиональ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b5ff"/>
                </a:solidFill>
                <a:latin typeface="Calibri"/>
              </a:rPr>
              <a:t>Департамента здравоохранения города Москв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b5ff"/>
                </a:solidFill>
                <a:latin typeface="Calibri"/>
              </a:rPr>
              <a:t>«Медицинский колледж №6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СНОВНЫЕ ВОПРОСЫ ТЕМ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95280" y="1052280"/>
            <a:ext cx="8229600" cy="55450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нятие о гипертонической болезни,  гипертоническом кризе. Классификация гипотензивных сред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авнительная характеристика гипотензивных средств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нижающих тонус симпатической нервной системы, и ее влияние на кровеносные сосуды   (резерпин, бензогексоний,  фентоламин,       празозин и др.)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ипотензивные средства-блокаторы ангиотензин конвертирующего фермента (АКФ, АПФ). Общая характеристика препаратов /каптоприл (капотен) и др.)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ипотензивные средства миотропного спазмолитического действия, магния сульфат, папаверина гидрохлорид, но-шпа, дибазол, натрия нитропруссид и др. Общая характеристика. Особенности действия и примен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2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НОВНЫЕ ВОПРОСЫ ТЕМ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79280" y="836640"/>
            <a:ext cx="8856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 Фармакодинамика диуретических средств, используемых 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ечении гипертонической болезни (фуросемид, дихлотиазид, спиронолактон, триампур и др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. Сравнительная характеристика средств центрального типа действия, влияющих на тонус кровеносных сосудов (клофелин, метилдофа и др.). Особенности применения при лечении гипертонической болез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7. Сравнительная характеристика средств, используемых дл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упирования гипертонического криз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8. Возможность комбинированного применения гипотензивных средств при лечении гипертонической болез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2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НОВНЫЕ ВОПРОСЫ ТЕМ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79280" y="836640"/>
            <a:ext cx="8856720" cy="6021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9. Понятие о процессе мочеобразования. Общая характеристика и классификация диуретических средст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0. Механизм действия и особенности применения диуретиков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лияющих на функции эпителия почечных канальцев (дихлотиазид, фуросемид и др.). Показания к применени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1. Побочные эффекты дихлотиазида и фуросемида. Понятие о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ипокалиемии и меры ее предупрежде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2. Блокаторы карбоангидразы (диакарб). Особенности действия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 примене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3. Калийсберегающие диуретики (спиронолактон, триамтерен и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р.). Особенности действия и примене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4. Осмотические диуретики (маннит, мочевина для инъекций)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казания к применени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5. Возможность использования диуретических средств для лечения гипертонической болезн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8064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ИПОТЕНЗИВНЫЕ, ДИУРЕТИЧЕСКИЕ СРЕД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50920" y="1052640"/>
          <a:ext cx="8713800" cy="5472000"/>
        </p:xfrm>
        <a:graphic>
          <a:graphicData uri="http://schemas.openxmlformats.org/drawingml/2006/table">
            <a:tbl>
              <a:tblPr/>
              <a:tblGrid>
                <a:gridCol w="4319640"/>
                <a:gridCol w="4394160"/>
              </a:tblGrid>
              <a:tr h="5472000">
                <a:tc>
                  <a:txBody>
                    <a:bodyPr lIns="24120" rIns="24120" tIns="0" bIns="0" anchor="t">
                      <a:noAutofit/>
                    </a:bodyPr>
                    <a:p>
                      <a:pPr marL="754200" indent="-343080">
                        <a:spcBef>
                          <a:spcPts val="1026"/>
                        </a:spcBef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прилин (обзидан)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prilin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754200" indent="-343080">
                        <a:spcBef>
                          <a:spcPts val="1026"/>
                        </a:spcBef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нзогексоний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zohexon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754200" indent="-343080">
                        <a:spcBef>
                          <a:spcPts val="1026"/>
                        </a:spcBef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рапамил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apamil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754200" indent="-343080">
                        <a:spcBef>
                          <a:spcPts val="1026"/>
                        </a:spcBef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базол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bazol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754200" indent="-343080">
                        <a:spcBef>
                          <a:spcPts val="1026"/>
                        </a:spcBef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птоприл (капотен)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р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pr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754200" indent="-343080">
                        <a:spcBef>
                          <a:spcPts val="1026"/>
                        </a:spcBef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гния сульфат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nesii sulf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754200" indent="-343080">
                        <a:spcBef>
                          <a:spcPts val="1026"/>
                        </a:spcBef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-шпа 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pan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 marL="411120"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 Папаверина гидрохлорид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р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ini hydrochlorid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11120"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 Раунатин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unatin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11120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. Диакарб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acarb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11120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. Дихлотиазид (гипотиазид)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chlothiazid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11120"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. Маннит М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ni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11120"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 Мочевина для инъекц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11120"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 Спиронолактон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ironolacton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11120"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 Триамтерен Триамтер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11120"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Фуросемид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rosemid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11120">
                        <a:spcBef>
                          <a:spcPts val="1026"/>
                        </a:spcBef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43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авить характеристику лекарственного средства по алгоритму: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усское название препарата(торговое, МНН)./Латинское название препара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армакологическая групп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ханизм действ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новные показания к применению препара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бочные эффекты препарата, противопоказ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особ введения, особенности введения препара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знаки передозировки, первая помощ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екарственная форма выпуска препарата (таблетки, раствор) и правила хран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цепт на лекарственную форму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15520" y="274680"/>
            <a:ext cx="8170920" cy="8064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писать в рецеп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1196640"/>
            <a:ext cx="8229600" cy="55450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парат для лечения гипертонической болезни и получения седативного эффект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парат для лечения гипертонии из группы калийсберегающих диуретик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парат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ля лечения  тахикардии, стенокардии и гипертонической болезн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парат для лечения гипертонической болезни, противопоказанный больным  бронхиальной аст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парат для лечения гипертонии из группы блокаторов кальциевых канал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парат для лечения гипертонии из группы  н-холиноблокатор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парат б-Адреномиметик кардиоселективны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парат для купирования гипертонического криза из группы диуретик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3T07:27:57Z</dcterms:created>
  <dc:creator>ФармОВП</dc:creator>
  <dc:description/>
  <dc:language>en-US</dc:language>
  <cp:lastModifiedBy>ФармОВП</cp:lastModifiedBy>
  <dcterms:modified xsi:type="dcterms:W3CDTF">2018-02-05T08:44:43Z</dcterms:modified>
  <cp:revision>22</cp:revision>
  <dc:subject/>
  <dc:title>Практическое занятие №</dc:title>
</cp:coreProperties>
</file>