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2BB-BAC1-4596-8F68-AF96ABBE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E31-80EF-4A49-AC0A-5735C927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AB4-DA29-4A3A-A477-11CAF8D1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339-396E-400C-8EB4-79EB1A83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C046-C803-454F-9D27-0012D81A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53CC-622B-4CDB-885F-A759B23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229-D29E-43D5-9773-39AAB3F8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531-B3FB-4AA4-B4BE-A207784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09E1-0CA2-4E54-BF5A-0443E1F5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D091-AF91-434C-8B83-521BF087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4997-7400-454F-97BB-627D741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DE4-658A-4C9A-8898-FED2B203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123C-CED0-4D64-AA13-A39CFBF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585B-331C-47AC-94B1-AB9192AF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3F4B-DBD2-401C-9B3E-160DE2F9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82F1-C6A7-4411-85D5-5AAE39D9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4D94-161F-49D8-833A-E229489E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BFC-A363-4D96-9C35-F3CA57F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3EB-8CD7-4A7C-A3F0-2FB9CD6A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E11-1C13-40BD-8854-F0424722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7FC-AC6D-41FF-AF19-6836DD12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CD8-B549-4F40-9F23-BD4BC7F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B2B-F449-4245-8DB8-F5B2C87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13D-054B-4AB1-993F-D21CA0B8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7FDA-9675-4C16-8EEE-3EBF7CE75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0E12-590B-4A79-AE7C-8CA2CA09D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2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А, ВЛИЯЮЩИЕ НА ФУНКЦИИ ОРГАНОВ ПИЩЕВА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ификация средств, влияющих на функции органов пищева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ества, влияющие на аппетит. Классификация. Особенности действия и применения веществ, повышающих аппетит (н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йка полыни, настойка горькая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ества, снижающие аппетит (дезопимон, фепранон, мазиндол и др.). Особенности действия и приме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ества, влияющие на секрецию желез желудка. Понят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гипо- и гиперацидной функции желудка. Общая характеристи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яторов образования желудочного с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редств заместительной терапии при недостаточной секреции желез желудка (сок желудочный натураль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цидин-пепсин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фармакологических средств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яемых при повышенной секреции желез желудка (м-холиноблокаторы, блокатор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-гистаминовых рецепторов, антацидные средства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640"/>
            <a:ext cx="8856720" cy="5688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Принципы действия и применения рвотных и противорвотных 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Общая характеристика средств, применяемых при нарушениях секреторной функции поджелудочной железы. Понятие об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ом и хроническом панкреатите. Особенности применения препаратов (панкреатин, контрикал, панзинорм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Желчегонные средства. Влияние на процесс желчеобразова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я и желчевыведения. Сравнительная характеристика препара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 (таблетки "Аллохол", танацехол, цветы бессмертника, маг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льфат и др.). Понятие о гепатопротектор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Классификация средств, влияющих на моторику кишеч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 Слабительные средства. Классификация. Особенности дей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вия и применения препаратов (масло касторовое, магния суль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т, препараты сенны, бисакодил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А, ВЛИЯЮЩИЕ НА ФУНКЦИИ ОРГАНОВ ПИЩЕВА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8000" y="974880"/>
          <a:ext cx="8928000" cy="5694120"/>
        </p:xfrm>
        <a:graphic>
          <a:graphicData uri="http://schemas.openxmlformats.org/drawingml/2006/table">
            <a:tbl>
              <a:tblPr/>
              <a:tblGrid>
                <a:gridCol w="4054320"/>
                <a:gridCol w="4873680"/>
              </a:tblGrid>
              <a:tr h="569412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магель 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magel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оморфина гидрохлорид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о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phini hydrochlorid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ропина сульфат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ini sulf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идин-пепсин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in-peps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сакоди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codyl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зопимон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sopimo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афенин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aphen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Кислота хлористоводородна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денна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um hydrochloricum dilut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Контрикал Со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rycal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Магния окись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gnesii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ху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Магния сульфат М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nesii sulf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Масло касторово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eum Ricin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Настойка полыни Т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tura Absinth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Натрия гидрокарбонат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i hydrocarbo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Но-шпа 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pa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А, ВЛИЯЮЩИЕ НА ФУНКЦИИ ОРГАНОВ ПИЩЕВА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1260360"/>
          <a:ext cx="8496360" cy="5532480"/>
        </p:xfrm>
        <a:graphic>
          <a:graphicData uri="http://schemas.openxmlformats.org/drawingml/2006/table">
            <a:tbl>
              <a:tblPr/>
              <a:tblGrid>
                <a:gridCol w="3871800"/>
                <a:gridCol w="4624560"/>
              </a:tblGrid>
              <a:tr h="5532480">
                <a:tc>
                  <a:txBody>
                    <a:bodyPr lIns="24120" rIns="24120" tIns="0" bIns="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зинорм форте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Р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zynorm forte</a:t>
                      </a:r>
                      <a:r>
                        <a:rPr b="0" i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креатин Р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reat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псин Рер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нь ревен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s Rhe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зерин Р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ser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Ранитидин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itid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Силибор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ibor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Сок желудочный натуральный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us gastricus natural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Таблетки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"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лохо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ettae " Allocholum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Танацехол Т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echol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Фамотидин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otid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Фенолфталеин Р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olphtale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Драже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"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ста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e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stal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Экстракт красавки сухо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х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tum Belladonnae sicc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арат для лечения острого панкреати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абительное средство при остром отравле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о, являющееся гепатопротектор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вотное сред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арат, повышающий аппетит в виде настой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-холиноблокатор при остром панкреат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о, усиливающее образование жел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о для устранения атонии кишеч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арат для лечения хронического панкреати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тацидное средство для приема внутр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09:33:16Z</dcterms:modified>
  <cp:revision>23</cp:revision>
  <dc:subject/>
  <dc:title>Практическое занятие №</dc:title>
</cp:coreProperties>
</file>