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3D79-CABC-463F-8C5D-40B25743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830-01B7-4E56-8D49-EFFB5902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345-A834-42E9-9890-3D504ECE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525-544B-427F-8BA1-ECA9DE20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C281-31A8-46D1-B6F9-0FC43D8D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79F2-4869-436F-B998-4C846DCB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DDDB-2299-4201-A8F8-6B6F6A1B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35EB-5C36-4C85-85F3-E74F653F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F99D-B881-4D0B-91FC-73705A99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A078-1742-485B-854B-72630705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F17E-45BC-4E4E-99EB-47D51FA0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809-0DB8-405E-BE23-08791137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F8B5-E4E1-4DAA-A934-67E8DF3D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D801-0728-4C0E-A2FB-56E05B97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A6F0-12CC-4A22-B6FB-9807041C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D9A9-EBA6-4415-A62A-D30BAE67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68EF-B581-404E-BBF9-C69685F4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B8A-954D-4E33-934A-C982E02E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63C-C8A6-4844-9C9E-35BF658A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555-75AF-48A8-BB52-BEE51BBA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1017-315C-43AB-AE1E-F1DB99F2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ACC-01F4-45C6-94B3-CFD77FAB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B1B-8B92-41DF-8581-3CF624AD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D10-9319-40CF-8925-88EA303A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9C16-45FC-441D-964E-2ADA099FCB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4A9D-26E2-4207-A2AB-FF92C8477A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ктическое занятие № 13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РЕДСТВА, ВЛИЯЮЩИЕ НА СИСТЕМУ КРОВИ.  ПЛАЗМОЗАМЕЩАЮЩИЕ  РАСТВ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81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Подготовила Пашедко О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201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471240" y="328680"/>
            <a:ext cx="81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Государственное бюджетное профессион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Департамента здравоохранения города Моск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b5ff"/>
                </a:solidFill>
                <a:latin typeface="Calibri"/>
              </a:rPr>
              <a:t>«Медицинский колледж №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5280" y="1268280"/>
            <a:ext cx="8229600" cy="4997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ассификация веществ, влияющих на систему кров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нятие об анемиях и их причинах. Понятие об эритропоэз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ль препаратов железа в синтезе гемоглобина. Особенно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х применения (феррум-лек, ферковен, ферамид и др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рмакодинамика цианокобаламина и фолиевой кислоты 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рапии анем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щая характеристика средств, влияющих на лейкопоэз (пентоксил, натрия нуклеинат и др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авнительная характеристика средств, влияющих на агрегацию тромбоцитов (кислота ацетилсалициловая, дипиридамол и др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нятие о механизме свертывания крови. Классификация средств, влияющих на процесс свертывания кров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агулянты. Влияние викасола и раствора кальция хлорид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роцесс свертывания крови. Особенности вве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Е ВОПРОСЫ ТЕМ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9280" y="836280"/>
            <a:ext cx="8856720" cy="5329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. Роль гепарина в процессе свертывания крови. Особеннос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введения. Показания к применению. Возможные побочные эффек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. Общая характеристика фармакологических свойств непря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х антикоагулянтов (фенилин, синкумар и др.). Показания 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н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. Общая характеристика веществ, влияющих на фибринолиз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зания к примен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2. Особенности действия и применения антифибронолитиче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их средств (кислота аминокапроновая и др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3. Понятие о плазмозамещающих препаратах. Особеннос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едения. Показания к применению (гемодез, полиглюкин и др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75680"/>
            <a:ext cx="8229600" cy="806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СТВА, ВЛИЯЮЩИЕ НА СИСТЕМУ КРОВИ.  ПЛАЗМОЗАМЕЩАЮЩИЕ  РАСТВ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87280" y="1197000"/>
          <a:ext cx="6769440" cy="5486400"/>
        </p:xfrm>
        <a:graphic>
          <a:graphicData uri="http://schemas.openxmlformats.org/drawingml/2006/table">
            <a:tbl>
              <a:tblPr/>
              <a:tblGrid>
                <a:gridCol w="2730600"/>
                <a:gridCol w="4038840"/>
              </a:tblGrid>
              <a:tr h="610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Викасол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kasol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та ацетилсалицилова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um acetylsalicylic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0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Гемодез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та фолиева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um folic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0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Гемостимулин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imuli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амид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0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Гепарин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р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трия нуклеинат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rii nuclei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0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Кальция глкжонат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cii gluco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дикумарин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dicumari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0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ьция хлорид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1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 chlorid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нтоксил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oxy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200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та аминокапронова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um aminocapronic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иглюкин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1у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uci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0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ополиглюкин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opolygluci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характеристику лекарственного средства по алгоритму: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ое название препарата(торговое, МНН)./Латинское название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рмакологическая групп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ханизм дей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е показания к применению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бочные эффекты препарата, противопоказ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 введения, особенности введения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знаки передозировки, первая помощ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карственная форма выпуска препарата (таблетки, раствор) и правила хра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цепт на лекарственную форму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писать в рецеп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4920" y="1125360"/>
            <a:ext cx="8280360" cy="5328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ство для лечения гиперхромной анем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тикоагулянт прямого действия для внутривенного капельного вве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ство, стимулирующее лейкопоэ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арат железа для внутримышечного вве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ство для профилактики кровотеч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ство для лечения гипохромной анем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змозамещающее сред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тикоагулянт непрямого дей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агулянт в виде раствора для внутривенного вве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ислоту фолиевую для приема внутр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3T07:27:57Z</dcterms:created>
  <dc:creator>ФармОВП</dc:creator>
  <dc:description/>
  <dc:language>en-US</dc:language>
  <cp:lastModifiedBy>ФармОВП</cp:lastModifiedBy>
  <dcterms:modified xsi:type="dcterms:W3CDTF">2018-02-05T12:00:08Z</dcterms:modified>
  <cp:revision>24</cp:revision>
  <dc:subject/>
  <dc:title>Практическое занятие №</dc:title>
</cp:coreProperties>
</file>