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37B-A692-46AB-ABE4-169836CC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A3B-55E4-4D86-84BD-F20D0648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493-9663-4261-AF5D-3FFE6EE2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F61-372D-45AC-9316-1703EA22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024-012A-4ABF-A927-25694725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4FF-AB7C-4424-AB9E-B0BD91A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3E0-8D16-4392-B142-26D7C72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2B9-7D36-470D-8D3B-1DB3FB01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BFB-F6B9-4D16-AC05-5CFF881C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A06-B2E4-4156-900C-DDF77F4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E69-2A77-426E-BC3A-C0F61B5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DA8-6DEE-4A65-89D6-F9217A9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C7CD-BC59-4AAE-9DED-F24C9462E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4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ПАРАТЫ ГОРМОНОВ И ИХ СИНТЕТИЧЕСКИХ АНАЛО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052640"/>
            <a:ext cx="8229600" cy="5473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 гормонах, их синтетических заменителях и антагонист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ая характеристика гормональных препаратов и возможность использования их в медицинской практи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рмакологические свойства препаратов гормонов перед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ли гипофиза. Их значение для организма. Показания к приме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гормональных препаратов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ней доли гипофиза (окситоцин, питуитрин, гифотоцин). Показания и противо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рмакологические свойства и показания к применени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рмональных препаратов щитовидной железы (тиреоидин, трийодтиронин и др.). Значение йода для синтеза гормонов щитовидной желе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836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собенности введения, действия и применение норадреналина. Антитиреоидные средства (мерказолил и др.).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в медицинской прак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Сравнительная характеристика препаратов инсулина. Препараты пролонгированного действия. Дозирование и особенности применения препаратов инсулина. Понятие о сахарном диабе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Возможные осложнения при лечении инсулином. Понятие 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- и гипергликемической коме. Помощь при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Общая характеристика, классификация, особенности пр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ения и действия синтетических гипогликемических средст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утамид, букарбан, глибутид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836640"/>
            <a:ext cx="885672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Классификация, особенности действия и применения препаратов женских половых горм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 Фармакологические свойства и применение препара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жских половых гормонов (андрогенные препара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. Классификация и фармакодинамика препаратов гормон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ы надпочечников. 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. Побочные эффекты, вызываемые глюкокортикоидами, и 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филак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5. Общая характеристика пероральных контрацептив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. Общая характеристика и особенности применения анаболических стероидов. Показания и противо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ПАРАТЫ ГОРМОНОВ И ИХ СИНТЕТИЧЕСКИХ АНА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1052640"/>
          <a:ext cx="8642160" cy="5472000"/>
        </p:xfrm>
        <a:graphic>
          <a:graphicData uri="http://schemas.openxmlformats.org/drawingml/2006/table">
            <a:tbl>
              <a:tblPr/>
              <a:tblGrid>
                <a:gridCol w="4319640"/>
                <a:gridCol w="4322520"/>
              </a:tblGrid>
              <a:tr h="5472000">
                <a:tc>
                  <a:txBody>
                    <a:bodyPr lIns="24120" rIns="24120" tIns="0" bIns="0" anchor="t">
                      <a:noAutofit/>
                    </a:bodyPr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тикотроп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матроп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ротроп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надотроп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туит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ито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реоид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ирокс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Бутам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Глибенклам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Гидрокортиз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Преднизо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Эстр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Прогестер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Тестостер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Нови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рмональный препарат для стимуляции р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нтетический препарат для лечения инсулинонезависимо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харного диаб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ство для профилактики угрожающего выкидыш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нтетический глюкокортикоид для лечения ревматизм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анаболических стероидов для лечения дистроф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улин пролонгированного действия для лечения сахарно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аб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рмональный препарат при слабой родов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рмональный препарат для лечения несахарного диаб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нтетический глюкокортикоид для лечения аллер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нтетический гормональный препарат при гипофункци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щитовидной желе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0:39:36Z</dcterms:modified>
  <cp:revision>23</cp:revision>
  <dc:subject/>
  <dc:title>Практическое занятие №</dc:title>
</cp:coreProperties>
</file>