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B5B05-EEB1-438F-9754-E21D22E28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1C734-2905-4019-95C2-13F134C11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7E007-3C19-4053-8505-06373B666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AA4CF-AFFB-4570-B4BD-E21220BEA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A8D1A-32DB-4FF3-8FBF-ACE02EF1B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62E61-E3B9-41BE-AA32-AC38FCF86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9BE4D-8633-40CE-900C-076E5A1C7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F0152-6679-4D7A-B097-4CC481DF1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21ECF-7B83-43FE-AEAE-8925C63C4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19F96-D7D5-4400-9950-095B6CCE1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306D4-29E5-4232-B899-45AECA79C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1B7E8-4094-4934-8C19-EC79508E8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746DE-EC8E-4535-9515-4B14E1457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5C865-C270-4E71-9C62-6B7D4EC4C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CE739-9E9B-4B7A-B29C-19437D6A4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29346-4285-4872-8F0F-D602EAE10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4B5AE-096A-44D0-BE00-323D07B92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33512-F68D-4CAE-B525-EE57D638E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30394-50DE-4D1B-9860-E91EB6579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A9411-3009-4CC9-9330-CC5EC81A0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C31C8-4ECF-4DB0-A4C7-0DE68B721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49802-F24F-4979-80CD-404D46CBC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4D4CF-57D4-481D-BC38-C196EEB6A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440B4-8016-4B76-8A19-8352120FE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F9517-A1B6-49C9-9D33-C5502BE2211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E58C3-697C-4207-97A3-D8521D0614B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рактическое занятие № 15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СРЕДСТВА, ВЛИЯЮЩИЕ НА ТОНУС И СОКРАТИТЕЛЬНУЮ АКТИВНОСТЬ МИОМЕТРИЯ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36680" y="4149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98989"/>
                </a:solidFill>
                <a:latin typeface="Calibri"/>
              </a:rPr>
              <a:t>Подготовила Пашедко О.В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98989"/>
                </a:solidFill>
                <a:latin typeface="Calibri"/>
              </a:rPr>
              <a:t>2017 г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xtBox 3"/>
          <p:cNvSpPr/>
          <p:nvPr/>
        </p:nvSpPr>
        <p:spPr>
          <a:xfrm>
            <a:off x="471240" y="328680"/>
            <a:ext cx="8133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b5ff"/>
                </a:solidFill>
                <a:latin typeface="Calibri"/>
              </a:rPr>
              <a:t>Государственное бюджетное профессиональное образовательное учреждени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b5ff"/>
                </a:solidFill>
                <a:latin typeface="Calibri"/>
              </a:rPr>
              <a:t>Департамента здравоохранения города Москв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b5ff"/>
                </a:solidFill>
                <a:latin typeface="Calibri"/>
              </a:rPr>
              <a:t>«Медицинский колледж №6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ОСНОВНЫЕ ВОПРОСЫ ТЕМЫ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68360" y="1197000"/>
            <a:ext cx="8229600" cy="540072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лассификация средств, влияющих на миометри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Фармакодинамика и особенности применения средств, стимулирующих тонус и сократительную активность миометрия (окситоцин, питуитрин, гифотоцин и др.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нятие о препаратах простагландинов, используемых в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кушерской практик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Фармакологические свойства и особенности применения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редств, повышающих тонус миометрия (эргометрин, эрготамин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отарнина хлорид и др.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редства, расслабляющие мускулатуру миометрия (токолитики) — партусистен и други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95280" y="2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ОСНОВНЫЕ ВОПРОСЫ ТЕМЫ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179280" y="836640"/>
            <a:ext cx="8856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7. Особенности введения, действия и применение норадреналина.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8. Симпатомиметические средства. Влияние эфедрина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ачу возбуждения,  деятельность центральной  нервной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ердце, бронхи и артериальное давление. Показания   к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именению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9. Общая характеристика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а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— адреноблокирующих средств (празозин, фентоламин и др.). Использование в медицинской  практике. Возможные осложнения и их профилактик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0. Основные свойства и применение б-адреноблокирующих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редств. Возможны побочные явле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1. Общая характеристика симпатоблокирующих (симпатоли-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ических) средств (резерпин, октадин и др.). Механизм гипотензивного действия. Показания и противопоказания к применению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80640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Адренергические средств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250920" y="1052640"/>
          <a:ext cx="8713800" cy="5472000"/>
        </p:xfrm>
        <a:graphic>
          <a:graphicData uri="http://schemas.openxmlformats.org/drawingml/2006/table">
            <a:tbl>
              <a:tblPr/>
              <a:tblGrid>
                <a:gridCol w="4319640"/>
                <a:gridCol w="4394160"/>
              </a:tblGrid>
              <a:tr h="5472000">
                <a:tc>
                  <a:txBody>
                    <a:bodyPr lIns="24120" rIns="24120" tIns="0" bIns="0" anchor="t">
                      <a:noAutofit/>
                    </a:bodyPr>
                    <a:p>
                      <a:pPr marL="746280" indent="-514440"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дреналина гидрохлорид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746280" indent="-514440"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наприлин (обзидан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746280" indent="-514440"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алазолин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746280" indent="-514440"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затон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746280" indent="-514440"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фтизин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746280" indent="-514440"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орадреналина гидротартрат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746280" indent="-514440"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ктадин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4120" marR="24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4120" rIns="24120" tIns="0" bIns="0" anchor="t">
                      <a:noAutofit/>
                    </a:bodyPr>
                    <a:p>
                      <a:pPr marL="2318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 Празозин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318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. Раунатин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318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 Резерпин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318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. Сальбутамол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318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. Фенотерол (беротек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318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. Фентоламина гидрохлорид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318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. Эфедрина гидрохлорид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4120" marR="24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95280" y="691920"/>
            <a:ext cx="8229600" cy="43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оставить характеристику лекарственного средства по алгоритму: 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907920"/>
            <a:ext cx="8229600" cy="561672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514440" indent="-51444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усское название препарата(торговое, МНН)./Латинское название препарат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Фармакологическая групп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еханизм действ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сновные показания к применению препарат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бочные эффекты препарата, противопоказан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пособ введения, особенности введения препарат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изнаки передозировки, первая помощь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Лекарственная форма выпуска препарата (таблетки, раствор) и правила хранен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ецепт на лекарственную форму.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ыписать в рецепт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Средство для стимуляции родов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Препарат для предупреждения преждевременных родов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Стимулятор родов,  не повышающий артериального давления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Препарат для остановки кровотечений после родов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Гормональный препарат для лечения несахарного диабета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Слабительное средство, рефлекторно оказывающее родовспомогательное действие</a:t>
            </a:r>
            <a:br>
              <a:rPr sz="2700"/>
            </a:b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Решите задач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1.  У роженицы с начала родов отмечались слабые, короткие и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малоэффективные схватки; паузы между схватками продолжи-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тельные, родовая деятельность вялая, продолжительность родов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увеличена. Укажите препараты, способные стимулировать роды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ри достаточном раскрытии шейки матки и объясните их дейст-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ие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(Препараты: атропина сульфат, питуитрин, гифотоцин, масло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касторовое, окситоцин, фенотерол, но-шпа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2.  У женщины во время беременности возникла угроза преж-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девременных родов (выкидыша). Укажите препараты, снижающие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тонус миометрия, его сократительную активность и способствую-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щие сохранению плода в организме матери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(Препараты: атропина сульфат, прозерин, окситоцин, партуси-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стен (фенотерол), туринал, питуитрин, прогестерон, но-шпа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1-23T07:27:57Z</dcterms:created>
  <dc:creator>ФармОВП</dc:creator>
  <dc:description/>
  <dc:language>en-US</dc:language>
  <cp:lastModifiedBy>ФармОВП</cp:lastModifiedBy>
  <dcterms:modified xsi:type="dcterms:W3CDTF">2018-02-05T12:08:31Z</dcterms:modified>
  <cp:revision>21</cp:revision>
  <dc:subject/>
  <dc:title>Практическое занятие №</dc:title>
</cp:coreProperties>
</file>