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808B-13AB-48EE-84B9-79838B1E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AE73-5268-459C-9C8C-D243608A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730F-EFEA-4A49-A471-6387E306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AEBC-8C3A-4E1F-A78F-CE4DA14A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BF4C-FE87-4B51-A942-08E7C32B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8B93-A07E-4DD8-AAF6-2104E2C8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8699-F58E-403A-885F-EF828FC2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F898-972B-466B-95ED-CB93F2A8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BD5F-E062-47EF-8C0D-04248819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16D2-395D-4763-A57E-39E1BA0C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B928-0943-4D54-B66D-04B334EB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B323-7B13-4648-9B2F-6C043FD1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8B03-3776-4DBC-922B-007CA481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F0AF-630F-42C5-B8FB-5113B758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6CB0-791D-4803-A91A-187DE3A4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7D82-9663-4460-8EDA-24C52545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7B0E-546B-4EA5-8D9B-330D6508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BDC3-50B3-40AB-98ED-136E5597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7417-94F8-47EE-AC13-4BE03D37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4102-3BD9-4C7B-B6A8-6BEA9FCE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4EE0-68D0-4CA3-9EBA-7FFEA9B8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9903-D451-4A97-B4B9-C0E4AA77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A4B2-A13E-4DA7-8AC0-99B8D359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5DFB-E773-4830-9C38-BE1561D6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438E-3A7F-4BE3-A13C-D0184C94D4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A759-7A28-4908-9DBC-AB3BD608C4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ктическое занятие № 16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ПАРАТЫ ВИТАМИ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66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Подготовила Пашедко О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2017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471240" y="328680"/>
            <a:ext cx="813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Государственное бюджетное профессиона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Департамента здравоохранения города Москв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«Медицинский колледж №6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ВОПРОСЫ Т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9280" y="126828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ение витаминов для организма. Классификация витаминных препар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иамина бромид. Влияние на нервную систему, работу сердца, обмен веществ. Пути введения. Совместимость с другими витаминными препаратами. Показания к применению. Побочные эффек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ль рибофлавина в функциях слизистых оболочек, кож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чени и процессе тканевого дыхания. Показания к примен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ияние препаратов никотиновой кислоты на сосуды, слизистые оболочки, кожные покровы; печень, нервную систему. Показания к применению. Побочные эффек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ВОПРОСЫ Т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9280" y="836640"/>
            <a:ext cx="8856720" cy="5400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Фармакологические свойства пиридокс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идрохлорида. Показания к применению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. Роль цианокобаламина и фолиевой кислоты в фармакотерапии анем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. Общая характеристика и применение кальция пангама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. Фармакодинамика аскорбиновой кислоты. Влияние ее на об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н веществ и проницаемость сосудов. Показания к применению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1. Роль аскорбиновой кислоты в лечении инфекционных заболеваний. Понятие о гипервитаминозе аскорбиновой кислоты. Побочные эффек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2.Фармакологические свойства рутина. Влияние его на прони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аемость сосудистой стенки. Совместное применение рутина и аскорбиновой кислоты. Показания к примен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ВОПРОСЫ Т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9280" y="836640"/>
            <a:ext cx="8856720" cy="5616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3. Влияние ретинола на эпителиальные клетки кожи, слизи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ых оболочек и синтез зрительного пурпура. Понятие о гемера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опии. Показания к применению. Понятие о гипервитаминоз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тино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4. Биологическая роль эргокальциферола и его препарат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организма человека. Показания и особенности примен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нятие о гипервитаминозе эргокальциферо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5. Влияние ретинола на эпителиальные клетки кожи, слизи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ых оболочек и синтез зрительного пурпура. Понятие о гемера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опии. Показания к применению. Понятие о гипервитаминоз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тино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6.Биологическая роль эргокальциферола и его препарат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организма человека. Показания и особенности примен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нятие о гипервитаминозе эргокальциферо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06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ПАРАТЫ ВИТАМИ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71640" y="1268280"/>
          <a:ext cx="7200720" cy="4694400"/>
        </p:xfrm>
        <a:graphic>
          <a:graphicData uri="http://schemas.openxmlformats.org/drawingml/2006/table">
            <a:tbl>
              <a:tblPr/>
              <a:tblGrid>
                <a:gridCol w="3600360"/>
                <a:gridCol w="3600360"/>
              </a:tblGrid>
              <a:tr h="4694400">
                <a:tc>
                  <a:txBody>
                    <a:bodyPr lIns="24120" rIns="24120" tIns="0" bIns="0" anchor="t">
                      <a:noAutofit/>
                    </a:bodyPr>
                    <a:p>
                      <a:pPr marL="120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Кислота аскорбинова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idum ascordinic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20600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Кислота никотинова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dum nicotinic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20600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Кислота фолиева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dum folic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20600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Кокарбоксилаза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с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boxylas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20600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Пиридоксина гидрохлорид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у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idoxyni hydrochlorid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20600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Ретинола ацетат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tinoli ac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marL="374760">
                        <a:spcBef>
                          <a:spcPts val="9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 Рибофлавин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iboflavin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74760">
                        <a:spcBef>
                          <a:spcPts val="9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.Рибофлавин-мононуклеотид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iboflavin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nonuclitid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74760">
                        <a:spcBef>
                          <a:spcPts val="9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.Рутин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utin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74760">
                        <a:spcBef>
                          <a:spcPts val="9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.Тиамина бромид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iamini bromid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74760">
                        <a:spcBef>
                          <a:spcPts val="9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.Токоферола ацетат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ос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eroli ac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ть характеристику лекарственного средства по алгоритму: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сское название препарата(торговое, МНН)./Латинское название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армакологическая групп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ханизм дей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ые показания к применению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бочные эффекты препарата, противопоказ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 введения, особенности введения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знаки передозировки, первая помощ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карственная форма выпуска препарата (таблетки, раствор) и правила хран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цепт на лекарственную форму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писать в рецеп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епарат жирорастворимых витаминов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епарат  водорастворимых витаминов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епарат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ля лечения гиперхромной анем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епарат витаминов при угрожающем выкидыше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епарат при геморрагическом диатез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таминный препарат для лечения и профилактики рахи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3T07:27:57Z</dcterms:created>
  <dc:creator>ФармОВП</dc:creator>
  <dc:description/>
  <dc:language>en-US</dc:language>
  <cp:lastModifiedBy>ФармОВП</cp:lastModifiedBy>
  <dcterms:modified xsi:type="dcterms:W3CDTF">2018-02-05T12:45:17Z</dcterms:modified>
  <cp:revision>24</cp:revision>
  <dc:subject/>
  <dc:title>Практическое занятие №</dc:title>
</cp:coreProperties>
</file>