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17D-63F5-4E36-8D0F-43EDABD0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0C2-FEAD-4DAA-88F0-D4292E0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736-277A-4BEB-8183-440AE0EF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736-871E-46E9-92E1-6820A990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FBE-4654-4AF7-B964-063F05B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899-57F6-49CC-A9ED-DCFCCBFD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F69-7561-4FC8-8486-D5C9C6F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D77-E0C0-44AD-980E-DC611E3B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D7D-F2B6-481F-94C6-E657A35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548-12C3-4768-B83F-A0FE5246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AD8-74FF-4268-822D-ADDC0DA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34A-96A1-40BE-BCC6-95B8E585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1380-1A77-4437-A194-CF1C63764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52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7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 ПЕРВОЙ ПОМОЩИ ПРИ ОТРАВЛЕНИЯХ ЛЕКАРСТВЕННЫМИ СРЕДСТВ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66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ципиальная схема оказания помощи при острых отравлени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ры предупреждения поступления яда в организм при е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падании внутрь, на кожу, слизистые оболочки и через дыхательные пу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ства, используемые для задержки всасывания ядовиты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ществ в кровь (вяжущие, адсорбирующие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ти обезвреживания всосавшегося в кровь яда с помощь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личных фармакологических сред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б антидотах и их роль в терапии отрав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 функциональных антагонистах и их роли в терапии отрав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ая характеристика средств, используемых для ускорени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ведения яда из организм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тие о форсированном диурезе, гемодиализе, перитонеальном диализе и гемосорб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836280"/>
            <a:ext cx="8856720" cy="4753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рмакодинамика средств, применяемых для нормализации дыхания, сердечной деятельности и кровообращения при острых отравл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симптомы и лекарственная помощь при отравлениях: м-холиноблокаторами, антихолинэстеразными средствами (ФОС), спиртом этиловым, снотворными средствами, наркотическими анальгетиками, сердечными гликозидами, инсулином и солями тяжелых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определение следующим понятия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Гемосорб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Абсорб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Форсированный диуре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Гемодиал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Антид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Функциональный антагони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06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тидоты и противояд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836640"/>
          <a:ext cx="8713800" cy="590544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5905440">
                <a:tc>
                  <a:txBody>
                    <a:bodyPr lIns="24120" rIns="24120" tIns="0" bIns="0" anchor="t">
                      <a:noAutofit/>
                    </a:bodyPr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пироксим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iroxim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я перманганат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i permanga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ксон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xo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рфина гидрохлорид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orphini hydrochlori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572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рия хлорид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i chlori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Танин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n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Уголь активированный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bo activ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Унитиол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hiol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Фуросемид (лазикс)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osemi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Эфедрина гидрохлорид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drini hydrochlorid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танина для промывания желу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дот при отравлениях солями тяжелых мет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о для оказания помощи при отравлении   м-холиноблокато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о, применяемое при передозировке сердечных гликози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сорбирующее сре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2:53:54Z</dcterms:modified>
  <cp:revision>22</cp:revision>
  <dc:subject/>
  <dc:title>Практическое занятие №</dc:title>
</cp:coreProperties>
</file>