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6FC-52C3-413B-8B87-3A914300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3E5-72A4-47D3-B2C2-170F2C6E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B1F-FA95-4954-8725-766F4AE0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F51-8395-4887-AB02-AB6AB6E1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DE3-0C71-483E-8C64-F867163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3BB-D1EB-4760-84E5-2F9171D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5A4-354E-436E-947F-2B10630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5BC-50C8-40FD-B8F9-25E454D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060-BF83-44BB-8CEE-D3ADDAE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E9A-5184-40C0-BA72-2047F80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055-AE05-4B0B-AEEC-BF661BE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21D-B27F-4788-81DA-ABAAB8A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C3A-42A6-47AD-BD8F-B31DA549C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занятие № 18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оговое занят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 занят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90792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ВС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ТЕМА:Лекарственные средства, действующие на афферентную иннервацию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ТЕМА:Холинергические средств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 ТЕМА:Адренергические средств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 ТЕМА:Анальгетики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 ТЕМА:Психотропные средств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ТЕМА: Средства, действующие на функции органов дыхания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 ТЕМА:Кардиотонические средства. Антиангинальные, противоаритмические, антисклеротические сред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 ТЕМА:Гипотензивные, диуретические сред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 ТЕМА:Средства, влияющие на функции органов пищеварения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 ТЕМА:Средства, влияющие на систему крови.  Плазмозамещающие  растворы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 ТЕМА:Препараты гормонов и их синтетических анал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5 ТЕМА:Препараты витаминов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6* ТЕМА:Средства, влияющие на тонус и сократительную активность миометрия. (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3:09:15Z</dcterms:modified>
  <cp:revision>20</cp:revision>
  <dc:subject/>
  <dc:title>Практическое занятие №</dc:title>
</cp:coreProperties>
</file>