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F90-915A-4E7C-8B05-D76B80D1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CCA-0FD8-48C4-A923-7FF35FA5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997-34B7-4D62-A052-401E7EBC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CAD-3873-487A-8ABD-DCAA1A53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715-945A-4D57-85C5-0ED0DB96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316-1ACE-4522-B1BD-1B76024D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F04-7026-4F01-B22C-DEB2841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90E-F22E-4AF4-8B21-29A06637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6D0-B746-4D3A-B29E-4B19D23D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79D-F30F-4779-8C7D-5E9780F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3E4-8D45-4C45-961F-738923D0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81F-0272-45F6-BA59-BE88E78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E01-54B7-40BE-AC81-3A7E82018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2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ЦЕП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ЕРДЫЕ И МЯГКИЕ ЛЕКАРСТВЕННЫЕ ФОРМ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98160" y="54936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арактеризуйте порошки  (состав, свойства, пути введения, виды (разделенные и неразделенные, простые и сложны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выписываются лекарственные формы в капсулах? Как правильно их применя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арактеризуйте таблетки: состав, пути введения, значение оболочки таблеток, «фильм таблетки», их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прописываются  таблетки в рецептах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арактеризуйте  драже: состав драже, пути введения, пропись в рецепт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применяются карамели, пастилк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мази, как они применяю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арактеризуйте состав мази, мазевые основы (вазелин, парафин, ланолин), каково влияние основы на всасыва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рописываются  мази в рецепта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пасты, каков состав пасты, отличие пасты от мази, приме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рописываются  пасты в рецепта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суппозиториев, охарактеризуйте состав, виды суппозито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овы особенности действия ректальных и вагинальных суппозиториев, их примен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рописываются  суппозитории  в рецепта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0 Таблеток Коринфара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infaru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по 0,01 г. Назначить по 1  табл. под язык до полного  рассасыв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 Таблеток   «Бисептол – 480» (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septolu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480”)  Назначить по 2 таблетке 2 раза д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порошков Кофеина (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ffe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по 0,5г.  Назначить по 1 порошку 2 раза д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0 драже  Коринфара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infarum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по 0,01 г. Назначить по 1 драже 3    раза в д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0 Порошков  Оксациллина натрия (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xacil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m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at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по  0,25 г. в желатиновых капсулах. Назначить по 2 капсулы 4 раза  сут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0,0 гранул глицерофосфата (Glycerophosphas). Назначить по 1/2 чайной ложки 3 раза в д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зь ихтиоловую, 50 г. Назначить наруж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4:23:37Z</dcterms:modified>
  <cp:revision>18</cp:revision>
  <dc:subject/>
  <dc:title>Практическое занятие №</dc:title>
</cp:coreProperties>
</file>