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3B2-9C41-472F-A0DB-BA60FEAD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240-619F-45E1-AEBC-9F114378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6BA-7237-4EAE-83F4-D502F9FB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28C-8700-4895-BA8F-441A8FF8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8BB-5DC1-47A3-B019-C66BE312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CCD-0FDA-4F50-B569-E7D31478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AF8-5CF2-43B0-8550-237AA571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E40-0D90-4578-B843-FA69EFD1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E50-0DF5-4516-BC13-3A0D3E86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EA7-F703-4749-8AB0-7B4A5D33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23B-DDF5-4D70-8520-6CBF9DA9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016-5A36-4043-BDD3-7C55813D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9A0B-0C06-4723-9408-33E85A88E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ИДКИЕ ЛЕКАРСТВЕННЫЕ ФОРМЫ. ЛЕКАРСТВЕННЫЕ ФОРМЫ ДЛЯ ИНЪЕК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12560" y="33336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те определение растворов, назовите виды растворителей. Как выписываются растворы в рецептах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дозируются растворы  для внутреннего примене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те определение настоев  и отваров. Каковы особенности приготовления настоев и отваров, правила хран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обозначается концентрация растворов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те определение экстрактов, назовите виды экстрак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такое эмульсии и суспенз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те определение настоек, как они дозируютс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зовите виды лекарственных форм, вводимых в инъекция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ие требования предъявляются  к лекарственным формам для инъекци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ак прописываются в рецептах лекарственные формы в ампулах и флакон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0 мл настойки валерианы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alerian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. Назначить по 1 ст. л. 3 раза в д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00 мл 3% раствора натрия бромида (Natrii brom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. Назначить   по 10 капель 2 раза в день во время 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0 мл жидкого экстракта элеутерококка (Eleutherococ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. Назначить   по 40 капель 2 раза в сутки (за 30 мин до ед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267920"/>
            <a:ext cx="8229600" cy="547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57168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 флаконов, содержащих по 5 мл (40 ЕД в 1 мл) суспензии цинк-инсулина (Zinc-insulinum). Вводить подкожно по 1 мл 1 раз в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 флакона, содержащих по 5 мл (5000 ЕД в 1 мл) гепарина (Heparinum). Вводить внутривенно по 2 мл 4 раза в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 флаконов, содержащих по 10 мл (0,025 в 1 мл) суспензии кортизона ацетата (Cortisoni acetas). Вводить внутримышечно по 2 мл 2 раза в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00 мл 0,9% раствора натрия хлорида, стерильного для парентерального в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 ампул, содержащих 2 мл 1% раствора фуросемида (Furosemidum) Вводить по 1 мл внутримышечно 1 раз в 2 д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4:27:15Z</dcterms:modified>
  <cp:revision>17</cp:revision>
  <dc:subject/>
  <dc:title>Практическое занятие №</dc:title>
</cp:coreProperties>
</file>