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D48C-D815-44EE-8195-72B8A83D57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321F-F7E7-4961-B5E8-D930986EC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09F4-FD6D-4EC2-A5E8-348C4276DD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C7F-71DB-4F83-8FBA-74F80CB9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593-A404-4976-BE35-EB119675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E3C-8436-4C2D-A868-86BD2B82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BDA-A873-42CD-840E-84065DCA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C755-953B-4BAC-A633-5884BBC0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51E0-77E8-4046-B03E-4AECB1BB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5102-C78C-4DD7-BB8B-A52D21C2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E1B1-2C14-4E8C-A3AC-915A88C9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A4D3-A109-45D1-8C6D-5500A3AB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4AB7-2D48-4AE5-81F6-7C67882D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A16-A8E7-435B-AA92-1C2BDB9E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D4C-2B44-47D5-849A-1628D3F8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5248-BBE7-42CC-97EB-CA717C30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B999-E1C0-4692-AC12-C047CFDC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4115-CF8C-4061-9B9F-DA5706D4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B487-B90B-4108-9612-08CE8E8C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9AB8-1B2C-49D8-B39E-C7444799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A15-7F03-4AEB-9DB5-9637E29E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7D2-F49C-411A-BFB0-73D283EC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2B1-245E-4C44-A8F5-F73ECC8E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497-74FB-4AA0-BD73-4AD0C29E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B6C-52C7-46A2-9CB1-06DA677A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5FC-52F5-4CC5-9A02-6AE16465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FB9-9430-46D1-A44D-E6B2E005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4598-EC8D-45A9-A1C7-5543BDAA75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3670-97E3-4B58-A5EF-895917888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4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ТИСЕПТИЧЕСК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ДЕЗИНФИЦИРУЮЩ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6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98160" y="40464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вопросы темы, п. с.6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560" y="1052640"/>
            <a:ext cx="8569080" cy="5667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нятие об антисептическом и дезинфицирующем действии. Классификация антисептических сред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нятие о бактерицидном и бактериостатическом действии лекарственных сред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тивомикробное действие препаратов хлора и йода. Применение их в медицинской практике. Противопоказания к применению препаратов й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рмакологисчекие свойства соединений ароматического ряда (фенол, ихтиол, деготь). Показания и противопоказания к примен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противомикробного действия соединений алифатического ряда (спирт этиловый, формальдегид). Показания к примен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тивомикробное и противомикозное действие красителей. Показания к примен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4000" y="980640"/>
            <a:ext cx="864072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Фармакологические свойства окислителей (калия перманганат, перекись водорода). Механизм противомикробного действия. Показания к применению. Использование калия перманганата при отравлениях алкалоид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. Общая характеристика детерген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. Производные нитрофурана (фурацилин). Спектр противомикробного действия. Влияние на грануляцию тканей. Показания к примен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Механизм противомикробного действия солей тяжелых металлов. Соли ртути. Меры предосторожности при работе с препаратами рту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1. Общая характеристика препаратов серебра. Показания к примен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2. Использование в медицинской практике препаратов ци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3. Острое отравление солями тяжелых металлов. Помощь при отравлении. Особенности действия унитиола при отравлениях солями тяжелых метал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СЛЕДОВАТЕЛЬСКАЯ РАБО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С по алгоритму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12536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сское название препарата/Латинское название препара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армакологическая группа препара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ханизм действия препара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армакологические эффекты, вызываемые препарат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бочные эффекты препара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уть (и) способы введения препара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обенности введения препарата (подогреть, медленно, развести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знаки передозировки и помощь при н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екарственные формы выпуска препарата (таблетки, раствор) и правила хранения(п.с.72-73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цепт на одну из лекарственных фор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764640"/>
            <a:ext cx="8229600" cy="568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арат оказывает антисептическое, дезинфицирующее и дезодорирующее действие. Содержит галоген. Применяется в виде раствора для дезинфекции предметов ухода за больными, белья, неметалического инструментария, помещений, мытья рук и обработки посуды. Определить препарат и объяснить его противомикробный эффек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разложении в присутствии органических веществ препарат выделяет атомарный и молекулярный кислород, которые окисляют белки плазмы, вызывают гибель микроорганизмов. Об-ладает вяжущим, антисептическим и дезодорирующим действие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бой темно-фиолетовые кристаллы, хорошо растворимые в воде. Определить препарат и отметить его показания к примен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7:51:02Z</dcterms:created>
  <dc:creator>vas</dc:creator>
  <dc:description/>
  <dc:language>en-US</dc:language>
  <cp:lastModifiedBy>ФармОВП</cp:lastModifiedBy>
  <dcterms:modified xsi:type="dcterms:W3CDTF">2018-02-05T14:40:28Z</dcterms:modified>
  <cp:revision>89</cp:revision>
  <dc:subject/>
  <dc:title>АНТИСЕПТИЧЕСКИЕ И ДЕЗИНФИЦИРУЮЩИЕ СРЕДСТВА</dc:title>
</cp:coreProperties>
</file>