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6CC-7A70-48D2-9380-B8DEBAE2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19AF-CEC3-4816-B031-4553F90D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550A6-528E-4D3F-A49D-842DA819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F40DC-7423-4059-8C45-CBB6107E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7467F-B79D-45F5-8333-57B58F2C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D5CB9-D283-44E1-9E28-4619B6B8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387B0-52AA-4BCE-B52B-B45EED2F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CB082-CAB4-4CF3-8ABB-DF13B4EF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FE7B1-2785-4542-A3AA-8C6C9229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3B16A-AF8B-4019-8427-B7F41A80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6E9F5-5700-4395-8D7F-FE7379E5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FD410-11A9-46FE-A77E-9776C088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7A35-4565-4154-BAC1-6F95B2B2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704CB-0751-4DC1-95F2-1F1F8373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7ACA5-046F-467D-9CC3-E9E2E308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82E37-A4E4-45CA-B069-DD47F772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C6573-5392-47E8-9A38-08BAFDE7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71F24-ACA6-4390-98CF-42820274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0EF81-D4C9-49FC-91F5-069B8AAC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D2BA9-B934-4C47-9659-4E1DBEC5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2831A-A26E-4A42-B01A-ABF7DB72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883F3-7F74-4C3C-8D45-365C7129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D7313-1738-485F-9F15-60E90BB9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AD79-7585-4466-8356-F68FF1D0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C09FE-03E2-46ED-B88F-8F044DB3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4E900-D892-41AA-A51A-57B7CECD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19396-63DB-4409-8AFF-77622391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C156E-F8E8-463B-BA2E-194EF398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7F659-AF58-4C45-80DB-57D108B8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A0689-0DDB-4E2B-B749-58663FD2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1E04C-9C04-4362-9E99-C1F2A807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A1E8B-3711-49DE-89D4-C63ECACA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14DEF-7C89-43EF-9F4B-BEF23327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EB307-F2B8-4431-AE47-2F753A7A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04AD-1EBC-49E2-AF1A-CB085FAB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DEEC9-06B9-49CC-A7B2-E1F0B812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44791-CE06-4E87-B865-3E4A7997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A6EE8-BEC1-4720-8100-6D5D01BB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9C293-83F5-4F58-A1B7-E265157E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62A8E-7BE2-4B3E-A8AB-2D41B159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D9BCE-7BF0-401E-BAA2-1428D952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F222C-10EC-455E-95FD-84B62AF4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FFF9A-0F3C-4269-BFC9-0BB48FEB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AE820-6A59-4BEB-9AF1-5832CE6B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5B17E-C572-4C61-AAB1-96E012BE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0285-C199-4464-AF8D-C4A4B91E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01B4C-741C-4F03-AE5E-86CFDF80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E26B6-A4A5-48A8-9130-CF9EE738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274B9-03DB-4691-9EEE-19164AF5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F8455-6EF5-48DB-B26D-7F9C9220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0ECA1-D58C-481D-8927-100D81F4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C1B059-47DF-4282-B1F4-6410B654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4147B-9D97-4B71-AF1A-9711722F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FC0EA-08B2-48D9-86D7-4F9FC364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91E31-7DEA-4ED2-941A-519C26EB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EEF40-C01B-4313-AC28-C28CADD2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D95F-D1CE-460A-B5EB-2F3B1BAB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63569-7953-4DAF-8F6E-081726FC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57B49-4218-4DC9-B903-55D07C06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085716-67EE-4EEE-8DA3-61DF06D3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346BA-A3BE-4F59-9A51-C7DFFA7E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27009C-F9B0-4E05-A58B-1FE01D54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5DE91-13C8-4249-880F-5CB6E4DC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89B24-5F83-449D-BCE8-24A55EE1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44C5-E1A2-408F-8052-E581DD71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9FCC-1AB2-433E-AC7A-8D5833AB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961D-DDCA-4B47-84D3-856AA640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D7D3-8C01-4C1D-87C8-956CF458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F3F2-A925-4086-BA6B-75C40585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A2BD-2083-4993-9BBC-C8DC2CFA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6622-C9CB-471D-9447-4F361F62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1CED-EF58-4D97-8963-79E55E94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6C4D-CF26-4E0F-BB41-C0C44C5E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4583-832D-42A8-B1E0-8B1FC2F2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537A7-7D1A-4CFB-A0A3-F93F05CF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12218-1433-4647-9470-6285F58E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5E7A8-A48B-40E0-9AD9-F2B75568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599ED-92AE-4C49-81DA-4C9A11F2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FDF7D-E9C8-4632-99CE-3461DE53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AAD3-FFE3-438D-B776-3106240E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6D7AB-C08B-455B-80E9-AC909F30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7A929-F0BD-4173-A151-AA9B7FE4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67FC6-AA31-433C-89E4-3EDCEF9B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A8F95-0329-4F06-B95F-7277AC6A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2C28E-0D2B-4752-8B04-607CEFAC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D0F64-9800-46C4-B9A1-5DADD458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DFED8-2F15-4ABD-9D3B-A2D15398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C83B5-9BB7-4516-9B0C-AAA1B0F7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142DB-1BFE-40BE-B004-5E70FA9F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865A1-E52F-4793-B4EB-5AC0CF82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D8F-9670-4D83-AC82-0284E94D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90E6A-A454-4566-84F2-B5458716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6849F-8B13-498A-9D0A-51BF11C2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9DE93-7D89-47BF-8C19-19DCF5CC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E1A7D-4E0E-4279-B069-3C7770CE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56531-DC40-455A-88CA-B7995433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C54EE-41FF-4F43-8BF4-879F86B1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028F7-6DE7-4A32-B71A-30E0DEB9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D1EFF-A4E9-414E-AA21-E0B87226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358D4-3C7C-4C7F-BD5D-50644F15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8DEC3-17AC-469C-AE38-9FF00F69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1BF-F2CE-4CC0-B4F3-98A54748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388A3-A835-40EB-A278-F920DE0B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7A2A2-589C-4566-813F-8D933CD3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FB594-1953-456B-8055-5A90E5EB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F4D32-26FE-4BDC-88DD-54489057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70EED-4016-4DC4-BD98-F71AA87F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EF4AD-158C-4419-9E0A-0615D487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64D9F-968B-48E5-8008-CAB81B33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9C281-33C4-457E-9F3C-28A36475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6480A-734A-4E2E-BE5B-1045396B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92CDF-0B73-4027-9033-F44AA591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2CF-A245-433C-9A57-B0F1C4BB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F04CC-E8BA-4B3D-918A-C602F01D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841A8-CE18-437D-B191-F98070A5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08BC2-B675-4493-934D-73D40BFD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5B6DB-3F59-43C0-A9C3-52723805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5AB11-BC74-414D-B05C-F0DB01F6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ACF61-BFEC-4EC6-AF98-A8DA8F2F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B3D72-D79D-45EC-BFB5-A222BC21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1E510-7B9E-47CC-A05C-4E117A1A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6CCC9-1DF6-428C-B06C-C5F26261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4B547-CFC8-4BE4-8EED-545EFEB4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E2B-3339-4DAF-AF0B-3BBBD02D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B60E1-788F-4255-956F-1A163F42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C98DC-7C58-4247-AF63-EE225682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3CBF8-37EE-4A45-A36E-16014B6E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F6903-D24B-47C5-9009-A3117BD0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5B2E4-6EB5-49FD-A3DA-355DF807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94F06-49CD-46D9-8FEA-7932F68C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EDA83-4EF7-44DB-850F-38B5C59D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C752D-4C82-43F8-9504-68FEB9E7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B2BD5-F81F-4053-900C-09565C73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2EB14-19C1-4D06-A96A-9C3AE07C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1AC-7D1F-4FA5-8A53-0F555E1F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2B0B3-66E9-407F-88E3-7C3C623D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EED52-CB3C-47DC-B118-A75B8B9C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240DE-61A5-4AC6-95FE-E0BFDE69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BEA11-F637-4440-A56B-9CB5D5D6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72AD2-1B89-4E7A-9D24-77A83B64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3D991-879F-4154-BC01-1E508E27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0BEE0-FA9F-491F-B03E-2B2B1D1F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A06D2-A08D-4162-B44C-C090C732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DE207-766F-42D7-8FAB-1A797F9B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204C4-2EE7-4BC0-97C6-757BFD2F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3485-BB37-4D63-BB68-071377AC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0B535-9365-488F-83E4-17D5E2AB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F97F0-D4E6-4786-8B7F-5A673A6D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44C6A-4EA1-4949-B5DB-D7E5DC8C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1656F-EF19-46C1-8A66-F3054601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B8045-B279-425F-A8AE-01F962CA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41AAA-7E3F-48BC-9CE4-3CB88393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2E0DE-671D-4FAD-B388-DC73613F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E4971-A814-4C05-9ED2-49C294AB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B5439-3D86-4137-8618-BC21C437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1F932-8DFB-404B-AFF4-F72C44AF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F49F-5B9C-43C6-8B75-284678FE8F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1CDD-E4BB-41A5-ADF4-90415ED66A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B16C-6C83-4C5B-984A-FAF85551FA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FCFE-A408-4EF2-AF4B-5AE5E168E7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976B-1AAD-450F-B32F-5403F1F0B1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D101-164A-462E-BF83-39F7134369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8365-4672-42B5-BEE0-6B26C7AFB5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3650-4A44-4BDF-84D5-B5DA0E8112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40BB-75AA-4681-9096-47EBA57029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11D8-938A-404A-A777-0558410960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DA70-97B9-4652-8A02-CE2350186E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1A9E-3668-4D88-8E08-5C75A8CF1B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CB71-37E8-49F4-9A8C-AE0B8DD07A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ктическое занятие № 7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ЩЕСТВА, ДЕЙСТВУЮЩИ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ХОЛИНЕРГИЧЕСКИЕ СИНАПС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ХОЛИНЕРГИЧЕСКИЕ СРЕДСТВ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Подготовила Пашедко О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201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3"/>
          <p:cNvSpPr/>
          <p:nvPr/>
        </p:nvSpPr>
        <p:spPr>
          <a:xfrm>
            <a:off x="398160" y="549360"/>
            <a:ext cx="81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Государственное бюджетное профессион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Департамента здравоохранения города Моск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«Медицинский колледж №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натомо-физиологические особенности эфферентного отдел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иферической нервной систем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ятие о медиаторах и их роли в передаче импульс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ятие о холинорецепторах, их классификация. Локализация м- и н-холинорецептор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лассификация холиномиметических и холиноблокирующих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ред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рмакологические свойства м-холиномиметических средств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пилокарпин, ацеклидин). Их действие на глаз, тонус кишечника, мочевого пузыря, секрецию желез. Показания к применен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мптомы отравления м-холиномиметическими средствами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мощь при отравлен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Н-холиномиметические средства. Влияние на дыхание, вегетативные ганглии и надпочечники. Показания к примен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. Токсическое действие никотина на организм. Использование н-холиномиметических средств в борьбе с курен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. Фармакологические свойства антихолинэстеразных средств. Показания к примен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. Фосфорорганические соединения (ФОС). Симптомы отравления. Помощь при отравлении (атропин, дипироксим). Понятие о реактиваторах холинэстераз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. М-холиноблокирующие средства. Действие на глаз, желе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ы, сердечно-сосудистую систему, бронхи, желудочно-кишечный тракт. Сравнительная характеристика препаратов (атропин, платифиллин, метацин, препараты красавки). Показания и противопоказания к примен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2. Симптомы отравления м-холиноблокирующими средствами (атропин, белена). Помощь при отравл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-холиноблокирующие средства. Ганглиоблокирующие средства. Особенности действия и применения. Показания к применению. Побочные эффекты и пути их устра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4. Н-холиноблокирующие средства. Средства, блокирующ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рвно-мышечные импульсы (мышечные релаксанты). Классификац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Холинергические сред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539640" y="1125360"/>
          <a:ext cx="8136000" cy="5222880"/>
        </p:xfrm>
        <a:graphic>
          <a:graphicData uri="http://schemas.openxmlformats.org/drawingml/2006/table">
            <a:tbl>
              <a:tblPr/>
              <a:tblGrid>
                <a:gridCol w="4068720"/>
                <a:gridCol w="4067280"/>
              </a:tblGrid>
              <a:tr h="5222880">
                <a:tc>
                  <a:txBody>
                    <a:bodyPr lIns="24120" rIns="24120" tIns="0" bIns="0" anchor="t">
                      <a:noAutofit/>
                    </a:bodyPr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ропина сульфат</a:t>
                      </a:r>
                      <a:br>
                        <a:rPr sz="3200"/>
                      </a:b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pini sulf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клидин</a:t>
                      </a:r>
                      <a:br>
                        <a:rPr sz="3200"/>
                      </a:b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dinu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нзогексоний</a:t>
                      </a:r>
                      <a:br>
                        <a:rPr sz="3200"/>
                      </a:b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zohexoniu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лантамина гидробромид</a:t>
                      </a:r>
                      <a:br>
                        <a:rPr sz="3200"/>
                      </a:b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hamini hydrobromidu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marL="378000"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Дипироксим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piroximu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78000">
                        <a:spcBef>
                          <a:spcPts val="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Дитилин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thylinu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78000"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Лобелина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78000"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идрохлорид</a:t>
                      </a:r>
                      <a:br>
                        <a:rPr sz="3200"/>
                      </a:b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belini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78000"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drochloridu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линергические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468360" y="1197000"/>
          <a:ext cx="8567640" cy="5448240"/>
        </p:xfrm>
        <a:graphic>
          <a:graphicData uri="http://schemas.openxmlformats.org/drawingml/2006/table">
            <a:tbl>
              <a:tblPr/>
              <a:tblGrid>
                <a:gridCol w="4282920"/>
                <a:gridCol w="4284720"/>
              </a:tblGrid>
              <a:tr h="5846040">
                <a:tc>
                  <a:txBody>
                    <a:bodyPr lIns="24120" rIns="24120" tIns="0" bIns="0" anchor="t">
                      <a:noAutofit/>
                    </a:bodyPr>
                    <a:p>
                      <a:pPr marL="341280" indent="-109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Настойка красавки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tura Belladon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1280" indent="-109440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Пилокарпина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1280" indent="-109440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идрохлорид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ocarpini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1280" indent="-109440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drochlorid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1280" indent="-109440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Платифиллина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1280" indent="-109440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идротартрат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yphyllini hydrotart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1280" indent="-109440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 Прозерин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seri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1280" indent="-109440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marL="155520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 Скополамина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55520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идробромид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polamini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55520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drobromid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55520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Тубокурарина хлорид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ocurarini chlorid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55520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ЦИТИТОН Су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to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55520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 Экстракт красав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55520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хой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Ех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ctum Belladonnae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55520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cc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55520">
                        <a:lnSpc>
                          <a:spcPts val="986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характеристику лекарственного средства по алгоритму: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ое название препарата(торговое, МНН)./Латинское название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рмакологическая групп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ханизм дей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е показания к применению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бочные эффекты препарата, противопоказ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 введения, особенности введения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знаки передозировки, первая помощ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карственная форма выпуска препарата (таблетки, раствор) и правила хра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цепт на лекарственную форму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писать в рецеп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парат для рефлекторного возбуждения дых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парат для лечения  глауко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С при атонии кишеч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С при миаст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С при атонии кишечника, мочевого пузыря и глаукоме (н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лияет на холинэстеразу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парат для лечения язвенной болезни желудка и двенадцатиперстной киш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С при приступе бронхиальной аст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С при при остром панкреати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С в хирургическое отделение для расслабления скелетны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ышц (для репозиции отломков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С для лечения гипертонии, облитерирующего эндартериит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пирования гипертонического криз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3T07:27:57Z</dcterms:created>
  <dc:creator>ФармОВП</dc:creator>
  <dc:description/>
  <dc:language>en-US</dc:language>
  <cp:lastModifiedBy>ФармОВП</cp:lastModifiedBy>
  <dcterms:modified xsi:type="dcterms:W3CDTF">2018-02-05T11:38:09Z</dcterms:modified>
  <cp:revision>16</cp:revision>
  <dc:subject/>
  <dc:title>Практическое занятие №</dc:title>
</cp:coreProperties>
</file>