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1C9-C97E-4023-BC16-26C045B3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156-4D34-4274-9F8E-51CAFD0A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F3A-54ED-4BD2-99F3-ACFB84FA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1E5-B8B3-4F2B-AA8E-FDC22E67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99DF-D6FC-4F5E-952D-138A6201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4479-D1B3-447B-8CF5-28F43450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616B-905C-4ACC-BAB6-CC11641E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2AEA-F2DB-4E7B-86F0-FDCB18E2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8FE2-3E07-4000-8FFE-EE43BE85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C96E-3AC4-4CD2-942E-7C65D896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3C69-7DE4-4727-800F-24BB53F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B6F-52DF-4695-B4EC-CC524292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D6E8-95E5-4501-B017-3F37751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53B4-0266-4772-96AC-F1C2E4B1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8199-63CD-46AC-BC18-135BE96A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62B5-DD92-4793-97A6-F23527CD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BA1B-AD7C-4F89-A198-80284851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28C-4905-469D-80FF-D1064EF0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70C-A377-496C-B78C-9B7068BE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164-7B6C-459E-B0DE-00E6C12D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2B8-4E60-420A-8C36-1663CCFE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F23-4AF8-4318-98F3-F28B051A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EA4-5BDB-49CA-B1D2-92FA5FDC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BE9-02BA-4561-B006-D812FE2E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38BD-35A0-40A0-ADC8-3E7D94222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9765-557C-4684-877E-06F5AE313D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8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ЩЕСТВА, ДЕЙСТВУЮЩ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АДРЕНЕРГИЧЕСКИЕ СИНАПС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АДРЕНЕРГИЧЕСКИЕ СРЕДСТВ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268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тие об адренорецепторах и их классификация. Зоны ло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лизации адренорецепто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лассификация веществ, действующих на адренергическ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напс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рмакодинамик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адреномиметических средств (мезатон, нафтизин). Особенности действия и примен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ая характеристика и особенности действия б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— адреномиметических средств. Показания и противопоказания к примен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рмакологические свойства адреналина. Действие н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ердечнососудистую систему, бронхи, артериальное давление и обмен ве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казания и противопоказания к применению адреналин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зможности использования адреналина гидрохлорида как препарата неотложной помощ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836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Особенности введения, действия и применение норадреналин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Симпатомиметические средства. Влияние эфедр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ередачу возбуждения,  деятельность центральной  нерв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ы, сердце, бронхи и артериальное давление. Показания   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Общая характеристик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адреноблокирующих средств (празозин, фентоламин и др.). Использование в медицинской  практике. Возможные осложнения и их профилакт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 Основные свойства и применение б-адреноблокирующ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. Возможны побочные я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 Общая характеристика симпатоблокирующих (симпатол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ческих) средств (резерпин, октадин и др.). Механизм гипотензивного действия. Показания и противо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дренергические сред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052640"/>
          <a:ext cx="8713800" cy="5472000"/>
        </p:xfrm>
        <a:graphic>
          <a:graphicData uri="http://schemas.openxmlformats.org/drawingml/2006/table">
            <a:tbl>
              <a:tblPr/>
              <a:tblGrid>
                <a:gridCol w="4319640"/>
                <a:gridCol w="4394160"/>
              </a:tblGrid>
              <a:tr h="5472000">
                <a:tc>
                  <a:txBody>
                    <a:bodyPr lIns="24120" rIns="24120" tIns="0" bIns="0" anchor="t">
                      <a:noAutofit/>
                    </a:bodyPr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алина гидрохлори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прилин (обзида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лазол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зат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фтиз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адреналина гидротартра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ад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Празоз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Раунат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Резерп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Сальбутам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Фенотерол (беротек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Фентоламина гидрохлори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Эфедрина гидрохлори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для лечения гипертонической болезни и получения седативного эфф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для лечения рини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лечения  тахикардии, стенокардии и гипертонической болез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для лечения и купирования приступов бронхиальной аст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 выбора при шоке, коллапсе, бронхиальной астме, остановке сердц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 для увеличения времени действия анестезирующих сред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б-Адреномиметик в виде аэрозоля для купирования приступа бронхиальной аст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елективный б-Адреномиметик для лечения стенокард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1:38:22Z</dcterms:modified>
  <cp:revision>22</cp:revision>
  <dc:subject/>
  <dc:title>Практическое занятие №</dc:title>
</cp:coreProperties>
</file>