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A95-D42A-4F00-A8FB-36BC359A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D07-C4C5-498F-94FB-B7457024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9B0-2792-4CC6-9E83-C78B196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6FD-1191-4027-B7F2-FE6B3194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7967-DECD-42DD-9E69-3EE4DA09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6E42-708C-4890-85AC-772693B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56C-B11A-4DB5-9F63-6D53F78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8B7C-4AF1-4B97-BB58-1AD54D07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F6A-751E-4B49-8262-7F794DE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DBFA-28A9-46B5-8DF5-4AB6CB8C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6A21-3716-4102-B4B9-3DCD4F0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E65-9C45-49B3-B23F-8025826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5EB7-7B18-41BC-ABF0-A7C4E5A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481A-2C2F-48CC-AC06-8C5C0CA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47FC-B73D-471B-A76A-7A07CCA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B6A-C5C1-4639-80AB-4F0D2E19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3D0-408F-492B-B1DF-268F38E9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6C2-8438-4CC9-95D8-85E21DF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A00-2C85-45EF-8EDF-DCACE1A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C68-87B9-49E5-A619-9F089EA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9B7-3502-423A-8A77-7BCE765E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5CE-B41E-4857-A779-8D3D51E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E08-B8AD-4DA2-A873-4B2FDD8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F5D-3775-4505-874D-459205AD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68DA-7759-45B4-AB66-32B61C33E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5E2-8EB8-41B0-93B8-46403638D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занятие №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ьг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1052280"/>
            <a:ext cx="8497800" cy="5213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тические анальгетики. Действие морфина на ЦНС, дыхание, сердечно-сосудистую систему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фармакологических свойств морфина, омнопона, промедола и фентанила. Понятие о нейролептанальге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ния к применению наркотических анальгетиков. Побочные эффекты. Возможность развития лекарственной зависимости при их примен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птомы острого отравления наркотическими анальгетиками (морфин). Понятие об антидотах наркотических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Общая характеристика ненаркотических анальгетиков. Их классифик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Механизм противовоспалительного, жаропонижающего и обезболивающего действия ненаркотических анальгет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Сравнительная характеристика фармакологических свойст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наркотических анальгетиков (кислота ацетилсалициловая, парацетамол, бутадион, индометацин, ибупрофен, ортофе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Показания и противопоказания к применению ненаркотических анальгетиков.) Побочные эффекты, вызываемые этими препаратами и их профилак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ьге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052640"/>
          <a:ext cx="8713800" cy="547200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5472000">
                <a:tc>
                  <a:txBody>
                    <a:bodyPr lIns="24120" rIns="24120" tIns="0" bIns="0" anchor="t">
                      <a:noAutofit/>
                    </a:bodyPr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ьги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g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тадио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adio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бупрофе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buprefe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ометацин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metac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та ацетилсалициловая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um acetylsalicylic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тофен (диклофенак натрия)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ophe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46280" indent="-51444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ацетамол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гас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mo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ина гидрохлорид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hini hydrochlorid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Омнопон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opon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Промедол</a:t>
                      </a:r>
                      <a:br>
                        <a:rPr sz="3200"/>
                      </a:b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dol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Фентанил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tanyl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для лечения  ревмат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для лечения артри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для лечения воспалительных заболеваниях мышц и су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при травматических болях, злокачественных новообразова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при головной, зубной  б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дот при отравлении морфи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1:38:33Z</dcterms:modified>
  <cp:revision>25</cp:revision>
  <dc:subject/>
  <dc:title>Практическое занятие №</dc:title>
</cp:coreProperties>
</file>