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7640-8D06-41C3-A305-E3DA66E105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338A-008D-4295-A243-02A1E68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F54D-0489-4A59-B87C-34A7EE1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1EBA-73A6-4931-BC7E-7FA42488E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2F51-F551-4C72-983E-DA56996A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4611-109D-41C4-8F7C-7AE8E2F6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EC0A-21DD-434C-B341-5E690C1A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251A-C79E-4B0D-89A3-6D4FBAB5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AF7B-0290-4C51-9CDB-AA765A8C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B32E-F646-49DC-8426-C6DF5BC0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D7B6-0741-4167-85C7-2B3691AB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F07B-AC9D-4C8D-B26B-D295DDCF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4C0294-82C2-4B96-A480-8B693ED8D866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643040" y="42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ook at the pictures and try to gues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what we will speak about at the lesson?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049480" y="1655640"/>
            <a:ext cx="320688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5616720" y="165564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060640" y="3959280"/>
            <a:ext cx="3195720" cy="216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5688000" y="3959280"/>
            <a:ext cx="316872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User\Desktop\Рисунок2.png"/>
          <p:cNvPicPr/>
          <p:nvPr/>
        </p:nvPicPr>
        <p:blipFill>
          <a:blip r:embed="rId1"/>
          <a:stretch/>
        </p:blipFill>
        <p:spPr>
          <a:xfrm>
            <a:off x="1692360" y="428760"/>
            <a:ext cx="74516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214720" y="785880"/>
            <a:ext cx="65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o you know these words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ind the equivalent to each ques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214720" y="2071800"/>
            <a:ext cx="200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ere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at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y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en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How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ich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?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5214960" y="1928880"/>
            <a:ext cx="3286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Что? Какой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Где? Куд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Когда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Какой, который? Как? Каким образом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0" name="Прямая со стрелкой 12"/>
          <p:cNvCxnSpPr/>
          <p:nvPr/>
        </p:nvCxnSpPr>
        <p:spPr>
          <a:xfrm>
            <a:off x="3714480" y="2428560"/>
            <a:ext cx="1500840" cy="85788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1" name="Прямая со стрелкой 15"/>
          <p:cNvCxnSpPr/>
          <p:nvPr/>
        </p:nvCxnSpPr>
        <p:spPr>
          <a:xfrm flipV="1">
            <a:off x="3499920" y="2499480"/>
            <a:ext cx="1715400" cy="35820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2" name="Прямая со стрелкой 17"/>
          <p:cNvCxnSpPr/>
          <p:nvPr/>
        </p:nvCxnSpPr>
        <p:spPr>
          <a:xfrm flipV="1">
            <a:off x="3571920" y="2999880"/>
            <a:ext cx="1715040" cy="28656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3" name="Прямая со стрелкой 19"/>
          <p:cNvCxnSpPr/>
          <p:nvPr/>
        </p:nvCxnSpPr>
        <p:spPr>
          <a:xfrm>
            <a:off x="3714480" y="3785760"/>
            <a:ext cx="1572120" cy="14364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4" name="Прямая со стрелкой 21"/>
          <p:cNvCxnSpPr/>
          <p:nvPr/>
        </p:nvCxnSpPr>
        <p:spPr>
          <a:xfrm>
            <a:off x="3428640" y="4286160"/>
            <a:ext cx="1715400" cy="57240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" name="Прямая со стрелкой 23"/>
          <p:cNvCxnSpPr/>
          <p:nvPr/>
        </p:nvCxnSpPr>
        <p:spPr>
          <a:xfrm flipV="1">
            <a:off x="3642840" y="4428720"/>
            <a:ext cx="1715400" cy="35784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714680" y="64296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ook at these sentenc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nd try to translate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!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2214720" y="1785960"/>
            <a:ext cx="531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at cities in Europe do you know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at flowers grow in our fores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ich city would you like to visit - London or New York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4.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Which of these cups is you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106_05_66.mp3" descr=""/>
          <p:cNvPicPr/>
          <p:nvPr/>
        </p:nvPicPr>
        <p:blipFill>
          <a:blip r:embed="rId1"/>
          <a:stretch/>
        </p:blipFill>
        <p:spPr>
          <a:xfrm>
            <a:off x="34290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avi   Head Shoulders Knees.avi" descr=""/>
          <p:cNvPicPr/>
          <p:nvPr/>
        </p:nvPicPr>
        <p:blipFill>
          <a:blip r:embed="rId2"/>
          <a:stretch/>
        </p:blipFill>
        <p:spPr>
          <a:xfrm>
            <a:off x="8105760" y="6165720"/>
            <a:ext cx="103824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8552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484360" y="90792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70c0"/>
                </a:solidFill>
                <a:latin typeface="Calibri"/>
              </a:rPr>
              <a:t>Самооценк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2484360" y="2565360"/>
            <a:ext cx="633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18-20 «+» - оценка  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11-17 «+» - оценка  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10 «+»       -оценка   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&lt;10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«+»    -Необходимо постарать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7T17:50:36Z</dcterms:created>
  <dc:creator/>
  <dc:description/>
  <dc:language>en-US</dc:language>
  <cp:lastModifiedBy>kab22</cp:lastModifiedBy>
  <dcterms:modified xsi:type="dcterms:W3CDTF">2017-03-01T03:27:11Z</dcterms:modified>
  <cp:revision>24</cp:revision>
  <dc:subject/>
  <dc:title>Презентация PowerPoint</dc:title>
</cp:coreProperties>
</file>