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ED40-CE41-49F5-BA90-08D63B255AD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8DF4-5809-49BF-B315-9D2F1A01F1F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9308-93DD-4984-B19B-E4713357A9A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D92E-850C-49BE-9DB3-3538BF7F5DB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DCE7-F6B0-4BC3-8C13-01ECF60BA6A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0EFC-A3E9-4484-B410-E5C2FEE5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7E5C-2046-48CE-88A4-42C088FC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B3C-6817-4431-8A1F-C49ED768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8E76-99FD-4CB3-8A63-4B8EE7FD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4B44-9C61-45B0-85DD-C655AC0A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6D59-758E-4DF6-A4B3-D636DED1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89DE-5F58-4760-822A-426768BF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B6F6-A970-4B4D-AC92-3072B1DE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C778-B18E-4FEA-814B-F0D6B635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3C70-6B36-484B-BC02-D2B8AB19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2B64-58BB-4E12-9385-54A42541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43D8-B81F-401F-A965-EBCCB2D8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b7e7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56C3-5958-4346-8FD8-87AC1761D01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0/36/568/36568942_solnce.gif" TargetMode="External"/><Relationship Id="rId2" Type="http://schemas.openxmlformats.org/officeDocument/2006/relationships/hyperlink" Target="http://www.alltime.ru/obj/catalog/watch/casio/img/big/MTA-1010D-1A.jpg" TargetMode="External"/><Relationship Id="rId3" Type="http://schemas.openxmlformats.org/officeDocument/2006/relationships/hyperlink" Target="http://images.hayneedle.com/mgen/master:HMI231.jpg?is=1600,1600,0xffffff" TargetMode="External"/><Relationship Id="rId4" Type="http://schemas.openxmlformats.org/officeDocument/2006/relationships/hyperlink" Target="http://stat18.privet.ru/lr/0a1a1880a09449c286438fd6de5192f4" TargetMode="External"/><Relationship Id="rId5" Type="http://schemas.openxmlformats.org/officeDocument/2006/relationships/hyperlink" Target="http://img-fotki.yandex.ru/get/3809/lena-misk5555.0/0_2e827_8a10d89d_L" TargetMode="External"/><Relationship Id="rId6" Type="http://schemas.openxmlformats.org/officeDocument/2006/relationships/hyperlink" Target="http://fotogaleri.haber7.com/album/585720110329103353936.jpg" TargetMode="External"/><Relationship Id="rId7" Type="http://schemas.openxmlformats.org/officeDocument/2006/relationships/hyperlink" Target="http://aptmakc.ru/media/images/johnny_automatic_boy_playing_with_toy_truck.png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472240" cy="24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ВОЛШЕБНЫЕ СЛОВА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Управляющая кнопка: сведения 11">
            <a:hlinkClick r:id="rId1" action="ppaction://hlinksldjump"/>
          </p:cNvPr>
          <p:cNvSpPr/>
          <p:nvPr/>
        </p:nvSpPr>
        <p:spPr>
          <a:xfrm>
            <a:off x="8143920" y="5929200"/>
            <a:ext cx="828720" cy="785880"/>
          </a:xfrm>
          <a:custGeom>
            <a:avLst/>
            <a:gdLst>
              <a:gd name="textAreaLeft" fmla="*/ 50760 w 828720"/>
              <a:gd name="textAreaRight" fmla="*/ 777960 w 82872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2777" h="21600">
                <a:moveTo>
                  <a:pt x="0" y="0"/>
                </a:moveTo>
                <a:lnTo>
                  <a:pt x="22777" y="0"/>
                </a:lnTo>
                <a:lnTo>
                  <a:pt x="22777" y="21600"/>
                </a:lnTo>
                <a:lnTo>
                  <a:pt x="0" y="21600"/>
                </a:lnTo>
                <a:close/>
              </a:path>
              <a:path fill="lightenLess" w="22777" h="21600">
                <a:moveTo>
                  <a:pt x="0" y="0"/>
                </a:moveTo>
                <a:lnTo>
                  <a:pt x="22777" y="0"/>
                </a:lnTo>
                <a:lnTo>
                  <a:pt x="21377" y="1400"/>
                </a:lnTo>
                <a:lnTo>
                  <a:pt x="1400" y="1400"/>
                </a:lnTo>
                <a:close/>
              </a:path>
              <a:path fill="darken" w="22777" h="21600">
                <a:moveTo>
                  <a:pt x="22777" y="0"/>
                </a:moveTo>
                <a:lnTo>
                  <a:pt x="22777" y="21600"/>
                </a:lnTo>
                <a:lnTo>
                  <a:pt x="21377" y="20200"/>
                </a:lnTo>
                <a:lnTo>
                  <a:pt x="21377" y="1400"/>
                </a:lnTo>
                <a:close/>
              </a:path>
              <a:path fill="darkenLess" w="22777" h="21600">
                <a:moveTo>
                  <a:pt x="22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7" y="20200"/>
                </a:lnTo>
                <a:close/>
              </a:path>
              <a:path fill="lighten" w="22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7" h="21600">
                <a:moveTo>
                  <a:pt x="11388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2777" h="21600">
                <a:moveTo>
                  <a:pt x="11388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2777" h="21600">
                <a:moveTo>
                  <a:pt x="8812" y="8224"/>
                </a:moveTo>
                <a:lnTo>
                  <a:pt x="12677" y="8224"/>
                </a:lnTo>
                <a:lnTo>
                  <a:pt x="12677" y="15221"/>
                </a:lnTo>
                <a:lnTo>
                  <a:pt x="13965" y="15221"/>
                </a:lnTo>
                <a:lnTo>
                  <a:pt x="13965" y="16144"/>
                </a:lnTo>
                <a:lnTo>
                  <a:pt x="8812" y="16144"/>
                </a:lnTo>
                <a:lnTo>
                  <a:pt x="8812" y="15221"/>
                </a:lnTo>
                <a:lnTo>
                  <a:pt x="10100" y="15221"/>
                </a:lnTo>
                <a:lnTo>
                  <a:pt x="10100" y="9129"/>
                </a:lnTo>
                <a:lnTo>
                  <a:pt x="8812" y="9129"/>
                </a:lnTo>
                <a:close/>
              </a:path>
            </a:pathLst>
          </a:custGeom>
          <a:gradFill rotWithShape="0">
            <a:gsLst>
              <a:gs pos="0">
                <a:srgbClr val="45a6d6"/>
              </a:gs>
              <a:gs pos="100000">
                <a:srgbClr val="0090c7"/>
              </a:gs>
            </a:gsLst>
            <a:lin ang="5400000"/>
          </a:gradFill>
          <a:ln w="64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4361760" y="4129200"/>
            <a:ext cx="407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аботу подготови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оспитатель ГПД ГБОУ СОШ № 5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ружкова П.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800000"/>
                </a:solidFill>
                <a:latin typeface="Georgia"/>
              </a:rPr>
              <a:t>За что мы говорим “спасибо”?</a:t>
            </a:r>
            <a:br>
              <a:rPr sz="4000"/>
            </a:br>
            <a:r>
              <a:rPr b="0" lang="ru-RU" sz="4000" spc="-1" strike="noStrike">
                <a:solidFill>
                  <a:srgbClr val="800000"/>
                </a:solidFill>
                <a:latin typeface="Georgia"/>
              </a:rPr>
              <a:t>За всё, что делают для нас.</a:t>
            </a:r>
            <a:br>
              <a:rPr sz="4000"/>
            </a:br>
            <a:r>
              <a:rPr b="0" lang="ru-RU" sz="4000" spc="-1" strike="noStrike">
                <a:solidFill>
                  <a:srgbClr val="800000"/>
                </a:solidFill>
                <a:latin typeface="Georgia"/>
              </a:rPr>
              <a:t>И мы припомнить не смогли б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Georgia"/>
              </a:rPr>
              <a:t>– </a:t>
            </a:r>
            <a:r>
              <a:rPr b="0" lang="ru-RU" sz="4000" spc="-1" strike="noStrike">
                <a:solidFill>
                  <a:srgbClr val="800000"/>
                </a:solidFill>
                <a:latin typeface="Georgia"/>
              </a:rPr>
              <a:t>Кому сказали? Сколько раз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13840" y="1357200"/>
            <a:ext cx="89298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Вдруг в автобус вошла женщина с ребёнком. Вова встал и сказал ей: «Садитес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800000"/>
                </a:solidFill>
                <a:latin typeface="Georgia"/>
                <a:ea typeface="Times New Roman"/>
              </a:rPr>
              <a:t>Автобус неожиданно остановился. Вова чуть не упал и толкнул мужчину. Мужчина хотел рассердиться, но Вова сказал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  <a:ea typeface="Times New Roman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Прямоугольник 9"/>
          <p:cNvSpPr/>
          <p:nvPr/>
        </p:nvSpPr>
        <p:spPr>
          <a:xfrm>
            <a:off x="785880" y="214200"/>
            <a:ext cx="735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Вставь волшебное слово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Прямоугольник 10" descr=""/>
          <p:cNvPicPr/>
          <p:nvPr/>
        </p:nvPicPr>
        <p:blipFill>
          <a:blip r:embed="rId1"/>
          <a:stretch/>
        </p:blipFill>
        <p:spPr>
          <a:xfrm>
            <a:off x="3213000" y="2212920"/>
            <a:ext cx="3645000" cy="50652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11" descr=""/>
          <p:cNvPicPr/>
          <p:nvPr/>
        </p:nvPicPr>
        <p:blipFill>
          <a:blip r:embed="rId2"/>
          <a:stretch/>
        </p:blipFill>
        <p:spPr>
          <a:xfrm>
            <a:off x="2073240" y="4998960"/>
            <a:ext cx="6931080" cy="506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"/>
          <p:cNvPicPr/>
          <p:nvPr/>
        </p:nvPicPr>
        <p:blipFill>
          <a:blip r:embed="rId3"/>
          <a:stretch/>
        </p:blipFill>
        <p:spPr>
          <a:xfrm>
            <a:off x="7143840" y="2214720"/>
            <a:ext cx="1071360" cy="1071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"/>
          <p:cNvPicPr/>
          <p:nvPr/>
        </p:nvPicPr>
        <p:blipFill>
          <a:blip r:embed="rId4"/>
          <a:stretch/>
        </p:blipFill>
        <p:spPr>
          <a:xfrm>
            <a:off x="857160" y="5143680"/>
            <a:ext cx="1285920" cy="1285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лова просьбы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Georgia"/>
              </a:rPr>
              <a:t>Будьте добры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Georgia"/>
              </a:rPr>
              <a:t>Пожалуйста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Georgia"/>
              </a:rPr>
              <a:t>Будьте любезны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Georgia"/>
              </a:rPr>
              <a:t>Не могли бы вы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143000"/>
            <a:ext cx="854064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Отменить, что ли слово “пожалуйста”?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Повторять ли его поминутно.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Нет, пожалуй, что без “пожалуйста”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Нам становится неуют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   “</a:t>
            </a: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Будьте добры” или “ будьте любезны” -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Эти слова в разговоре полезны.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С ними легко в разговоре и дома: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Будет приятно их слышать любо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1680" y="1213920"/>
            <a:ext cx="854064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Мальчик крикнул прохожему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« Скажите, сколько сейчас часов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Обращаясь к прохожему, мальчик сделал ошибки. Ответьте, какие ?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WordArt 5" descr="Частый вертикальный"/>
          <p:cNvPicPr/>
          <p:nvPr/>
        </p:nvPicPr>
        <p:blipFill>
          <a:blip r:embed="rId1"/>
          <a:stretch/>
        </p:blipFill>
        <p:spPr>
          <a:xfrm>
            <a:off x="1262160" y="189000"/>
            <a:ext cx="6480000" cy="1365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2"/>
          <a:stretch/>
        </p:blipFill>
        <p:spPr>
          <a:xfrm>
            <a:off x="6643800" y="2714760"/>
            <a:ext cx="1643040" cy="1785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3"/>
          <a:stretch/>
        </p:blipFill>
        <p:spPr>
          <a:xfrm>
            <a:off x="4857840" y="3000240"/>
            <a:ext cx="990360" cy="1357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4"/>
          <a:stretch/>
        </p:blipFill>
        <p:spPr>
          <a:xfrm>
            <a:off x="500040" y="2643120"/>
            <a:ext cx="2168640" cy="2000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лова извинения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428480"/>
            <a:ext cx="854064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извини (те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прости (те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виноват (а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я не хотел (а) вас обиде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5214960" y="1857240"/>
            <a:ext cx="2717640" cy="2571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обавь слово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Georgia"/>
              </a:rPr>
              <a:t>Мальчик , вежливый и развит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Georgia"/>
              </a:rPr>
              <a:t>    </a:t>
            </a:r>
            <a:r>
              <a:rPr b="0" i="1" lang="ru-RU" sz="2800" spc="-1" strike="noStrike">
                <a:solidFill>
                  <a:srgbClr val="800000"/>
                </a:solidFill>
                <a:latin typeface="Georgia"/>
              </a:rPr>
              <a:t>Говорит , встречаясь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Georgia"/>
              </a:rPr>
              <a:t>Растает даже ледяная глыба</a:t>
            </a:r>
            <a:br>
              <a:rPr sz="2800"/>
            </a:br>
            <a:r>
              <a:rPr b="0" i="1" lang="ru-RU" sz="2800" spc="-1" strike="noStrike">
                <a:solidFill>
                  <a:srgbClr val="800000"/>
                </a:solidFill>
                <a:latin typeface="Georgia"/>
              </a:rPr>
              <a:t>От слова теплого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eorgia"/>
              </a:rPr>
              <a:t>Зазеленеет старый пень </a:t>
            </a:r>
            <a:br>
              <a:rPr sz="2800"/>
            </a:br>
            <a:r>
              <a:rPr b="0" lang="ru-RU" sz="2800" spc="-1" strike="noStrike">
                <a:solidFill>
                  <a:srgbClr val="800000"/>
                </a:solidFill>
                <a:latin typeface="Georgia"/>
              </a:rPr>
              <a:t>Когда услышит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Georgia"/>
              </a:rPr>
              <a:t>Если больше есть не в силах</a:t>
            </a:r>
            <a:br>
              <a:rPr sz="2800"/>
            </a:br>
            <a:r>
              <a:rPr b="0" i="1" lang="ru-RU" sz="2800" spc="-1" strike="noStrike">
                <a:solidFill>
                  <a:srgbClr val="800000"/>
                </a:solidFill>
                <a:latin typeface="Georgia"/>
              </a:rPr>
              <a:t>Скажем маме мы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Georgia"/>
              </a:rPr>
              <a:t>Когда нас бранят за шалости,</a:t>
            </a:r>
            <a:br>
              <a:rPr sz="2800"/>
            </a:br>
            <a:r>
              <a:rPr b="0" i="1" lang="ru-RU" sz="2800" spc="-1" strike="noStrike">
                <a:solidFill>
                  <a:srgbClr val="800000"/>
                </a:solidFill>
                <a:latin typeface="Georgia"/>
              </a:rPr>
              <a:t>Говорим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eorgia"/>
              </a:rPr>
              <a:t>И во Франции, и в Дании</a:t>
            </a:r>
            <a:br>
              <a:rPr sz="2800"/>
            </a:br>
            <a:r>
              <a:rPr b="0" i="1" lang="ru-RU" sz="2800" spc="-1" strike="noStrike">
                <a:solidFill>
                  <a:srgbClr val="800000"/>
                </a:solidFill>
                <a:latin typeface="Georgia"/>
              </a:rPr>
              <a:t>На прощание говорят</a:t>
            </a:r>
            <a:r>
              <a:rPr b="0" lang="ru-RU" sz="2800" spc="-1" strike="noStrike">
                <a:solidFill>
                  <a:srgbClr val="800000"/>
                </a:solidFill>
                <a:latin typeface="Georgia"/>
              </a:rPr>
              <a:t>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4462920" y="1714680"/>
            <a:ext cx="30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здравствуй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024800" y="2643120"/>
            <a:ext cx="1907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спасиб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411000" y="3429000"/>
            <a:ext cx="296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добрый д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4000680" y="428616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спасиб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2571840" y="5143680"/>
            <a:ext cx="418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простите, пожалуй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4628520" y="6000840"/>
            <a:ext cx="284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до свид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79297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Одна девочка жаловалась маме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«У нас во дворе есть такой невежлив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мальчишка – зовёт меня Галько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«А ты как зовёшь его?» – спроси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мама. “Я его вообще никак не зову,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ответила Галя, я ему просто кричу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«Эй, ты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WordArt 4" descr="Частый вертикальный"/>
          <p:cNvPicPr/>
          <p:nvPr/>
        </p:nvPicPr>
        <p:blipFill>
          <a:blip r:embed="rId1"/>
          <a:stretch/>
        </p:blipFill>
        <p:spPr>
          <a:xfrm>
            <a:off x="298440" y="231840"/>
            <a:ext cx="8516880" cy="13222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1785960" y="5572080"/>
            <a:ext cx="55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Garamond"/>
              </a:rPr>
              <a:t> </a:t>
            </a:r>
            <a:r>
              <a:rPr b="1" i="1" lang="ru-RU" sz="4400" spc="-1" strike="noStrike">
                <a:solidFill>
                  <a:srgbClr val="800000"/>
                </a:solidFill>
                <a:latin typeface="Garamond"/>
              </a:rPr>
              <a:t>Права ли Галя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7429680" y="3286080"/>
            <a:ext cx="1536480" cy="2786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Georgia"/>
              </a:rPr>
              <a:t>Важные слова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28800" y="928800"/>
            <a:ext cx="791352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Слова «До свиданья!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«Спасибо!», «Простите!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«Пожалуйста!», «Здравствуйте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Щедро дарите. Дарите прохожи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Друзьям и знакомы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В троллейбусе, в парк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И в школе, и дома. </a:t>
            </a: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Слова эти оч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И очень важн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Они человек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Как воздух, нужн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Без них невозможно на свете прожи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Слова эти нужно с улыбкой дари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В. Кудлачё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929120" y="2786040"/>
            <a:ext cx="2949480" cy="2428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510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Georgia"/>
              </a:rPr>
              <a:t>Игра «Вежливо-невежливо»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0" lang="ru-RU" sz="3000" spc="-1" strike="noStrike">
                <a:solidFill>
                  <a:srgbClr val="800000"/>
                </a:solidFill>
                <a:latin typeface="Georgia"/>
              </a:rPr>
              <a:t>Придумывать прозвища другим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Georgia"/>
              </a:rPr>
              <a:t>    </a:t>
            </a:r>
            <a:r>
              <a:rPr b="0" lang="ru-RU" sz="3000" spc="-1" strike="noStrike">
                <a:solidFill>
                  <a:srgbClr val="800000"/>
                </a:solidFill>
                <a:latin typeface="Georgia"/>
              </a:rPr>
              <a:t>- Поздороваться при встрече…</a:t>
            </a:r>
            <a:br>
              <a:rPr sz="3000"/>
            </a:br>
            <a:r>
              <a:rPr b="0" lang="ru-RU" sz="3000" spc="-1" strike="noStrike">
                <a:solidFill>
                  <a:srgbClr val="800000"/>
                </a:solidFill>
                <a:latin typeface="Georgia"/>
              </a:rPr>
              <a:t>- Толкнуть, не извиниться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Georgia"/>
              </a:rPr>
              <a:t>    </a:t>
            </a:r>
            <a:r>
              <a:rPr b="0" lang="ru-RU" sz="3000" spc="-1" strike="noStrike">
                <a:solidFill>
                  <a:srgbClr val="800000"/>
                </a:solidFill>
                <a:latin typeface="Georgia"/>
              </a:rPr>
              <a:t>- Помочь подняться, поднять упавшую </a:t>
            </a:r>
            <a:br>
              <a:rPr sz="3000"/>
            </a:br>
            <a:r>
              <a:rPr b="0" lang="ru-RU" sz="3000" spc="-1" strike="noStrike">
                <a:solidFill>
                  <a:srgbClr val="800000"/>
                </a:solidFill>
                <a:latin typeface="Georgia"/>
              </a:rPr>
              <a:t>вещь…</a:t>
            </a:r>
            <a:br>
              <a:rPr sz="3000"/>
            </a:br>
            <a:r>
              <a:rPr b="0" lang="ru-RU" sz="3000" spc="-1" strike="noStrike">
                <a:solidFill>
                  <a:srgbClr val="800000"/>
                </a:solidFill>
                <a:latin typeface="Georgia"/>
              </a:rPr>
              <a:t>- Не уступить место пожилому </a:t>
            </a:r>
            <a:br>
              <a:rPr sz="3000"/>
            </a:br>
            <a:r>
              <a:rPr b="0" lang="ru-RU" sz="3000" spc="-1" strike="noStrike">
                <a:solidFill>
                  <a:srgbClr val="800000"/>
                </a:solidFill>
                <a:latin typeface="Georgia"/>
              </a:rPr>
              <a:t>человеку…</a:t>
            </a:r>
            <a:br>
              <a:rPr sz="3000"/>
            </a:br>
            <a:r>
              <a:rPr b="0" lang="ru-RU" sz="3000" spc="-1" strike="noStrike">
                <a:solidFill>
                  <a:srgbClr val="800000"/>
                </a:solidFill>
                <a:latin typeface="Georgia"/>
              </a:rPr>
              <a:t>- Разговаривать громко в общественно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800000"/>
                </a:solidFill>
                <a:latin typeface="Georgia"/>
              </a:rPr>
              <a:t>месте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Georgia"/>
              </a:rPr>
              <a:t>    </a:t>
            </a:r>
            <a:r>
              <a:rPr b="0" lang="ru-RU" sz="3000" spc="-1" strike="noStrike">
                <a:solidFill>
                  <a:srgbClr val="800000"/>
                </a:solidFill>
                <a:latin typeface="Georgia"/>
              </a:rPr>
              <a:t>- Мальчикам в помещении не снимать головные уборы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Georgia"/>
              </a:rPr>
              <a:t>   </a:t>
            </a:r>
            <a:r>
              <a:rPr b="0" lang="ru-RU" sz="3000" spc="-1" strike="noStrike">
                <a:solidFill>
                  <a:srgbClr val="800000"/>
                </a:solidFill>
                <a:latin typeface="Georgia"/>
              </a:rPr>
              <a:t>- Уважительно говорить о других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643800" y="85716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невежли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500800" y="178596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невежли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500120" y="442908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невежли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135880" y="357192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невежли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3493080" y="535788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невежли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322680" y="5857920"/>
            <a:ext cx="20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вежли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5929200" y="1428840"/>
            <a:ext cx="173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вежли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1393200" y="2714760"/>
            <a:ext cx="20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вежли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142640" y="2428920"/>
            <a:ext cx="7483320" cy="16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3366"/>
                </a:solidFill>
                <a:latin typeface="Georgia"/>
                <a:ea typeface="Times New Roman"/>
              </a:rPr>
              <a:t>Доброе слово,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3366"/>
                </a:solidFill>
                <a:latin typeface="Georgia"/>
                <a:ea typeface="Times New Roman"/>
              </a:rPr>
              <a:t>что ясный день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2547720" cy="2108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6643800" y="4572000"/>
            <a:ext cx="1384200" cy="1833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чему волшебные?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2560" y="1357200"/>
            <a:ext cx="864396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800000"/>
                </a:solidFill>
                <a:latin typeface="Georgia"/>
              </a:rPr>
              <a:t>Это обычные, простые, умные, полезные, и добрые слова, а волшебными они стали потому, что без них просто жить на свете нельзя. Эти слова надо не только хорошо знать, но и уметь их произносить по-волшебному, а научиться такому волшебству нетрудно, стоит лишь захотеть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eorgia"/>
              </a:rPr>
              <a:t>ВЕЖЛИВЫЕ СЛОВА 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285920"/>
            <a:ext cx="85406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Очень рад я видеть Вас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"Здравствуйте", - скажу сейча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А когда я ухож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"До свиданье", - всем скаж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Не могу найти рассказ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К другу обращусь сейча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Я помочь мне попрош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И "пожалуйста", - скаж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Много разных слов на свет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Очень разные сл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Но "спасибо" говори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Всем за добрые де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Что же в итоге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800000"/>
                </a:solidFill>
                <a:latin typeface="Georgia"/>
              </a:rPr>
              <a:t>Желаю вам никогда не забывать волшебных слов, расти внимательными,  добрыми, вежливыми ребятами 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6986520" y="0"/>
            <a:ext cx="2157480" cy="1785960"/>
          </a:xfrm>
          <a:prstGeom prst="rect">
            <a:avLst/>
          </a:prstGeom>
          <a:ln w="0">
            <a:noFill/>
          </a:ln>
        </p:spPr>
      </p:pic>
      <p:sp>
        <p:nvSpPr>
          <p:cNvPr id="125" name="Управляющая кнопка: настраиваемая 5">
            <a:hlinkClick r:id="" action="ppaction://hlinkshowjump?jump=endshow"/>
          </p:cNvPr>
          <p:cNvSpPr/>
          <p:nvPr/>
        </p:nvSpPr>
        <p:spPr>
          <a:xfrm>
            <a:off x="7643880" y="6215040"/>
            <a:ext cx="1285920" cy="500040"/>
          </a:xfrm>
          <a:custGeom>
            <a:avLst/>
            <a:gdLst>
              <a:gd name="textAreaLeft" fmla="*/ 32400 w 1285920"/>
              <a:gd name="textAreaRight" fmla="*/ 1253520 w 12859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55523" h="21600">
                <a:moveTo>
                  <a:pt x="0" y="0"/>
                </a:moveTo>
                <a:lnTo>
                  <a:pt x="55523" y="0"/>
                </a:lnTo>
                <a:lnTo>
                  <a:pt x="55523" y="21600"/>
                </a:lnTo>
                <a:lnTo>
                  <a:pt x="0" y="21600"/>
                </a:lnTo>
                <a:close/>
              </a:path>
              <a:path fill="lightenLess" w="55523" h="21600">
                <a:moveTo>
                  <a:pt x="0" y="0"/>
                </a:moveTo>
                <a:lnTo>
                  <a:pt x="55523" y="0"/>
                </a:lnTo>
                <a:lnTo>
                  <a:pt x="54123" y="1400"/>
                </a:lnTo>
                <a:lnTo>
                  <a:pt x="1400" y="1400"/>
                </a:lnTo>
                <a:close/>
              </a:path>
              <a:path fill="darken" w="55523" h="21600">
                <a:moveTo>
                  <a:pt x="55523" y="0"/>
                </a:moveTo>
                <a:lnTo>
                  <a:pt x="55523" y="21600"/>
                </a:lnTo>
                <a:lnTo>
                  <a:pt x="54123" y="20200"/>
                </a:lnTo>
                <a:lnTo>
                  <a:pt x="54123" y="1400"/>
                </a:lnTo>
                <a:close/>
              </a:path>
              <a:path fill="darkenLess" w="55523" h="21600">
                <a:moveTo>
                  <a:pt x="5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3" y="20200"/>
                </a:lnTo>
                <a:close/>
              </a:path>
              <a:path fill="lighten" w="5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5a6d6"/>
              </a:gs>
              <a:gs pos="100000">
                <a:srgbClr val="0090c7"/>
              </a:gs>
            </a:gsLst>
            <a:lin ang="5400000"/>
          </a:gradFill>
          <a:ln w="64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7e7ff"/>
                </a:solidFill>
                <a:latin typeface="Arial"/>
              </a:rPr>
              <a:t>Интернет-ресурсы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1680" y="428760"/>
            <a:ext cx="855648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1"/>
              </a:rPr>
              <a:t>http://img1.liveinternet.ru/images/attach/c/0/36/568/36568942_solnce.gif</a:t>
            </a: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2"/>
              </a:rPr>
              <a:t>http://www.alltime.ru/obj/catalog/watch/casio/img/big/MTA-1010D-1A.jpg</a:t>
            </a: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3"/>
              </a:rPr>
              <a:t>http://images.hayneedle.com/mgen/master:HMI231.jpg?is=1600,1600,0xffffff</a:t>
            </a: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4"/>
              </a:rPr>
              <a:t>http://stat18.privet.ru/lr/0a1a1880a09449c286438fd6de5192f4</a:t>
            </a: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5"/>
              </a:rPr>
              <a:t>http://img-fotki.yandex.ru/get/3809/lena-misk5555.0/0_2e827_8a10d89d_L</a:t>
            </a: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6"/>
              </a:rPr>
              <a:t>http://fotogaleri.haber7.com/album/585720110329103353936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7"/>
              </a:rPr>
              <a:t>http://aptmakc.ru/media/images/johnny_automatic_boy_playing_with_toy_truck.png</a:t>
            </a: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http://fotoramochki.com/personaj/clipart-16.png</a:t>
            </a: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http://900igr.net/datai/chtenie/CHto-delaet-3.files/0017-019-Devochka-pojot.png</a:t>
            </a: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http://img-fotki.yandex.ru/get/4607/valenta-mog.119/0_6c7b5_71d9b453_L.jpg</a:t>
            </a: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http://i027.radikal.ru/0802/e6/d459b5a15bc8.p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http://img0.liveinternet.ru/images/attach/c/4/78/263/78263024_smayl.png</a:t>
            </a: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http://yoursmileys.ru/ksmile/giant/k28044.png</a:t>
            </a:r>
            <a:r>
              <a:rPr b="0" lang="ru-RU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8358120" y="5929200"/>
            <a:ext cx="785880" cy="92880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928800"/>
              <a:gd name="textAreaBottom" fmla="*/ 878040 h 928800"/>
            </a:gdLst>
            <a:ahLst/>
            <a:rect l="textAreaLeft" t="textAreaTop" r="textAreaRight" b="textAreaBottom"/>
            <a:pathLst>
              <a:path w="21600" h="25526">
                <a:moveTo>
                  <a:pt x="0" y="0"/>
                </a:moveTo>
                <a:lnTo>
                  <a:pt x="21600" y="0"/>
                </a:lnTo>
                <a:lnTo>
                  <a:pt x="21600" y="25526"/>
                </a:lnTo>
                <a:lnTo>
                  <a:pt x="0" y="25526"/>
                </a:lnTo>
                <a:close/>
              </a:path>
              <a:path fill="lightenLess" w="21600" h="255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26">
                <a:moveTo>
                  <a:pt x="21600" y="0"/>
                </a:moveTo>
                <a:lnTo>
                  <a:pt x="21600" y="25526"/>
                </a:lnTo>
                <a:lnTo>
                  <a:pt x="20200" y="24126"/>
                </a:lnTo>
                <a:lnTo>
                  <a:pt x="20200" y="1400"/>
                </a:lnTo>
                <a:close/>
              </a:path>
              <a:path fill="darkenLess" w="21600" h="25526">
                <a:moveTo>
                  <a:pt x="21600" y="25526"/>
                </a:moveTo>
                <a:lnTo>
                  <a:pt x="0" y="25526"/>
                </a:lnTo>
                <a:lnTo>
                  <a:pt x="1400" y="24126"/>
                </a:lnTo>
                <a:lnTo>
                  <a:pt x="20200" y="24126"/>
                </a:lnTo>
                <a:close/>
              </a:path>
              <a:path fill="lighten" w="21600" h="25526">
                <a:moveTo>
                  <a:pt x="0" y="255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26"/>
                </a:lnTo>
                <a:close/>
              </a:path>
              <a:path fill="darken" w="21600" h="25526">
                <a:moveTo>
                  <a:pt x="10800" y="5800"/>
                </a:moveTo>
                <a:lnTo>
                  <a:pt x="13376" y="8411"/>
                </a:lnTo>
                <a:lnTo>
                  <a:pt x="13376" y="6671"/>
                </a:lnTo>
                <a:lnTo>
                  <a:pt x="15152" y="6671"/>
                </a:lnTo>
                <a:lnTo>
                  <a:pt x="15152" y="10187"/>
                </a:lnTo>
                <a:lnTo>
                  <a:pt x="17763" y="12763"/>
                </a:lnTo>
                <a:lnTo>
                  <a:pt x="16109" y="12763"/>
                </a:lnTo>
                <a:lnTo>
                  <a:pt x="16109" y="19952"/>
                </a:lnTo>
                <a:lnTo>
                  <a:pt x="5491" y="19952"/>
                </a:lnTo>
                <a:lnTo>
                  <a:pt x="5491" y="12763"/>
                </a:lnTo>
                <a:lnTo>
                  <a:pt x="3837" y="12763"/>
                </a:lnTo>
                <a:close/>
              </a:path>
              <a:path fill="darkenLess" w="21600" h="25526">
                <a:moveTo>
                  <a:pt x="13376" y="8411"/>
                </a:moveTo>
                <a:lnTo>
                  <a:pt x="13376" y="6671"/>
                </a:lnTo>
                <a:lnTo>
                  <a:pt x="15152" y="6671"/>
                </a:lnTo>
                <a:lnTo>
                  <a:pt x="15152" y="10187"/>
                </a:lnTo>
                <a:close/>
              </a:path>
              <a:path fill="darkenLess" w="21600" h="25526">
                <a:moveTo>
                  <a:pt x="9877" y="16262"/>
                </a:moveTo>
                <a:lnTo>
                  <a:pt x="11723" y="16262"/>
                </a:lnTo>
                <a:lnTo>
                  <a:pt x="11723" y="19952"/>
                </a:lnTo>
                <a:lnTo>
                  <a:pt x="16109" y="19952"/>
                </a:lnTo>
                <a:lnTo>
                  <a:pt x="16109" y="12763"/>
                </a:lnTo>
                <a:lnTo>
                  <a:pt x="5491" y="12763"/>
                </a:lnTo>
                <a:lnTo>
                  <a:pt x="5491" y="19952"/>
                </a:lnTo>
                <a:lnTo>
                  <a:pt x="9877" y="19952"/>
                </a:lnTo>
                <a:close/>
              </a:path>
            </a:pathLst>
          </a:custGeom>
          <a:gradFill rotWithShape="0">
            <a:gsLst>
              <a:gs pos="0">
                <a:srgbClr val="45a6d6"/>
              </a:gs>
              <a:gs pos="100000">
                <a:srgbClr val="0090c7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30400" y="285840"/>
            <a:ext cx="398160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Georgia"/>
              </a:rPr>
              <a:t>Доброе утр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342280" cy="41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i="1" lang="ru-RU" sz="2400" spc="-1" strike="noStrike">
                <a:solidFill>
                  <a:srgbClr val="800000"/>
                </a:solidFill>
                <a:latin typeface="Georgia"/>
              </a:rPr>
              <a:t>Придумано кем-то просто и мудро </a:t>
            </a:r>
            <a:br>
              <a:rPr sz="2400"/>
            </a:br>
            <a:r>
              <a:rPr b="0" i="1" lang="ru-RU" sz="2400" spc="-1" strike="noStrike">
                <a:solidFill>
                  <a:srgbClr val="800000"/>
                </a:solidFill>
                <a:latin typeface="Georgia"/>
              </a:rPr>
              <a:t>При встрече здороваться: </a:t>
            </a:r>
            <a:br>
              <a:rPr sz="2400"/>
            </a:br>
            <a:r>
              <a:rPr b="0" i="1" lang="ru-RU" sz="2400" spc="-1" strike="noStrike">
                <a:solidFill>
                  <a:srgbClr val="800000"/>
                </a:solidFill>
                <a:latin typeface="Georgia"/>
              </a:rPr>
              <a:t>- Доброе утро! </a:t>
            </a:r>
            <a:br>
              <a:rPr sz="2400"/>
            </a:br>
            <a:r>
              <a:rPr b="0" i="1" lang="ru-RU" sz="2400" spc="-1" strike="noStrike">
                <a:solidFill>
                  <a:srgbClr val="800000"/>
                </a:solidFill>
                <a:latin typeface="Georgia"/>
              </a:rPr>
              <a:t>- Доброе утро! </a:t>
            </a:r>
            <a:br>
              <a:rPr sz="2400"/>
            </a:br>
            <a:r>
              <a:rPr b="0" i="1" lang="ru-RU" sz="2400" spc="-1" strike="noStrike">
                <a:solidFill>
                  <a:srgbClr val="800000"/>
                </a:solidFill>
                <a:latin typeface="Georgia"/>
              </a:rPr>
              <a:t>                   Солнцу и птицам!</a:t>
            </a:r>
            <a:br>
              <a:rPr sz="2400"/>
            </a:br>
            <a:r>
              <a:rPr b="0" i="1" lang="ru-RU" sz="2400" spc="-1" strike="noStrike">
                <a:solidFill>
                  <a:srgbClr val="800000"/>
                </a:solidFill>
                <a:latin typeface="Georgia"/>
              </a:rPr>
              <a:t>Доброе утро! </a:t>
            </a:r>
            <a:br>
              <a:rPr sz="2400"/>
            </a:br>
            <a:r>
              <a:rPr b="0" i="1" lang="ru-RU" sz="2400" spc="-1" strike="noStrike">
                <a:solidFill>
                  <a:srgbClr val="800000"/>
                </a:solidFill>
                <a:latin typeface="Georgia"/>
              </a:rPr>
              <a:t>                   Улыбчивым лицам.</a:t>
            </a:r>
            <a:br>
              <a:rPr sz="2400"/>
            </a:br>
            <a:r>
              <a:rPr b="0" i="1" lang="ru-RU" sz="2400" spc="-1" strike="noStrike">
                <a:solidFill>
                  <a:srgbClr val="800000"/>
                </a:solidFill>
                <a:latin typeface="Georgia"/>
              </a:rPr>
              <a:t>И каждый становится добры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Georgia"/>
              </a:rPr>
              <a:t>                      </a:t>
            </a:r>
            <a:r>
              <a:rPr b="0" i="1" lang="ru-RU" sz="2400" spc="-1" strike="noStrike">
                <a:solidFill>
                  <a:srgbClr val="800000"/>
                </a:solidFill>
                <a:latin typeface="Georgia"/>
              </a:rPr>
              <a:t>доверчивым...</a:t>
            </a:r>
            <a:br>
              <a:rPr sz="2400"/>
            </a:br>
            <a:r>
              <a:rPr b="0" i="1" lang="ru-RU" sz="2400" spc="-1" strike="noStrike">
                <a:solidFill>
                  <a:srgbClr val="800000"/>
                </a:solidFill>
                <a:latin typeface="Georgia"/>
              </a:rPr>
              <a:t>Пусть доброе утро длится до веч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Georgia"/>
              </a:rPr>
              <a:t>Н. Красиль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285840" y="0"/>
            <a:ext cx="2071440" cy="1822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6929280" y="3143160"/>
            <a:ext cx="1617840" cy="2143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85600" y="1676160"/>
            <a:ext cx="70563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 </a:t>
            </a: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"Спасибо", "Здравствуйте", "Простите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  </a:t>
            </a: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Произносить он не привы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  </a:t>
            </a: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Простого слова "извините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  </a:t>
            </a: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Не одолел его язык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А в вашем классе нет такого учени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WordArt 4" descr=""/>
          <p:cNvPicPr/>
          <p:nvPr/>
        </p:nvPicPr>
        <p:blipFill>
          <a:blip r:embed="rId1"/>
          <a:stretch/>
        </p:blipFill>
        <p:spPr>
          <a:xfrm>
            <a:off x="1925640" y="401760"/>
            <a:ext cx="5816520" cy="811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2347920" cy="3925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Когда люди говорят «Здравствуйте», они не только приветствуют друг друга, но и желают здоровья. Любая встреча начинается с приветств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Georgia"/>
              </a:rPr>
              <a:t>Какие слова приветствия вы знаете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Слова </a:t>
            </a:r>
            <a:r>
              <a:rPr b="1" i="1" lang="ru-RU" sz="4400" spc="-1" strike="noStrike">
                <a:solidFill>
                  <a:srgbClr val="ffff00"/>
                </a:solidFill>
                <a:latin typeface="Georgia"/>
              </a:rPr>
              <a:t>приветстви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1571400"/>
            <a:ext cx="46958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Здравствуйт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Добрый день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Доброе утро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Добрый вечер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Привет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856800" y="1000080"/>
            <a:ext cx="798516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Добрый день! – тебе сказа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-Добрый день! - ответил 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Как две ниточки связа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Теплоты и добро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-Здравствуйте! – ты скажешь челове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-Здравствуй! – улыбнётся он в отв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И, наверно, не пойдёт в апте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И здоровым будет много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6858000" y="500040"/>
            <a:ext cx="1976400" cy="1635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7047000" y="4500720"/>
            <a:ext cx="2097000" cy="2000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000160" y="1285920"/>
            <a:ext cx="71438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Georgia"/>
                <a:ea typeface="Times New Roman"/>
              </a:rPr>
              <a:t>"</a:t>
            </a:r>
            <a:r>
              <a:rPr b="0" lang="ru-RU" sz="3600" spc="-1" strike="noStrike">
                <a:solidFill>
                  <a:srgbClr val="800000"/>
                </a:solidFill>
                <a:latin typeface="Georgia"/>
                <a:ea typeface="Times New Roman"/>
              </a:rPr>
              <a:t>Приходит утром Костя в школу. У двери его класса стоит учительница. Костя, увидев её, обрадовался, подбежал к ней и начал рассказывать, какую он вчера интересную книгу читал"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Georgia"/>
                <a:ea typeface="Times New Roman"/>
              </a:rPr>
              <a:t>     </a:t>
            </a:r>
            <a:r>
              <a:rPr b="0" lang="ru-RU" sz="3600" spc="-1" strike="noStrike">
                <a:solidFill>
                  <a:srgbClr val="ffcc00"/>
                </a:solidFill>
                <a:latin typeface="Georgia"/>
              </a:rPr>
              <a:t>  </a:t>
            </a: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В чем ошибка Кости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WordArt 6" descr="Частый вертикальный"/>
          <p:cNvPicPr/>
          <p:nvPr/>
        </p:nvPicPr>
        <p:blipFill>
          <a:blip r:embed="rId1"/>
          <a:stretch/>
        </p:blipFill>
        <p:spPr>
          <a:xfrm>
            <a:off x="828720" y="262080"/>
            <a:ext cx="7473960" cy="1365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214200" y="3143160"/>
            <a:ext cx="2192400" cy="264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лова благодарности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5985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Georgia"/>
              </a:rPr>
              <a:t>Спасибо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Georgia"/>
              </a:rPr>
              <a:t>Благодарю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Georgia"/>
              </a:rPr>
              <a:t>Большое спасибо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07:17:12Z</dcterms:created>
  <dc:creator>C3</dc:creator>
  <dc:description/>
  <dc:language>en-US</dc:language>
  <cp:lastModifiedBy>Игорь Дружков</cp:lastModifiedBy>
  <dcterms:modified xsi:type="dcterms:W3CDTF">2018-02-05T17:44:13Z</dcterms:modified>
  <cp:revision>133</cp:revision>
  <dc:subject/>
  <dc:title>ВОЛШЕБНЫЕ СЛОВА</dc:title>
</cp:coreProperties>
</file>