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664-C7A2-4280-AB65-EB896E53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ED2-B19C-44B9-ACF5-0741BD7E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C05-C550-4D27-8594-B4F20A8B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D93-9419-4EDD-B781-C3DA7AF2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B04F9-2707-4EE7-9473-D02E48A9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85620-873E-4600-A200-501F8223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01176-8F97-407F-92D0-ADC667C8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D98C5-F94B-4D57-8441-24DB310F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CE675-AE95-4B0B-B3C2-2D75A5B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244FD-3010-457E-B0BE-CFECE15F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E2F80-F5FC-4A51-B9C5-D8E88E81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F3E-857B-4947-ADEE-53AAD2E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CAAA1-DCBA-47B0-94F4-41C21435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A3AE2-9762-40E9-84B3-5AB2B11B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18EAB-8FF6-4695-8F55-997036E9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E1615-1D6D-4122-8050-660E04D1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11FCA-25A9-4462-81BA-11E9855C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D594A-653B-4E40-9A70-ECF9B8F4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EC7E-1A8D-49C6-9173-9C9A6937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F18D-79DF-4BDC-89D7-76AB5CFB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F424-5BE3-49D2-8B18-F0247212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2083-14D7-4088-9D44-B6E3986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0D3-6154-4C46-88A1-1597B50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C838-BB7B-4420-B033-E5E80805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3A8F-C065-476E-9096-356FC21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AD77-DD45-4FDF-91B1-989021FF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C6CA-B9AF-4994-B1E8-B3E37B3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B1398-F706-44FA-8A28-3884E85C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6EAC-E397-4B35-BE2D-415C6B41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E9CE-B765-4F03-A445-3172DF85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846CD-A3B6-4BEC-B9AC-02CC5276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A1AA8-0CD9-489C-A050-375EAABC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83F74-CD00-48DA-8012-83F385B0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A50-AC06-4325-B011-FA7583AE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4DD36-3A57-4D07-BEF2-40034153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3C5DA0-8B1B-4943-8208-B5C1E34B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D06906-16C1-4850-A72A-A864528D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E1A33-183F-44AB-8E09-F53BE47D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19E88-9B5D-4C67-9CF1-A6829D63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7B4A7-0AB2-4FCF-BF3F-FCC28EC0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6B1B5-C9C7-4CCA-91F0-4B7A4E12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FDA9A-379B-40D5-B65C-8CDD3793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CB033-8DD4-482B-AD8A-347A2F37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365-E19D-4F1B-9F24-64D29A66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368-458F-429B-8439-3C9BD280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345-3F9D-4CD5-8122-97DF40D9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8BF-6B99-4C9C-8EA4-C5D1C5A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35D-DB2F-4B87-8A65-8CAEC0E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7471-F116-4138-88D2-5D62C8E431A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8E3B-2E3E-4B63-9B2B-FD8F7BBC4E0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41C8-1945-48ED-A906-B226EB0996B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A48D-CD0F-46B7-8F21-DF753CE1E1F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682560" y="1560600"/>
            <a:ext cx="8321760" cy="199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1" name="Picture 2" descr="C:\Documents and Settings\Admin\Рабочий стол\Презентация!\Тайга.jpg"/>
          <p:cNvPicPr/>
          <p:nvPr/>
        </p:nvPicPr>
        <p:blipFill>
          <a:blip r:embed="rId1"/>
          <a:stretch/>
        </p:blipFill>
        <p:spPr>
          <a:xfrm>
            <a:off x="642960" y="142920"/>
            <a:ext cx="8001000" cy="599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Южная тайга в Европейской части России сменяется смешанными лесами. Зона смешанных и широколиственных лесов имеет вид треугольника, основанием лежащего у западных границ страны, вершиной же упирающегося в Уральские горы. Климат умеренно тёплый, довольно влажный; продолжительное, тёплое лето, мягкая зима (в европейской части зоны). Основные древесные породы смешанных лесов — ель европейская, берёза и сосна обыкновенная, широколиственных — липа и дуб; произрастают также осина, ясень, вяз, клён и граб. Богата и своеобразна фауна дальневосточных смешанных лесов — здесь обитают амурский тигр, пятнистый олень, енотовидная собака, маньчжурский заяц, дальневосточный лесной кот, фазан, утка-мандаринка и др.; очень разнообразны насекомы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6" name="Picture 2" descr="C:\Documents and Settings\Admin\Рабочий стол\Презентация!\Лес.jpg"/>
          <p:cNvPicPr/>
          <p:nvPr/>
        </p:nvPicPr>
        <p:blipFill>
          <a:blip r:embed="rId1"/>
          <a:stretch/>
        </p:blipFill>
        <p:spPr>
          <a:xfrm>
            <a:off x="1785960" y="500040"/>
            <a:ext cx="5238720" cy="57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523880"/>
            <a:ext cx="832968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Зона лесостепи является, как и следует из названия, переходной между лесной зоной и степью; тянется почти непрерывной полосой через Восточно-Европейскую равнину, юг Урала и Западную Сибирь до Алтая. Леса с преобладанием дуба и липы (а также клёна и вяза в Заволжье) в Европейской части страны и с преобладанием берёзы и осины в Азиатской части (в Западной Сибири называемые колками) чередуются со степными участками, всё более расширяющимися к югу, где лесостепь постепенно переходит в степ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Admin\Рабочий стол\Презентация!\Лесостапь1.jpg"/>
          <p:cNvPicPr/>
          <p:nvPr/>
        </p:nvPicPr>
        <p:blipFill>
          <a:blip r:embed="rId2"/>
          <a:stretch/>
        </p:blipFill>
        <p:spPr>
          <a:xfrm>
            <a:off x="2500200" y="4071960"/>
            <a:ext cx="3714840" cy="265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тяжённость степи с севера на юг в Европейской России — около 200 км. Широкая полоса степи простирается от южной Украины по южной части Восточно-Европейской равнины и северу Казахстана к Алтайским горам. Лесная растительность присутствует, главным образом, в речных долинах и низин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3" name="Picture 2" descr="C:\Documents and Settings\Admin\Рабочий стол\степь.jpg"/>
          <p:cNvPicPr/>
          <p:nvPr/>
        </p:nvPicPr>
        <p:blipFill>
          <a:blip r:embed="rId1"/>
          <a:stretch/>
        </p:blipFill>
        <p:spPr>
          <a:xfrm>
            <a:off x="500040" y="21420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ти природные зоны занимают небольшую часть территории России и находятся в пределах Прикаспийской низменности. Увлажнение крайне недостаточное. В зоне пустынь часты суховеи и пыльные бури. Они образуют холмы, которые местные жители называют барханы. Растения в этой зоне выносливы. Это полынь, верблюжья колючка и другие. Здесь также растет саксаул. Здесь живут тушканчик, корсак, пеликан; разнообразны змеи и ящериц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8" name="Picture 2" descr="C:\Documents and Settings\Admin\Рабочий стол\Презентация!\Пустыня.jpg"/>
          <p:cNvPicPr/>
          <p:nvPr/>
        </p:nvPicPr>
        <p:blipFill>
          <a:blip r:embed="rId1"/>
          <a:stretch/>
        </p:blipFill>
        <p:spPr>
          <a:xfrm>
            <a:off x="428760" y="571680"/>
            <a:ext cx="8354880" cy="55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лиматические условия, почвы, растительность и животный мир находятся в тесной взаимосвязи. В пределах России выделяют несколько природных зон — зоны арктических пустынь, тундры, лесотундры, тайги, смешанных и широколиственных лесов, лесостепи, степи, полупустынь и пустын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523880"/>
            <a:ext cx="790092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пределах зоны арктических пустынь расположены Земля Франца-Иосифа, Новосибирские острова, остров Врангеля, большие части Новой Земли и Северной Земли, а также ряд мелких островов Арктики. Арктические пустыни представляют собой бесплодные земли, скованные вечной мерзлотой и покрытые крупными ледниками (общая площадь покровного оледенения — более 55 тыс. км²). Почвы очень бедны гумусом. Растительность почти отсутствует и представлена преимущественно лишайниками. Животный мир также крайне беден — там живут белые медведи, белухи, нарвалы, моржи, и тюлени. Летом на скалах — птичьи базары. Их создают чистики, кайры, гагар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Admin\Рабочий стол\Презентация!\Арктическая пустыня.jpg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5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Зона тундры охватывает около 10 % территории России и находится в пределах арктического и субарктического климатических поясов; простирается от границы с Финляндией на западе до Берингова пролива на востоке. Зона занимает неширокую прибрежную полосу на крайнем севере Европейской части России и достигает максимальной ширины 500 км в Сибири. Тундра практически безлесна; вечная мерзлота залегает близко к поверхности и задерживает влагу, образующуюся при оттаивании верхнего слоя почвы. Типичными обитателями тундры являются песец, овцебык, лемминг, белая сова, куропатка, гага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Documents and Settings\Admin\Рабочий стол\Презентация!\Писец(Арктика).jpg"/>
          <p:cNvPicPr/>
          <p:nvPr/>
        </p:nvPicPr>
        <p:blipFill>
          <a:blip r:embed="rId2"/>
          <a:stretch/>
        </p:blipFill>
        <p:spPr>
          <a:xfrm>
            <a:off x="3071880" y="4214880"/>
            <a:ext cx="285732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Admin\Рабочий стол\Презентация!\Тундра.jpg"/>
          <p:cNvPicPr/>
          <p:nvPr/>
        </p:nvPicPr>
        <p:blipFill>
          <a:blip r:embed="rId1"/>
          <a:stretch/>
        </p:blipFill>
        <p:spPr>
          <a:xfrm>
            <a:off x="826920" y="765000"/>
            <a:ext cx="7471080" cy="559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она лесотундры протянулась узкой полосой (20—200 км) вдоль южной границы тундры от Кольского полуострова до Колымы. Находится в пределах субарктического климатического пояса. От тундры отличается, прежде всего, характером растительности — в лесотундре произрастают низкорослая берёза, лиственница и ель. Значительные площади занимают торфяные болота. На юге лесотундра постепенно переходит в таёжный ле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5" name="Picture 2" descr="C:\Documents and Settings\Admin\Рабочий стол\Презентация!\Лесотундраt.jpg"/>
          <p:cNvPicPr/>
          <p:nvPr/>
        </p:nvPicPr>
        <p:blipFill>
          <a:blip r:embed="rId1"/>
          <a:stretch/>
        </p:blipFill>
        <p:spPr>
          <a:xfrm>
            <a:off x="0" y="214200"/>
            <a:ext cx="8815320" cy="587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284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айга — наиболее обширная природная зона России — протянулась от западных границ России до Тихого океана. Всего на тайгу приходится свыше 60 % площади России. В пределах тайги широко распространены пушные звери — соболь, белка, куница, горностай; обитают лось, бурый медведь, росомаха, волк, ондатр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Заголовок 2" descr=""/>
          <p:cNvPicPr/>
          <p:nvPr/>
        </p:nvPicPr>
        <p:blipFill>
          <a:blip r:embed="rId1"/>
          <a:stretch/>
        </p:blipFill>
        <p:spPr>
          <a:xfrm>
            <a:off x="29196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Admin\Рабочий стол\Презентация!\Лось(Тайга).jpg"/>
          <p:cNvPicPr/>
          <p:nvPr/>
        </p:nvPicPr>
        <p:blipFill>
          <a:blip r:embed="rId2"/>
          <a:stretch/>
        </p:blipFill>
        <p:spPr>
          <a:xfrm>
            <a:off x="4643280" y="4000680"/>
            <a:ext cx="3929400" cy="262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5:07:54Z</dcterms:created>
  <dc:creator>Admin</dc:creator>
  <dc:description/>
  <dc:language>en-US</dc:language>
  <cp:lastModifiedBy>Пользователь</cp:lastModifiedBy>
  <dcterms:modified xsi:type="dcterms:W3CDTF">2012-03-29T01:55:45Z</dcterms:modified>
  <cp:revision>5</cp:revision>
  <dc:subject/>
  <dc:title>Природные зоны России</dc:title>
</cp:coreProperties>
</file>