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94A0-5326-4E41-B0CC-7E7AF4DE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D06-70B3-48A1-956B-E22D31EA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B313-3B9D-4B76-943A-75919F87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45A-BA11-4D40-9303-DB78C018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48783-8796-4773-8B3E-BB4AD757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3AC9B-19D0-4574-AED6-D691B45F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6724B-BDFF-47FC-814F-35B6A57D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AAA0D-E71C-4E92-AEE2-BE37068F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C7D93-45AF-496B-BE47-53C43A6B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8CED9-3892-4E54-80C3-C0EA995A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F6AB3-1020-4614-AAC1-606686DE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886-8754-4F84-964B-EDCDEF79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7AA7F-5C9B-4D69-ABDE-B2273B1C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6CA26-D5DB-4A71-99AF-A7F04A9C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9F2A1-AABE-4C7B-AF06-8D0D3E7A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4BBD7-0013-406C-AEC9-4B5B7F7E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E22DE-AB5A-44CE-8EBC-73943664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43CE-60A0-4D90-A31A-C37F1E64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ADD-3A24-46CD-9F1E-D6221438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09D-C641-466B-B14A-7DF05835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868F-4440-40B6-8A0A-B0FFCA5F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FC5-75C0-47EB-81F2-9C6411C0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13C-5E6F-4C92-84F1-63BD5184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2C9-8E23-49EE-B727-9218C1E3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91DD-6F85-41CE-A41A-148BE11B63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A89F-A5B4-4CB3-AE29-A90C547BD4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064720" cy="86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ект: «Русский валенок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179280" y="189000"/>
            <a:ext cx="8640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5" descr="C:\Documents and Settings\Admin\Рабочий стол\Валенки\67767e3c08b6.jpg"/>
          <p:cNvPicPr/>
          <p:nvPr/>
        </p:nvPicPr>
        <p:blipFill>
          <a:blip r:embed="rId1"/>
          <a:stretch/>
        </p:blipFill>
        <p:spPr>
          <a:xfrm>
            <a:off x="179280" y="1341360"/>
            <a:ext cx="1998720" cy="2665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Admin\Рабочий стол\Валенки\1213513.jpg"/>
          <p:cNvPicPr/>
          <p:nvPr/>
        </p:nvPicPr>
        <p:blipFill>
          <a:blip r:embed="rId2"/>
          <a:stretch/>
        </p:blipFill>
        <p:spPr>
          <a:xfrm>
            <a:off x="5003640" y="1341360"/>
            <a:ext cx="3924360" cy="33768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5"/>
          <p:cNvSpPr/>
          <p:nvPr/>
        </p:nvSpPr>
        <p:spPr>
          <a:xfrm flipV="1" rot="10800000">
            <a:off x="1474560" y="4796640"/>
            <a:ext cx="50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готовительная группа «Капель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46"/>
          <p:cNvSpPr/>
          <p:nvPr/>
        </p:nvSpPr>
        <p:spPr>
          <a:xfrm flipV="1" rot="10800000">
            <a:off x="1330200" y="5300640"/>
            <a:ext cx="553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уководитель: Решетнева Ирина Николае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47"/>
          <p:cNvSpPr/>
          <p:nvPr/>
        </p:nvSpPr>
        <p:spPr>
          <a:xfrm flipV="1" rot="10800000">
            <a:off x="2284560" y="5805000"/>
            <a:ext cx="45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уваевский детский са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015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2847960" cy="4547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3332160" y="620640"/>
            <a:ext cx="5678640" cy="40845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https://img1.picmix.com/output/stamp/thumb/0/2/7/2/452720_d0b55.gif"/>
          <p:cNvPicPr/>
          <p:nvPr/>
        </p:nvPicPr>
        <p:blipFill>
          <a:blip r:embed="rId1"/>
          <a:stretch/>
        </p:blipFill>
        <p:spPr>
          <a:xfrm rot="18588000">
            <a:off x="-425160" y="1053720"/>
            <a:ext cx="4195440" cy="1681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https://img1.picmix.com/output/stamp/thumb/0/2/7/2/452720_d0b55.gif"/>
          <p:cNvPicPr/>
          <p:nvPr/>
        </p:nvPicPr>
        <p:blipFill>
          <a:blip r:embed="rId2"/>
          <a:stretch/>
        </p:blipFill>
        <p:spPr>
          <a:xfrm rot="18923400">
            <a:off x="4998960" y="4384800"/>
            <a:ext cx="4276800" cy="135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http://getonholiday.com/wp-content/uploads/2013/08/spasibo-213.gif"/>
          <p:cNvPicPr/>
          <p:nvPr/>
        </p:nvPicPr>
        <p:blipFill>
          <a:blip r:embed="rId3"/>
          <a:stretch/>
        </p:blipFill>
        <p:spPr>
          <a:xfrm rot="19170000">
            <a:off x="345960" y="2047680"/>
            <a:ext cx="8669520" cy="31622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24364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1.Проект   «Русский валенок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539640" y="1989000"/>
            <a:ext cx="82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ид проекта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ворческий, группово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зраст детей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-7 лет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роки реализации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две неде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30" descr=""/>
          <p:cNvPicPr/>
          <p:nvPr/>
        </p:nvPicPr>
        <p:blipFill>
          <a:blip r:embed="rId1"/>
          <a:stretch/>
        </p:blipFill>
        <p:spPr>
          <a:xfrm>
            <a:off x="5003640" y="3068640"/>
            <a:ext cx="3961080" cy="3567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Admin\Рабочий стол\Валенки\getimages.jpeg"/>
          <p:cNvPicPr/>
          <p:nvPr/>
        </p:nvPicPr>
        <p:blipFill>
          <a:blip r:embed="rId2"/>
          <a:stretch/>
        </p:blipFill>
        <p:spPr>
          <a:xfrm>
            <a:off x="684360" y="3933720"/>
            <a:ext cx="2876400" cy="25052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wheel spokes="1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4"/>
          <p:cNvSpPr/>
          <p:nvPr/>
        </p:nvSpPr>
        <p:spPr>
          <a:xfrm>
            <a:off x="395280" y="47628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.Цель проекта: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вершенствуя эффективность форм, методов и средств в духовно-нравственном воспитании детей скоординировать сотрудничество педагогов, специалистов, родителей через развивающие технологии, программы по обеспечению комплексного воспитания  и развития ребенка, приобщения его к ценностям семейных и национальных традиций русского народа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52" descr=""/>
          <p:cNvPicPr/>
          <p:nvPr/>
        </p:nvPicPr>
        <p:blipFill>
          <a:blip r:embed="rId1"/>
          <a:stretch/>
        </p:blipFill>
        <p:spPr>
          <a:xfrm>
            <a:off x="5292720" y="2276640"/>
            <a:ext cx="3530520" cy="458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6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4398840" cy="45846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392720" y="404280"/>
            <a:ext cx="47512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.Задачи исследования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ктивизировать мотивацию педагогов детского сада по повышению  эффективности работы по воспитанию детей в духе народных традиц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ктивизировать мотивацию родителей, дети которых посещают детский сад, в поддержке детского сада в этом направлении через педагогическое просвещение и сотрудничество, формирование  семейных и национальных традиций на различных этапах жизни  ребенка (семья, детский сад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еспечить преемственность: семья - детский с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рмировать позитивный опыт  взаимодействия ребенка с окружающим мир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звивать у детей творческие познавательные способности в процессе разрешения моделирующих проблемных ситуац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24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176720" cy="3166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2"/>
          <a:stretch/>
        </p:blipFill>
        <p:spPr>
          <a:xfrm>
            <a:off x="179280" y="3716280"/>
            <a:ext cx="4176720" cy="29592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wheel spokes="1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4.Метод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ссматривание разных видов валенок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есе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тение художественной литературы: Михаил Пришвин «Дедушкин валенок», Сергей Гришунин «Дедушкины валенки»,Владимир Новиков .Сказка «Теплые валенки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ссматривание иллюстраций, фотографий разных видов валенок, обсуждение и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учивание песен, стих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смотр мультфильмов про вален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слушивание аудио записи русской народной песни «Валенк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идактические , подвижные игр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шение проблемной задачи: «Как можно использовать валенки не по назначен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566280"/>
            <a:ext cx="82296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5.Подведение итогов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нализ проведенной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боты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соотнесение результата с поставленными цел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дготовка выставки творческих работ родителей и детей «Чудо валенок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ведение праздника русского вален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бор отзывов о детских и родительских впечатлен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общение собранного текстового, аудио, видео, фотоматериа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ставки творческих работ родителей и детей «Чудо валенок»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DSC_0005 (2)"/>
          <p:cNvPicPr/>
          <p:nvPr/>
        </p:nvPicPr>
        <p:blipFill>
          <a:blip r:embed="rId1"/>
          <a:stretch/>
        </p:blipFill>
        <p:spPr>
          <a:xfrm>
            <a:off x="755640" y="1557360"/>
            <a:ext cx="7483320" cy="4896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4"/>
          <p:cNvSpPr/>
          <p:nvPr/>
        </p:nvSpPr>
        <p:spPr>
          <a:xfrm>
            <a:off x="250920" y="404640"/>
            <a:ext cx="604980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47" descr=""/>
          <p:cNvPicPr/>
          <p:nvPr/>
        </p:nvPicPr>
        <p:blipFill>
          <a:blip r:embed="rId1"/>
          <a:stretch/>
        </p:blipFill>
        <p:spPr>
          <a:xfrm>
            <a:off x="270000" y="2421000"/>
            <a:ext cx="8640720" cy="37893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"/>
          <p:cNvSpPr/>
          <p:nvPr/>
        </p:nvSpPr>
        <p:spPr>
          <a:xfrm>
            <a:off x="1042920" y="692280"/>
            <a:ext cx="720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«Украсим валеночек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аздник русского валенка в подготовительной групп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1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8480" cy="3865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4392720" cy="38005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09:29:05Z</dcterms:created>
  <dc:creator>UserXP</dc:creator>
  <dc:description/>
  <dc:language>en-US</dc:language>
  <cp:lastModifiedBy>777</cp:lastModifiedBy>
  <dcterms:modified xsi:type="dcterms:W3CDTF">2018-02-05T13:50:16Z</dcterms:modified>
  <cp:revision>22</cp:revision>
  <dc:subject/>
  <dc:title>Предметно – развивающая среда  как условие комфортного пребывания детей в ДОУ </dc:title>
</cp:coreProperties>
</file>