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.gif" ContentType="image/gif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6CC-8893-4DB2-9DA3-D89B178B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613-ECF5-4E0E-99B6-F1DCE3A2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910-84E4-436C-9FEF-10B28EB3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51A-AAF6-4DF5-A7ED-1855EB62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0A24-EDCA-4EF4-805D-82DED0A0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AF25-9381-4E90-A806-3A13BC79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FED6-399C-4C59-8249-D1DDB6D7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4E48-4F61-41D1-90AE-55CE26C3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2133-4E69-40A0-A711-9A96EF5E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3760-8145-4BCC-8FB0-1DFE69B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86B2-8742-448E-8A37-98C59934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4ED-D827-4E06-A8DD-0945F367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180A-47C1-491C-A02A-757DF588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631F-D76A-4BAF-906C-972636E7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5C07-9B9B-4460-B88B-8287549C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98F8-C0A1-494A-B715-CD64C13B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5F5D-B6FD-472A-8EB2-808CAC86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440-D7F8-4E51-97A3-B0A3270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022-A062-4E79-9DBD-D8521B44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1FE-E6C5-4F21-B822-DB3CDC9D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4B0-FFF9-4E2F-AA9E-D95FAD6B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235-7A43-4F26-9CC0-52643D2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050-3DFA-46C3-853A-A5CDDA91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1D5-8F87-44F3-AFE2-98D2F30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117-B8FE-47BC-AC1A-0A1F4173D0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0DCD-62A8-49B9-952C-1E1A28E599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326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Тема «Правка, разметка и резание тонколистового металл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24000" y="765000"/>
            <a:ext cx="8439120" cy="2876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Тема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232200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232200"/>
                </a:solidFill>
                <a:latin typeface="Times New Roman"/>
              </a:rPr>
              <a:t>Зачем править металл</a:t>
            </a:r>
            <a:r>
              <a:rPr b="0" i="1" lang="ru-RU" sz="4400" spc="-1" strike="noStrike">
                <a:solidFill>
                  <a:srgbClr val="232200"/>
                </a:solidFill>
                <a:latin typeface="Arial"/>
              </a:rPr>
              <a:t> ?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6" descr="work15"/>
          <p:cNvPicPr/>
          <p:nvPr/>
        </p:nvPicPr>
        <p:blipFill>
          <a:blip r:embed="rId1"/>
          <a:stretch/>
        </p:blipFill>
        <p:spPr>
          <a:xfrm>
            <a:off x="468360" y="508464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476280"/>
            <a:ext cx="8518320" cy="1200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 исследования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838080" y="1557360"/>
            <a:ext cx="80074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снить нужна ли правка металла при изготовлении издел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и инструментами будем работат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6" descr="j0252349"/>
          <p:cNvPicPr/>
          <p:nvPr/>
        </p:nvPicPr>
        <p:blipFill>
          <a:blip r:embed="rId1"/>
          <a:stretch/>
        </p:blipFill>
        <p:spPr>
          <a:xfrm>
            <a:off x="4427640" y="3789360"/>
            <a:ext cx="3457440" cy="1727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work15"/>
          <p:cNvPicPr/>
          <p:nvPr/>
        </p:nvPicPr>
        <p:blipFill>
          <a:blip r:embed="rId2"/>
          <a:stretch/>
        </p:blipFill>
        <p:spPr>
          <a:xfrm flipH="1" rot="3942600">
            <a:off x="1476360" y="501300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83808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 изготовить изделие нужен металл.  А у нас отходы ( кривые, выпуклые, согнутые). Разметка получается неровная 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ерём мы в руки инструмент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стучим, стучим, стучим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5" descr="money1"/>
          <p:cNvPicPr/>
          <p:nvPr/>
        </p:nvPicPr>
        <p:blipFill>
          <a:blip r:embed="rId1"/>
          <a:stretch/>
        </p:blipFill>
        <p:spPr>
          <a:xfrm>
            <a:off x="4067280" y="5445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38080" y="333360"/>
            <a:ext cx="800748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стучали  лист из жести деревянным молотком ( киянкой),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о выпуклость убегает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ли выход : нельзя  стучать по самой выпуклости. Атакуем со всех сторон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6019920" y="2895480"/>
            <a:ext cx="1876320" cy="1605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6629400" y="5398920"/>
            <a:ext cx="1728720" cy="1459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work15"/>
          <p:cNvPicPr/>
          <p:nvPr/>
        </p:nvPicPr>
        <p:blipFill>
          <a:blip r:embed="rId4"/>
          <a:stretch/>
        </p:blipFill>
        <p:spPr>
          <a:xfrm flipH="1" rot="3942600">
            <a:off x="1218600" y="297144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work15"/>
          <p:cNvPicPr/>
          <p:nvPr/>
        </p:nvPicPr>
        <p:blipFill>
          <a:blip r:embed="rId5"/>
          <a:stretch/>
        </p:blipFill>
        <p:spPr>
          <a:xfrm rot="17657400">
            <a:off x="6588000" y="177300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838080" y="907920"/>
            <a:ext cx="80074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стовой металл толщиной до 0,2 мм тоже  попробовали постучать киянкой , но увы сделали отверстие. Упростили работу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зяли деревянный брусок и погладили  металл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овности исчезли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3352680" y="4495680"/>
            <a:ext cx="22748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тить заготовку из металла будет легк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ь ровная и гладкая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62312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 Black"/>
              </a:rPr>
              <a:t>ВЫВОД 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68360" y="1905120"/>
            <a:ext cx="8377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вели исследование и увидели , что перед разметко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зготовлением  изделия  из металла необходимо его  выправить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Правка  - слесарная операция  по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выравниванию заготовок.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адо зна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4" descr="Рис 63 стр 72"/>
          <p:cNvPicPr/>
          <p:nvPr/>
        </p:nvPicPr>
        <p:blipFill>
          <a:blip r:embed="rId1"/>
          <a:stretch/>
        </p:blipFill>
        <p:spPr>
          <a:xfrm>
            <a:off x="685800" y="2438280"/>
            <a:ext cx="3757680" cy="151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Рис 64 стр 73"/>
          <p:cNvPicPr/>
          <p:nvPr/>
        </p:nvPicPr>
        <p:blipFill>
          <a:blip r:embed="rId2"/>
          <a:stretch/>
        </p:blipFill>
        <p:spPr>
          <a:xfrm>
            <a:off x="4952880" y="1828800"/>
            <a:ext cx="35020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нструменты для разметки по металлу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ffff00"/>
                </a:solidFill>
                <a:latin typeface="Verdana"/>
              </a:rPr>
              <a:t>Водить чертилкой по одному и тому же месту более одного раза не следует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4" descr="Рис 65 стр 75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33520" y="1219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66"/>
                </a:solidFill>
                <a:latin typeface="Tahoma"/>
              </a:rPr>
              <a:t> </a:t>
            </a:r>
            <a:br>
              <a:rPr sz="6600"/>
            </a:br>
            <a:br>
              <a:rPr sz="6600"/>
            </a:br>
            <a:r>
              <a:rPr b="1" lang="ru-RU" sz="4400" spc="-1" strike="noStrike">
                <a:solidFill>
                  <a:srgbClr val="993366"/>
                </a:solidFill>
                <a:latin typeface="Tahoma"/>
              </a:rPr>
              <a:t>Обработка тонколистового металла резание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5" descr="j0186002"/>
          <p:cNvPicPr/>
          <p:nvPr/>
        </p:nvPicPr>
        <p:blipFill>
          <a:blip r:embed="rId1"/>
          <a:stretch/>
        </p:blipFill>
        <p:spPr>
          <a:xfrm>
            <a:off x="611280" y="3141720"/>
            <a:ext cx="2376360" cy="319248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6"/>
          <p:cNvGrpSpPr/>
          <p:nvPr/>
        </p:nvGrpSpPr>
        <p:grpSpPr>
          <a:xfrm>
            <a:off x="4572000" y="2924280"/>
            <a:ext cx="4257720" cy="3628440"/>
            <a:chOff x="4572000" y="2924280"/>
            <a:chExt cx="4257720" cy="3628440"/>
          </a:xfrm>
        </p:grpSpPr>
        <p:sp>
          <p:nvSpPr>
            <p:cNvPr id="229" name="Gear"/>
            <p:cNvSpPr/>
            <p:nvPr/>
          </p:nvSpPr>
          <p:spPr>
            <a:xfrm>
              <a:off x="6932520" y="2924280"/>
              <a:ext cx="1897200" cy="166356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560"/>
                <a:gd name="textAreaBottom" fmla="*/ 1359000 h 16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>
              <a:off x="4572000" y="3609720"/>
              <a:ext cx="2268360" cy="198900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000"/>
                <a:gd name="textAreaBottom" fmla="*/ 1623960 h 19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6043320" y="4343400"/>
              <a:ext cx="2521080" cy="220932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320"/>
                <a:gd name="textAreaBottom" fmla="*/ 1803240 h 22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Вопросы по пройденному материалу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Дать определение металл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2.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3" action="ppaction://hlinksldjump"/>
              </a:rPr>
              <a:t>Назвать группы сплавов и привести 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акие 2 группы делится тонколистовой металл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Где применяется фольг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Что вы знаете о проволок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33520" y="6248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Это можно сделать самим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rcRect l="1025" t="0" r="0" b="0"/>
          <a:stretch/>
        </p:blipFill>
        <p:spPr>
          <a:xfrm>
            <a:off x="468360" y="1268280"/>
            <a:ext cx="8424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сновные приёмы резания</a:t>
            </a: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341360"/>
            <a:ext cx="82296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1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Инструменты 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000" spc="-1" strike="noStrike">
                <a:solidFill>
                  <a:srgbClr val="ff6600"/>
                </a:solidFill>
                <a:latin typeface="Tahoma"/>
              </a:rPr>
              <a:t>Слесарные ножниц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прям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крив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для резания  прямых линий                       ( для  вырезания  в заготовках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кривых линий небольшой                          фасонных  отверстий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ивизны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195280" y="2708280"/>
            <a:ext cx="647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292720" y="2781360"/>
            <a:ext cx="5745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rcRect l="0" t="13947" r="2142" b="0"/>
          <a:stretch/>
        </p:blipFill>
        <p:spPr>
          <a:xfrm>
            <a:off x="324000" y="5157720"/>
            <a:ext cx="3635280" cy="1339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2"/>
          <a:srcRect l="0" t="0" r="8362" b="0"/>
          <a:stretch/>
        </p:blipFill>
        <p:spPr>
          <a:xfrm>
            <a:off x="4500720" y="5157720"/>
            <a:ext cx="41050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092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ahoma"/>
              </a:rPr>
              <a:t>Резание ножницами можно выполнять 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Непосредственно на столе верстака в ручную</a:t>
            </a: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1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В тиска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81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В приспособлении для 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105440" cy="1441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rcRect l="0" t="10858" r="0" b="0"/>
          <a:stretch/>
        </p:blipFill>
        <p:spPr>
          <a:xfrm>
            <a:off x="3564000" y="3141720"/>
            <a:ext cx="3889440" cy="144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tretch/>
        </p:blipFill>
        <p:spPr>
          <a:xfrm>
            <a:off x="3924360" y="5224320"/>
            <a:ext cx="52196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Интересно знать !</a:t>
            </a: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01680" y="1052640"/>
            <a:ext cx="8540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8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На заводах  для  разрезания листового металла применяют  механические ножницы. Они бывают  </a:t>
            </a:r>
            <a:r>
              <a:rPr b="1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гильотинные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  и </a:t>
            </a:r>
            <a:r>
              <a:rPr b="1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дисковые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Резку на  предприятиях  выполняют резчики  металла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64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Правила  техники  безопасности</a:t>
            </a: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8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Обязательно  надевать рукавицу на руку , удерживающую  заготовк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8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лесарные ножницы надежно закреплять в тиск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8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Не  держать левую руку близко к ножницам, чтобы пальцы не попали под лезв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8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одавать ножницы  товарищу нужно ручками от себя , а класть на стол – ручками к себ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Picture 6" descr="j0286034"/>
          <p:cNvPicPr/>
          <p:nvPr/>
        </p:nvPicPr>
        <p:blipFill>
          <a:blip r:embed="rId1"/>
          <a:stretch/>
        </p:blipFill>
        <p:spPr>
          <a:xfrm>
            <a:off x="6877080" y="5300640"/>
            <a:ext cx="1944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Выводы: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68360" y="83664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результате изучения  темы учащиеся  самостоятельно  могут  изготовить любое изделие из  тонколистового металла. Для  этого нужна   только их фантаз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Picture 8" descr=""/>
          <p:cNvPicPr/>
          <p:nvPr/>
        </p:nvPicPr>
        <p:blipFill>
          <a:blip r:embed="rId1"/>
          <a:srcRect l="43304" t="0" r="0" b="38887"/>
          <a:stretch/>
        </p:blipFill>
        <p:spPr>
          <a:xfrm>
            <a:off x="3672000" y="3213000"/>
            <a:ext cx="5472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"/>
          <p:cNvSpPr/>
          <p:nvPr/>
        </p:nvSpPr>
        <p:spPr>
          <a:xfrm>
            <a:off x="0" y="105012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верочная работа  по тем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« Способы  обработки  тонколистового металл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олните пропуск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вка  - это  слесарная  операция  по _______________________ заготов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стовой  металл  правят  деревянным  молотком -     ____________________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дары  наносят  с  ___________________ лис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стовой  металл до 0,2 мм толщиной  правят ________________________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онкую фольгу  распрямляют  _______________________             ________________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ставьте  пропущенные сло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 Осторожно  обходиться с заготовками, поскольку листовой металл  имеет  ________ кромк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язательно надевать _____________________ на руку, удерживающую  заготовку при её  _________________________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ботать только _________________________ молотком и киянко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ержать руку, которая  удерживает  заготовку, по возможности дальше  от места  удара ____________________  или  ____________________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 ______________________ за спиной товарища, когда он  _________________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360720" y="380880"/>
            <a:ext cx="281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.  Рассмотрите  рисунок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5143320" cy="1847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0"/>
          <p:cNvSpPr/>
          <p:nvPr/>
        </p:nvSpPr>
        <p:spPr>
          <a:xfrm>
            <a:off x="0" y="3216600"/>
            <a:ext cx="9144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пишите названия  инструментов, используемых  для  разметк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)__________________________  г) ________________________________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) __________________________ д ) ________________________________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) ____________________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ставьте пропущенные слов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). Не ____________________________ чертилку и  разметочный__________________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____________________________ халата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).  Чтобы  не поранить руки, подавать _____________  товарищу  надо  ручкой  __________________,  а класть на рабочее место -  _____________________________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07360" y="212760"/>
            <a:ext cx="310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рисунок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200400" cy="1714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380880" y="2591640"/>
            <a:ext cx="8401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зависимости от формы   лезвия  слесарные ножницы бывают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) ________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)_________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ставьте  пропущенные слова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).  Обязательно надевайте _______________________ на руку, удерживающую  заготовк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) Не держать левую руку близко  к _____________ , чтобы  пальцы  не попали  под лезв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) Подавать  ножницы  товарищу  нужно ручками ______________, а класть  на верстак -  _________________________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тгадайте загадку  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сё из этого металл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 труба и самокат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Даже  доменный  прока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тал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е вещество, обладающее блеском, ковкостью, теплопроводностью, электропроводностью и другими характерными свойств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685800" y="58672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руппы сплав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ные                  Цвет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сталь                1) лату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чугун                2) бронз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дюралюми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5335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нколистовой метал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ь             Кровельная ста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,2 до 0,5 мм; от 0,5 до 0,8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ная                    чер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ая                     оцинкова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крыта слоем     (покрыта сло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лова)                  цинк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9907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оль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тонкий листовой метал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ная фольга применяется в радиотехни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юминиевая – для упаковки шоколада, конфет, ча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6094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ол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медная (для изготовления электрических проводов и заклепок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алюминиевая (для изготовления заклепок и электрических проводов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стальная (гвозди, шурупы, пружины, струн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6094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урок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накомление учащихся с приемами правки, разметки и резания тонколистового металл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ние организованности и внимательност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План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рав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ru-RU" sz="3200" spc="-1" strike="noStrike">
                <a:solidFill>
                  <a:srgbClr val="33cccc"/>
                </a:solidFill>
                <a:latin typeface="Verdana"/>
              </a:rPr>
              <a:t>2. Разме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                                     </a:t>
            </a:r>
            <a:r>
              <a:rPr b="0" lang="ru-RU" sz="3200" spc="-1" strike="noStrike">
                <a:solidFill>
                  <a:srgbClr val="ff66ff"/>
                </a:solidFill>
                <a:latin typeface="Verdana"/>
              </a:rPr>
              <a:t>3. Рез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4T15:10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