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29.jpeg" ContentType="image/jpeg"/>
  <Override PartName="/ppt/media/image30.png" ContentType="image/png"/>
  <Override PartName="/ppt/media/image28.jpeg" ContentType="image/jpeg"/>
  <Override PartName="/ppt/media/image18.png" ContentType="image/png"/>
  <Override PartName="/ppt/media/image7.jpeg" ContentType="image/jpeg"/>
  <Override PartName="/ppt/media/image6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15.jpeg" ContentType="image/jpeg"/>
  <Override PartName="/ppt/media/image16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E55A-8497-4162-AEDB-F3156B2BC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6907-B4FD-4BC3-86EA-CF447ABC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29B0-28B9-4389-8AAB-019C59B46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D478-97B4-4DD9-9107-AFDDB5AA8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9D465-7ACA-4CEE-A6C0-FF5EFBD63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0596C-0E53-44D9-AB57-43EA2C1E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A1465-BD57-4523-9652-BDB89E7B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C9738-05D3-43FB-83EE-14A8D52E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D4D63-1FCE-44EF-BFF1-AB960E9B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BE960-15C3-46FF-8918-C6A537B8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7326CD-EE9F-498E-A7FC-E26045E1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8F07-CB9D-4EC3-9690-35CCB91E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7A931-35BB-41C9-93BF-1D88BB37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C6E738-9558-48B0-97E6-CCD87B9E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3D592-D74A-4FD7-A9BF-A38DCE32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B049BD-AD27-406A-973B-FBC359EAD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F07CC-C43C-40C8-A0C7-53D373D81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30F365-26C6-4EB0-A2A4-FDF5B3645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6AD7FF-6038-473E-98BF-E150017D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6A0A44-5F3A-4F1F-8057-B457EF9F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7A5368-E55A-4C3A-9687-ACAABE53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515820-CD70-4B53-AE91-BCECB6CA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C688-5CD2-41FF-BF2F-D2CDD743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52A5B8-27C6-4AD7-9E3D-9CBB1D31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665690-C2FE-4BAE-94DA-5837AF56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50C17C-554F-43EC-8B5B-95C2EB05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BA8C0E-0273-4E0A-92C2-BE0F6FB1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D38A20-266B-4AFE-B139-11B4A5A0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394306-41F3-45F4-9E96-0C4C1E32F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41DB8C-D80C-4AB4-A66E-C19C5F7CF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97D02D-DED8-4CB2-B099-9AC714478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152EE2-5A21-4E87-A39D-0E6E4253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EF693F-692A-4C76-8FF5-57D4D822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D71D-711A-4703-BFA0-A516F190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D68D6B-2481-4FB6-BEA9-92309B21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C32C29-544C-42A4-A33B-4AB10DB9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3337DD-59D4-4C7A-9C1B-B95C90EE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ABE16D-EA88-44CA-9630-10C25E7F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644BBB-4115-49C4-BD13-FF375BEB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887BE9-65B8-476F-BCE8-2F3EA056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859567-1619-4E46-82E5-A500A098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1EB4B4-BA06-4F0D-BE68-12EED1F48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52603B-3487-4FE6-87C4-2D1B1FC4E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D65567-3960-4455-8F2E-DE5F1C007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1CAA-6E2E-45D8-BF46-7C7A52D3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39E81D-3F99-4AD7-9E4B-FCA60031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124D7A-BE76-4917-9988-B05F2558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7FE4B2-6EC4-4637-96F5-B79805BC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B64DD2-B368-4D38-9DB6-0275043F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B1A31D-6CFE-4776-9D51-6B7B9A84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D5EE04-9EBD-494E-B572-2A0A1219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B6B261-5612-47CD-86F5-901EAF68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80A43A-2B83-4407-B092-E84E42D0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83850F-4620-4B92-BDE3-33F57ED0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D138AB-4A09-49C3-AC6D-BE1B559D1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B348-7E2A-40A0-AED1-013EC2C1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41337D-7BDA-4FA1-9E61-B3A42565A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236639-A998-4163-9B73-47B1640F1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640D88-DA27-4573-9F12-B34D99D9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E65CD9-9DE1-4DCF-A302-4F33672D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11AC75-F09B-45B0-AD6F-0C550914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9513F6-C864-49C2-B0A8-D246F727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7E843D-E5FF-4FCA-8F06-1A992DFB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25B0B9-4342-49F8-804A-6441A804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9DC94C-13D6-485F-B044-F5466B13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5145E8-374A-4C4B-83F0-5AD72E2F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AF4C-9B22-4F5D-89D9-8246C5D2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90AD2D-F74B-44D1-AFF9-61704A79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C1F092-411A-430B-ADBE-754D4117C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371E44-45D6-40ED-9CC6-3A534A67F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5B1D-4F7C-4717-91E9-1DA24045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FEAE-6155-4617-A21C-0C47B80D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803A-226A-4E48-B194-20EA5CFC54E6}" type="datetime">
              <a:rPr b="0" lang="ru-RU" sz="11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45D0-8EB0-40E4-AE15-F164B6F281FC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" name="TextBox 10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98F7-CF0F-4BDD-A943-399E7ECCFC20}" type="datetime">
              <a:rPr b="0" lang="ru-RU" sz="11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BCAB-0EBD-4425-8835-E5B60D906B40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TextBox 10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1DBE-0262-4CF5-A367-CE67D0A87A9E}" type="datetime">
              <a:rPr b="0" lang="ru-RU" sz="11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537E-BAF6-4CC7-BA86-A8B9A8B47F20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TextBox 10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4AF7-FE8D-4D71-AA2D-94F9FCFF3C61}" type="datetime">
              <a:rPr b="0" lang="ru-RU" sz="11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C038-144D-49E3-8084-E861E543C247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TextBox 10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B5D2-972C-4EF5-8E8D-CF9F5352F43E}" type="datetime">
              <a:rPr b="0" lang="ru-RU" sz="11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C70D-F991-44B8-9EAA-C6B3E4F6E70A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TextBox 10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3142-2941-4621-9169-179C9BD19AAA}" type="datetime">
              <a:rPr b="0" lang="ru-RU" sz="11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4F48-7954-41E4-AD26-95ACC2F28FD7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Номер слайда 1" descr=""/>
          <p:cNvPicPr/>
          <p:nvPr/>
        </p:nvPicPr>
        <p:blipFill>
          <a:blip r:embed="rId2"/>
          <a:stretch/>
        </p:blipFill>
        <p:spPr>
          <a:xfrm>
            <a:off x="792000" y="5827680"/>
            <a:ext cx="2163960" cy="433440"/>
          </a:xfrm>
          <a:prstGeom prst="rect">
            <a:avLst/>
          </a:prstGeom>
          <a:ln w="0">
            <a:noFill/>
          </a:ln>
        </p:spPr>
      </p:pic>
      <p:sp>
        <p:nvSpPr>
          <p:cNvPr id="313" name="Прямоугольник 2"/>
          <p:cNvSpPr/>
          <p:nvPr/>
        </p:nvSpPr>
        <p:spPr>
          <a:xfrm>
            <a:off x="2050920" y="1268280"/>
            <a:ext cx="648180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Monotype Corsiva"/>
              </a:rPr>
              <a:t>«НЕТРАДИЦИОННЫЕ ТЕХНИКИ РИСОВАНИЯ»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одготовила воспитатель 1-ой квалификационной категории Коновалова Н.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оугольник 3"/>
          <p:cNvSpPr/>
          <p:nvPr/>
        </p:nvSpPr>
        <p:spPr>
          <a:xfrm>
            <a:off x="3564000" y="413532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Прямоугольник 4"/>
          <p:cNvSpPr/>
          <p:nvPr/>
        </p:nvSpPr>
        <p:spPr>
          <a:xfrm>
            <a:off x="3348000" y="4813200"/>
            <a:ext cx="55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684000" y="1341360"/>
            <a:ext cx="8032680" cy="33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99"/>
                </a:solidFill>
                <a:latin typeface="Palatino Linotype"/>
                <a:ea typeface="Times New Roman"/>
              </a:rPr>
              <a:t>Нетрадиционные изобразительные техники </a:t>
            </a:r>
            <a:r>
              <a:rPr b="1" lang="ru-RU" sz="1800" spc="-1" strike="noStrike">
                <a:solidFill>
                  <a:srgbClr val="892ea2"/>
                </a:solidFill>
                <a:latin typeface="Palatino Linotype"/>
                <a:ea typeface="Times New Roman"/>
              </a:rPr>
              <a:t>- это эффективное средство изображения, включающее новые художественно-выразительные приемы создания художественного образа, композиции и колорита, позволяющие обеспечить наибольшую выразительность образа в творческой работе, 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92ea2"/>
                </a:solidFill>
                <a:latin typeface="Palatino Linotype"/>
                <a:ea typeface="Times New Roman"/>
              </a:rPr>
              <a:t>чтобы у детей не создавалось шаблона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17" name="Номер слайда 3" descr=""/>
          <p:cNvPicPr/>
          <p:nvPr/>
        </p:nvPicPr>
        <p:blipFill>
          <a:blip r:embed="rId2"/>
          <a:stretch/>
        </p:blipFill>
        <p:spPr>
          <a:xfrm>
            <a:off x="792000" y="5827680"/>
            <a:ext cx="2163960" cy="433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Номер слайда 10" descr=""/>
          <p:cNvPicPr/>
          <p:nvPr/>
        </p:nvPicPr>
        <p:blipFill>
          <a:blip r:embed="rId1"/>
          <a:stretch/>
        </p:blipFill>
        <p:spPr>
          <a:xfrm>
            <a:off x="792000" y="5827680"/>
            <a:ext cx="2163960" cy="433440"/>
          </a:xfrm>
          <a:prstGeom prst="rect">
            <a:avLst/>
          </a:prstGeom>
          <a:ln w="0">
            <a:noFill/>
          </a:ln>
        </p:spPr>
      </p:pic>
      <p:pic>
        <p:nvPicPr>
          <p:cNvPr id="319" name="Рисунок 1" descr=""/>
          <p:cNvPicPr/>
          <p:nvPr/>
        </p:nvPicPr>
        <p:blipFill>
          <a:blip r:embed="rId2"/>
          <a:stretch/>
        </p:blipFill>
        <p:spPr>
          <a:xfrm>
            <a:off x="6394320" y="404640"/>
            <a:ext cx="2749680" cy="2000520"/>
          </a:xfrm>
          <a:prstGeom prst="rect">
            <a:avLst/>
          </a:prstGeom>
          <a:ln w="0">
            <a:noFill/>
          </a:ln>
        </p:spPr>
      </p:pic>
      <p:pic>
        <p:nvPicPr>
          <p:cNvPr id="320" name="Рисунок 2" descr=""/>
          <p:cNvPicPr/>
          <p:nvPr/>
        </p:nvPicPr>
        <p:blipFill>
          <a:blip r:embed="rId3"/>
          <a:stretch/>
        </p:blipFill>
        <p:spPr>
          <a:xfrm>
            <a:off x="14400" y="379440"/>
            <a:ext cx="2900160" cy="2328840"/>
          </a:xfrm>
          <a:prstGeom prst="rect">
            <a:avLst/>
          </a:prstGeom>
          <a:ln w="0">
            <a:noFill/>
          </a:ln>
        </p:spPr>
      </p:pic>
      <p:pic>
        <p:nvPicPr>
          <p:cNvPr id="321" name="Рисунок 3" descr=""/>
          <p:cNvPicPr/>
          <p:nvPr/>
        </p:nvPicPr>
        <p:blipFill>
          <a:blip r:embed="rId4"/>
          <a:stretch/>
        </p:blipFill>
        <p:spPr>
          <a:xfrm>
            <a:off x="2987640" y="2565360"/>
            <a:ext cx="3672000" cy="3167280"/>
          </a:xfrm>
          <a:prstGeom prst="rect">
            <a:avLst/>
          </a:prstGeom>
          <a:ln w="0">
            <a:noFill/>
          </a:ln>
        </p:spPr>
      </p:pic>
      <p:pic>
        <p:nvPicPr>
          <p:cNvPr id="322" name="Рисунок 4" descr=""/>
          <p:cNvPicPr/>
          <p:nvPr/>
        </p:nvPicPr>
        <p:blipFill>
          <a:blip r:embed="rId5"/>
          <a:stretch/>
        </p:blipFill>
        <p:spPr>
          <a:xfrm>
            <a:off x="3708360" y="158760"/>
            <a:ext cx="2016000" cy="249228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5" descr=""/>
          <p:cNvPicPr/>
          <p:nvPr/>
        </p:nvPicPr>
        <p:blipFill>
          <a:blip r:embed="rId6"/>
          <a:stretch/>
        </p:blipFill>
        <p:spPr>
          <a:xfrm>
            <a:off x="0" y="3645000"/>
            <a:ext cx="2916360" cy="2519280"/>
          </a:xfrm>
          <a:prstGeom prst="rect">
            <a:avLst/>
          </a:prstGeom>
          <a:ln w="0">
            <a:noFill/>
          </a:ln>
        </p:spPr>
      </p:pic>
      <p:pic>
        <p:nvPicPr>
          <p:cNvPr id="324" name="Рисунок 6" descr=""/>
          <p:cNvPicPr/>
          <p:nvPr/>
        </p:nvPicPr>
        <p:blipFill>
          <a:blip r:embed="rId7"/>
          <a:stretch/>
        </p:blipFill>
        <p:spPr>
          <a:xfrm>
            <a:off x="6659640" y="3860640"/>
            <a:ext cx="2484360" cy="2421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"/>
          <p:cNvSpPr/>
          <p:nvPr/>
        </p:nvSpPr>
        <p:spPr>
          <a:xfrm>
            <a:off x="857160" y="220320"/>
            <a:ext cx="7929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традиционные техники рисова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разных возрастных группах детского са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500040" y="868680"/>
            <a:ext cx="450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bfbfbf"/>
                </a:solidFill>
                <a:uFillTx/>
                <a:latin typeface="Times New Roman"/>
                <a:ea typeface="Times New Roman"/>
              </a:rPr>
              <a:t>Младшая группа (2-4 год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е  жесткой полусухой кистью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ьчико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е ладошк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е ватной палочк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атками из картофе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тиск пробк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Прямоугольник 4"/>
          <p:cNvSpPr/>
          <p:nvPr/>
        </p:nvSpPr>
        <p:spPr>
          <a:xfrm>
            <a:off x="4786200" y="1143000"/>
            <a:ext cx="421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bfbfbf"/>
                </a:solidFill>
                <a:uFillTx/>
                <a:latin typeface="Times New Roman"/>
                <a:ea typeface="Times New Roman"/>
              </a:rPr>
              <a:t>Средняя группа (4-5 ле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тиск поролоно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тиск печатками из ластика, листь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ковые мелки + аквар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ча +аквар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е мятой бумаг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типия предмет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оугольник 6"/>
          <p:cNvSpPr/>
          <p:nvPr/>
        </p:nvSpPr>
        <p:spPr>
          <a:xfrm>
            <a:off x="2928960" y="3286080"/>
            <a:ext cx="5214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bfbfbf"/>
                </a:solidFill>
                <a:uFillTx/>
                <a:latin typeface="Times New Roman"/>
                <a:ea typeface="Times New Roman"/>
              </a:rPr>
              <a:t>Старшая и подготовительная группа (5-7 ле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типия пейзаж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е зубной щетк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чесывание крас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рызг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ушные фломасте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яксография с трубочк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копия – рисование свеч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ттаж черно- белый, цветн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е нитк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е солью, рисование песк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Номер слайда 5" descr=""/>
          <p:cNvPicPr/>
          <p:nvPr/>
        </p:nvPicPr>
        <p:blipFill>
          <a:blip r:embed="rId1"/>
          <a:stretch/>
        </p:blipFill>
        <p:spPr>
          <a:xfrm>
            <a:off x="792000" y="5827680"/>
            <a:ext cx="2163960" cy="433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Объект 6" descr=""/>
          <p:cNvPicPr/>
          <p:nvPr/>
        </p:nvPicPr>
        <p:blipFill>
          <a:blip r:embed="rId1"/>
          <a:stretch/>
        </p:blipFill>
        <p:spPr>
          <a:xfrm>
            <a:off x="0" y="1125360"/>
            <a:ext cx="2340000" cy="215928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77600" y="404280"/>
            <a:ext cx="75438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виллинг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— искусство изготовления плоских или объёмных композиций из скрученных в спиральки длинных и узких полосок бумаги.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2" name="Номер слайда 1" descr=""/>
          <p:cNvPicPr/>
          <p:nvPr/>
        </p:nvPicPr>
        <p:blipFill>
          <a:blip r:embed="rId2"/>
          <a:stretch/>
        </p:blipFill>
        <p:spPr>
          <a:xfrm>
            <a:off x="785880" y="5827680"/>
            <a:ext cx="2170080" cy="43344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7" descr=""/>
          <p:cNvPicPr/>
          <p:nvPr/>
        </p:nvPicPr>
        <p:blipFill>
          <a:blip r:embed="rId3"/>
          <a:stretch/>
        </p:blipFill>
        <p:spPr>
          <a:xfrm>
            <a:off x="5219640" y="1197000"/>
            <a:ext cx="2808360" cy="244800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8" descr=""/>
          <p:cNvPicPr/>
          <p:nvPr/>
        </p:nvPicPr>
        <p:blipFill>
          <a:blip r:embed="rId4"/>
          <a:stretch/>
        </p:blipFill>
        <p:spPr>
          <a:xfrm>
            <a:off x="4572000" y="3500280"/>
            <a:ext cx="4572000" cy="280836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9" descr=""/>
          <p:cNvPicPr/>
          <p:nvPr/>
        </p:nvPicPr>
        <p:blipFill>
          <a:blip r:embed="rId5"/>
          <a:stretch/>
        </p:blipFill>
        <p:spPr>
          <a:xfrm>
            <a:off x="0" y="3500280"/>
            <a:ext cx="2921040" cy="25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Номер слайда 1" descr=""/>
          <p:cNvPicPr/>
          <p:nvPr/>
        </p:nvPicPr>
        <p:blipFill>
          <a:blip r:embed="rId1"/>
          <a:stretch/>
        </p:blipFill>
        <p:spPr>
          <a:xfrm>
            <a:off x="785880" y="5827680"/>
            <a:ext cx="2170080" cy="4334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4" descr="C:\Users\наташа\Desktop\IMG_20170522_192950.jpg"/>
          <p:cNvPicPr/>
          <p:nvPr/>
        </p:nvPicPr>
        <p:blipFill>
          <a:blip r:embed="rId2"/>
          <a:stretch/>
        </p:blipFill>
        <p:spPr>
          <a:xfrm>
            <a:off x="-20520" y="0"/>
            <a:ext cx="2500200" cy="26906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" descr="C:\Users\наташа\Desktop\IMG_20170522_192915.jpg"/>
          <p:cNvPicPr/>
          <p:nvPr/>
        </p:nvPicPr>
        <p:blipFill>
          <a:blip r:embed="rId3"/>
          <a:stretch/>
        </p:blipFill>
        <p:spPr>
          <a:xfrm>
            <a:off x="6659640" y="2585880"/>
            <a:ext cx="2519280" cy="27370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6" descr="C:\Users\наташа\Desktop\IMG_20170522_192938.jpg"/>
          <p:cNvPicPr/>
          <p:nvPr/>
        </p:nvPicPr>
        <p:blipFill>
          <a:blip r:embed="rId4"/>
          <a:stretch/>
        </p:blipFill>
        <p:spPr>
          <a:xfrm>
            <a:off x="6659640" y="22320"/>
            <a:ext cx="2484360" cy="25635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7" descr="C:\Users\наташа\Desktop\IMG_20170522_192927.jpg"/>
          <p:cNvPicPr/>
          <p:nvPr/>
        </p:nvPicPr>
        <p:blipFill>
          <a:blip r:embed="rId5"/>
          <a:stretch/>
        </p:blipFill>
        <p:spPr>
          <a:xfrm>
            <a:off x="1440" y="2774880"/>
            <a:ext cx="2586240" cy="2648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8" descr="C:\Users\наташа\Desktop\IMG_20170522_192905.jpg"/>
          <p:cNvPicPr/>
          <p:nvPr/>
        </p:nvPicPr>
        <p:blipFill>
          <a:blip r:embed="rId6"/>
          <a:stretch/>
        </p:blipFill>
        <p:spPr>
          <a:xfrm>
            <a:off x="3059280" y="1220760"/>
            <a:ext cx="2414520" cy="25210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9" descr="C:\Users\наташа\Desktop\IMG_20170522_192844.jpg"/>
          <p:cNvPicPr/>
          <p:nvPr/>
        </p:nvPicPr>
        <p:blipFill>
          <a:blip r:embed="rId7"/>
          <a:stretch/>
        </p:blipFill>
        <p:spPr>
          <a:xfrm>
            <a:off x="3419640" y="3865680"/>
            <a:ext cx="252072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971280" y="292428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Palatino Linotype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4" name="Номер слайда 3" descr=""/>
          <p:cNvPicPr/>
          <p:nvPr/>
        </p:nvPicPr>
        <p:blipFill>
          <a:blip r:embed="rId2"/>
          <a:stretch/>
        </p:blipFill>
        <p:spPr>
          <a:xfrm>
            <a:off x="792000" y="5827680"/>
            <a:ext cx="2163960" cy="433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14:54:21Z</dcterms:created>
  <dc:creator>Admin</dc:creator>
  <dc:description/>
  <dc:language>en-US</dc:language>
  <cp:lastModifiedBy>наташа</cp:lastModifiedBy>
  <dcterms:modified xsi:type="dcterms:W3CDTF">2018-02-05T17:10:34Z</dcterms:modified>
  <cp:revision>270</cp:revision>
  <dc:subject/>
  <dc:title>РАЗВИТИЕ ТВОРЧЕСКИХ СПОСОБНОСТЕЙ ДОШКОЛЬНИКОВ НА ЗАНЯТИЯХ НЕТРАДИЦИОННОГО РИСОВАНИЯ Выпускная квалификационная работа</dc:title>
</cp:coreProperties>
</file>