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5511-CAD3-42BB-9BF0-E306A33E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1BB-5FF4-41BF-A510-12BB2825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0E24-B93A-42C3-BEF3-3427EA85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464-1AF8-4922-A980-74DF9551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6038-4276-48BA-A349-37E0E8CB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0820-CAD3-4F45-BCCF-B020231F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282A-D615-403A-9FB7-6DEFA8F2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4ED0-3CCE-4CD8-A356-B737E59F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14DF-8AA5-43FE-ABE4-BA6EE90F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57A1-0A16-4074-8397-8D8371D8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6083-49D9-42DC-AFA4-7966BF4A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886-BE2B-4685-A7D7-AFD5A9C8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CD99-5AF0-43B1-8BF9-07D9B8C9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B3D9-A544-4341-A1A1-A6FFAB55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67F0-1C77-45DB-A72D-F4703B03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7D86-FC12-416F-BA37-A7E0E91D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8C13-7B73-4B0A-ACC9-DB78D224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1096-9A63-407B-AEAC-514168F0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44D-0757-4056-9C75-0BCBE55B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B84-B809-4E7D-BCD2-910A9FE1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53E-D0A9-44F4-8F55-361346B0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A6E-2735-48B8-AC98-EDE81DE2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F862-F178-45C9-9B58-77324526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A374-7737-419B-9640-9C7603FF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bf3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95E6-DE8B-4A25-B797-378DBFAACE5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bf3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0806-693C-4159-A976-73490E1D680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6633"/>
                </a:solidFill>
                <a:latin typeface="Garamond"/>
              </a:rPr>
              <a:t>Родительское собрание</a:t>
            </a:r>
            <a:br>
              <a:rPr sz="4100"/>
            </a:br>
            <a:r>
              <a:rPr b="1" i="1" lang="ru-RU" sz="4100" spc="-1" strike="noStrike">
                <a:solidFill>
                  <a:srgbClr val="006633"/>
                </a:solidFill>
                <a:latin typeface="Garamond"/>
              </a:rPr>
              <a:t>«Как помочь ребенку при подготовке к участию в ВПР»</a:t>
            </a:r>
            <a:br>
              <a:rPr sz="4100"/>
            </a:br>
            <a:r>
              <a:rPr b="1" i="1" lang="ru-RU" sz="4100" spc="-1" strike="noStrike">
                <a:solidFill>
                  <a:srgbClr val="006633"/>
                </a:solidFill>
                <a:latin typeface="Garamond"/>
              </a:rPr>
              <a:t>«</a:t>
            </a: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Если ребёнку удается добиться успеха в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школе, у него есть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все шансы на 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успех в жизни.»  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У. Глассер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06907"/>
          <p:cNvPicPr/>
          <p:nvPr/>
        </p:nvPicPr>
        <p:blipFill>
          <a:blip r:embed="rId1"/>
          <a:stretch/>
        </p:blipFill>
        <p:spPr>
          <a:xfrm>
            <a:off x="5429160" y="3429000"/>
            <a:ext cx="3233880" cy="30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428400"/>
            <a:ext cx="822960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здать в семье благоприятный климат, эмоционально ровный настрой родителей, наличие поддержки детя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вивать самостоятельность в процессе жизненного самоопределени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ледить за правильной организации режима дня ребёнк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ледить за записями домашних заданий в дневнике, контролировать их выполнение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учать детей к самосто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асписание ВПР в 2017-2018 год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7,19 апреля- русский язы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4 апреля – математ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6 апреля – окружающий ми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ПР будет проходить по следующим правилам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каждый предмет будет отведен свой ден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написание ответов на каждый предмет отведено 45 минут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рещается пользоваться любыми учебниками во время выполнения зада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журнале будет выставлен бал за ВПР, как при контрольной рабо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ажным моментом является выработка привычки к неукоснительному выполнению домашних заданий:</a:t>
            </a:r>
            <a:r>
              <a:rPr b="0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4360" y="2060640"/>
            <a:ext cx="820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бы погода ни бы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бы ни шли телепередач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чей бы день рождения ни отмеча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и должны быть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олнены, 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олнены хорошо. 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2613_NpAdvHover"/>
          <p:cNvPicPr/>
          <p:nvPr/>
        </p:nvPicPr>
        <p:blipFill>
          <a:blip r:embed="rId1"/>
          <a:stretch/>
        </p:blipFill>
        <p:spPr>
          <a:xfrm>
            <a:off x="250920" y="400536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468360" y="5057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рганизация рабочего мест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Важным является и место выполнения  работы. 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1428480"/>
            <a:ext cx="9144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но должно быть постоян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икто не должен мешать уче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чень важно заниматься собран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рошем темпе,  не отвлекаясь на           посторонние дел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чень важен темп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Работают хорошо те, кто работают быстр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seminar3"/>
          <p:cNvPicPr/>
          <p:nvPr/>
        </p:nvPicPr>
        <p:blipFill>
          <a:blip r:embed="rId1"/>
          <a:stretch/>
        </p:blipFill>
        <p:spPr>
          <a:xfrm>
            <a:off x="0" y="3048120"/>
            <a:ext cx="18572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огда не называйте ребенка бестолковым и т.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валите ребенка за любой успех, пусть даже самый незначительны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жедневно просматривайте без нареканий тетради, дневник, спокойно попросите объяснения по тому или иному факту, а затем спросите, чем вы можете помоч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юбите своего ребенка и вселяйте ежедневно в него уверен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ругайте, а учите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258560" y="6857640"/>
            <a:ext cx="4105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971640" y="620640"/>
            <a:ext cx="7466040" cy="540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дуйтесь тому, 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у вас есть такое счастье - 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кем-то делать уроки, 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у-то помогать взрослеть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ЕШЕНИЕ СОБРАНИЯ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овать полученную информацию в своей работе с ребенк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ять различную популярную развивающую литературу для организации занятий с детьми (для развития памяти, мышления, внимания, наблюдательности, воображения и т. д.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2195640" y="1773360"/>
            <a:ext cx="4681440" cy="2303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внимание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285840" y="136080"/>
            <a:ext cx="835812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 ребенок чему-то учится. Общий итог будет состоять из нескольких частных результатов. Назовем четыре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219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очевидный - это знание, которое он получит, или умение, которое он осво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19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менее очевидный - это тренировка общей способности учиться, то есть учить самого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19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- эмоциональный след от занятия: удовлетворение или разочарование, уверенность или неуверенность в своих сил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19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- след ваших взаимоотношений с ним, если вы при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­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 участие в занятиях. Здесь итог может быть либо положительным (остались довольны друг другом), либо отрицательным (пополнилась копилка взаимных недовольст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сохранить у ребенка желание учиться, стремление к знаниям, необходимо научить его хорошо учитьс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е значение в этом случае приобретает сотрудничество родителей и учителей, согласование их действий. Усилия семьи и школы в решении этой проблемы – едины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детям должна быть эффективной, грамотной и должна идти в трех направлениях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5914800" cy="30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ежима дн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выполнением домашних задани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учение детей к самостоятельности 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i"/>
          <p:cNvPicPr/>
          <p:nvPr/>
        </p:nvPicPr>
        <p:blipFill>
          <a:blip r:embed="rId1"/>
          <a:stretch/>
        </p:blipFill>
        <p:spPr>
          <a:xfrm>
            <a:off x="6215040" y="2492280"/>
            <a:ext cx="271476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Организация режима дня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ежима дня позволяет ребен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че справиться с учебной нагрузко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щает нервную систему от переутомления, т.е. укрепляет здоровь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20% школьников плохое здоровье - причина неуспеваемости. </a:t>
            </a:r>
            <a:br>
              <a:rPr sz="2200"/>
            </a:br>
            <a:br>
              <a:rPr sz="2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8832091_6546"/>
          <p:cNvPicPr/>
          <p:nvPr/>
        </p:nvPicPr>
        <p:blipFill>
          <a:blip r:embed="rId1"/>
          <a:stretch/>
        </p:blipFill>
        <p:spPr>
          <a:xfrm>
            <a:off x="7236000" y="333360"/>
            <a:ext cx="103788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Garamond"/>
              </a:rPr>
              <a:t>Точный распорядок занятий - это основа любого труда</a:t>
            </a:r>
            <a:r>
              <a:rPr b="0" lang="ru-RU" sz="3800" spc="-1" strike="noStrike">
                <a:solidFill>
                  <a:srgbClr val="c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жедневное выполнение домашних обязанност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жедневное чтение кн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изация досуг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ль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изованный со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antn071"/>
          <p:cNvPicPr/>
          <p:nvPr/>
        </p:nvPicPr>
        <p:blipFill>
          <a:blip r:embed="rId1"/>
          <a:stretch/>
        </p:blipFill>
        <p:spPr>
          <a:xfrm>
            <a:off x="5724360" y="3933720"/>
            <a:ext cx="3246480" cy="24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помощи — контроль за выполнением домашних заданий.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должен быть систематическим, а не от случая к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детям должна оказываться своеврем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больше требовательности к детям и как можно больше уважения, контроль должен быть ненавязчивым и тактич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ажно контролировать не конечный продукт их труда, а сам проце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учить их размышлять самостоятельно, анализировать, доказ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Для подготовки школьника к ВПР родителям необходимо соблюдать следующие правила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99680" y="999720"/>
            <a:ext cx="83581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здать ситуацию эмоционального комфорта для ребенка на этапе подготовк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нагнетать обстановку, напоминая о серьезности предстоящей работы и значимости её результатов. Чрезмерное повышение тревоги приведет к дезорганизации деятельно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ть для ребёнка ситуацию успеха, поощрения, поддержк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ить детям ощущение эмоциональной поддержки во время проведения ВП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3:39:39Z</dcterms:created>
  <dc:creator>ЕГОР</dc:creator>
  <dc:description/>
  <dc:language>en-US</dc:language>
  <cp:lastModifiedBy>Бухгалтерия</cp:lastModifiedBy>
  <dcterms:modified xsi:type="dcterms:W3CDTF">2018-02-03T03:39:11Z</dcterms:modified>
  <cp:revision>29</cp:revision>
  <dc:subject/>
  <dc:title>Родительское собрание «Нравственные законы семьи - законы жизни»</dc:title>
</cp:coreProperties>
</file>