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36.gif" ContentType="image/gif"/>
  <Override PartName="/ppt/media/image24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22.gif" ContentType="image/gif"/>
  <Override PartName="/ppt/media/image28.png" ContentType="image/png"/>
  <Override PartName="/ppt/media/image25.gif" ContentType="image/gif"/>
  <Override PartName="/ppt/media/image30.png" ContentType="image/png"/>
  <Override PartName="/ppt/media/image37.jpeg" ContentType="image/jpeg"/>
  <Override PartName="/ppt/media/image10.gif" ContentType="image/gif"/>
  <Override PartName="/ppt/media/image31.png" ContentType="image/png"/>
  <Override PartName="/ppt/media/image9.gif" ContentType="image/gif"/>
  <Override PartName="/ppt/media/image38.gif" ContentType="image/gif"/>
  <Override PartName="/ppt/media/image40.jpeg" ContentType="image/jpeg"/>
  <Override PartName="/ppt/media/image44.jpeg" ContentType="image/jpeg"/>
  <Override PartName="/ppt/media/image11.png" ContentType="image/png"/>
  <Override PartName="/ppt/media/image43.gif" ContentType="image/gif"/>
  <Override PartName="/ppt/media/image46.gif" ContentType="image/gif"/>
  <Override PartName="/ppt/media/image45.gif" ContentType="image/gif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1.gif" ContentType="image/gif"/>
  <Override PartName="/ppt/media/image4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42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B0F2-5709-4D11-8711-6DB9F546CE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1EB9-C1D2-461B-B08F-77A33A251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56D-31AF-4A87-973A-87875F369C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F02D-3CAE-4D92-B84F-8865F4869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BB8D-9D90-4D2F-83BB-A4BAD5C551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721-7022-438E-A79D-7AB201202E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0A0-10EB-4B90-8E77-10D5B93888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E008-838E-42C1-A220-EA9879BC2E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D8EB-DBB7-4715-A3AB-E9F89EECA2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90D7-9328-4F55-9A6E-4964EE646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FFAA-95A5-4D1A-9946-AC4E204951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E2C7-A615-4076-887E-18D41EFF0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8B9F-F112-4706-B000-AFF7CB5A7B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A04-C7DD-4EF2-B2E1-A35ACFE05D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0B1-E70C-459D-B939-1C5E3619A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7BB-29E9-4601-8340-BEC0E849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C66-9015-4EBE-9381-C44DEBE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F41-F9D7-4AB5-A745-9D05AA79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6A8-5452-4F8D-836E-44EA0125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E314-4697-47F2-B097-6C0982B2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2148-65E0-45A7-B954-F0287D6A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1905-8C3C-4E0A-BF08-91C79659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8113-8204-4B01-9E28-B755572B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DF5-DCD8-4BBC-9D6A-84BFCEF4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02BC-AB49-4236-B6B0-AF1BFC87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2C8B-3ACC-40DC-AEE9-230E145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364-7D16-4A27-A2A2-1DBE6890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65B9-7735-433D-A42F-6431668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1A8C-9BDB-4F8B-893D-32FED94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91C5-325A-4058-8614-1806559A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7815-EAB3-4F86-8440-393A75F6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B397-FA70-4721-A7C6-D33E06C3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4C9-B114-4D23-B473-FB57D8FB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DEF-AB4C-4604-B6FC-7716A9AD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321-8AE7-487A-BEA7-5FE8237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093-D48A-4CA0-A541-B88526A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371-6388-459B-8350-D61F1B4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11D-22AE-4296-AACD-F66D929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1B6-3821-40CD-8EE2-630EB3E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09E-4E75-4B68-9C1F-85C89509B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AFD7-2DF8-47C3-9374-DD001FC9D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hyperlink" Target="http://www.smayli.ru/data/smiles/jivotniea-3472.gif" TargetMode="External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hyperlink" Target="http://i049.radikal.ru/0911/1a/ffee6589e344.gif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images.yandex.ru/yandsearch?img_url=http%3A%2F%2Fwww.pictureshack.ru%2Fgthumbs%2F26257.jpg&amp;iorient=&amp;nojs=1&amp;icolor=&amp;site=&amp;text=&#1088;&#1080;&#1089;&#1091;&#1085;&#1086;&#1082;%20&#1083;&#1077;&#1089;&#1072;&amp;wp=&amp;pos=4&amp;isize=&amp;type=&amp;recent=&amp;rpt=simage&amp;itype=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www.bezformata.ru/content/Images/000/003/854/image3854809.jpg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images.yandex.ru/yandsearch?img_url=http%3A%2F%2Fr.foto.radikal.ru%2F0704%2Fa6%2Fb252c6d0c671.jpg&amp;iorient=&amp;nojs=1&amp;icolor=&amp;site=&amp;text=&#1087;&#1086;&#1083;&#1077;&amp;wp=&amp;pos=22&amp;isize=&amp;type=&amp;recent=&amp;rpt=simage&amp;itype=" TargetMode="External"/><Relationship Id="rId7" Type="http://schemas.openxmlformats.org/officeDocument/2006/relationships/image" Target="../media/image35.jpeg"/><Relationship Id="rId8" Type="http://schemas.openxmlformats.org/officeDocument/2006/relationships/hyperlink" Target="http://img1.liveinternet.ru/images/foto/c/0/73/3925073/f_20110544.gif" TargetMode="External"/><Relationship Id="rId9" Type="http://schemas.openxmlformats.org/officeDocument/2006/relationships/image" Target="../media/image36.gif"/><Relationship Id="rId10" Type="http://schemas.openxmlformats.org/officeDocument/2006/relationships/hyperlink" Target="http://images.yandex.ru/yandsearch?img_url=http%3A%2F%2Fvirt-dub.edusite.ru%2Fimages%2Ffoxcolor_sam.jpg&amp;iorient=&amp;nojs=1&amp;icolor=&amp;site=&amp;text=&#1088;&#1080;&#1089;&#1091;&#1085;&#1086;&#1082;%20&#1083;&#1080;&#1089;&#1099;&amp;wp=&amp;pos=29&amp;isize=&amp;type=&amp;recent=&amp;rpt=simage&amp;itype=" TargetMode="External"/><Relationship Id="rId11" Type="http://schemas.openxmlformats.org/officeDocument/2006/relationships/image" Target="../media/image37.jpeg"/><Relationship Id="rId12" Type="http://schemas.openxmlformats.org/officeDocument/2006/relationships/image" Target="../media/image38.gif"/><Relationship Id="rId13" Type="http://schemas.openxmlformats.org/officeDocument/2006/relationships/hyperlink" Target="http://images.yandex.ru/yandsearch?p=1&amp;text=&#1082;&#1072;&#1088;&#1090;&#1080;&#1085;&#1082;&#1080;%20&#1077;&#1078;&#1072;&amp;noreask=1&amp;img_url=http%3A%2F%2Fcs4412.userapi.com%2Fu101701%2F147902593%2Fs_98c145f8.jpg&amp;pos=53&amp;rpt=simage&amp;lr=2&amp;nojs=1" TargetMode="External"/><Relationship Id="rId14" Type="http://schemas.openxmlformats.org/officeDocument/2006/relationships/image" Target="../media/image39.jpeg"/><Relationship Id="rId15" Type="http://schemas.openxmlformats.org/officeDocument/2006/relationships/image" Target="../media/image40.jpeg"/><Relationship Id="rId16" Type="http://schemas.openxmlformats.org/officeDocument/2006/relationships/image" Target="../media/image41.gif"/><Relationship Id="rId17" Type="http://schemas.openxmlformats.org/officeDocument/2006/relationships/image" Target="../media/image42.gif"/><Relationship Id="rId18" Type="http://schemas.openxmlformats.org/officeDocument/2006/relationships/image" Target="../media/image43.gif"/><Relationship Id="rId19" Type="http://schemas.openxmlformats.org/officeDocument/2006/relationships/image" Target="../media/image44.jpeg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hyperlink" Target="http://aptmakc.ru/media/images/johnny_automatic_boy_playing_with_toy_truck.pn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smayli.ru/data/smiles/pticia-1097.gif" TargetMode="Externa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hyperlink" Target="http://www.master-live.ru/gifimg/images/ludi/3.gif" TargetMode="External"/><Relationship Id="rId4" Type="http://schemas.openxmlformats.org/officeDocument/2006/relationships/image" Target="../media/image21.gif"/><Relationship Id="rId5" Type="http://schemas.openxmlformats.org/officeDocument/2006/relationships/hyperlink" Target="http://ds-156.nios.ru/images/bienv_--nouveau-bebe-timide.gif" TargetMode="External"/><Relationship Id="rId6" Type="http://schemas.openxmlformats.org/officeDocument/2006/relationships/image" Target="../media/image22.gif"/><Relationship Id="rId7" Type="http://schemas.openxmlformats.org/officeDocument/2006/relationships/hyperlink" Target="http://st.free-lance.ru/users/Na/Nastasy/upload/f_4e99617282c1b.gif" TargetMode="External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3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6918120" cy="749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с двумя скругленными противолежащими углами 4"/>
          <p:cNvSpPr/>
          <p:nvPr/>
        </p:nvSpPr>
        <p:spPr>
          <a:xfrm>
            <a:off x="1619280" y="1341360"/>
            <a:ext cx="6769080" cy="439128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Стрижнева Любовь Валенти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Учитель-логопед  высшей квалификационной категории ГБОУ № 337 Нев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extBox 3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8186760" cy="7491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с двумя скругленными противолежащими углами 4"/>
          <p:cNvSpPr/>
          <p:nvPr/>
        </p:nvSpPr>
        <p:spPr>
          <a:xfrm>
            <a:off x="1857240" y="1357200"/>
            <a:ext cx="6769080" cy="400068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НР (алалия) ОНР(ст.дизартрия),развиваются по основным законам формирования речевой системы, но при этом  имеют характерные особенности развития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xtBox 6" descr=""/>
          <p:cNvPicPr/>
          <p:nvPr/>
        </p:nvPicPr>
        <p:blipFill>
          <a:blip r:embed="rId2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Картинка 15 из 9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4572000"/>
            <a:ext cx="2894040" cy="199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t0419"/>
          <p:cNvPicPr/>
          <p:nvPr/>
        </p:nvPicPr>
        <p:blipFill>
          <a:blip r:embed="rId5"/>
          <a:stretch/>
        </p:blipFill>
        <p:spPr>
          <a:xfrm rot="21475200">
            <a:off x="738000" y="5046840"/>
            <a:ext cx="2612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extBox 3" descr=""/>
          <p:cNvPicPr/>
          <p:nvPr/>
        </p:nvPicPr>
        <p:blipFill>
          <a:blip r:embed="rId1"/>
          <a:stretch/>
        </p:blipFill>
        <p:spPr>
          <a:xfrm>
            <a:off x="1925640" y="304920"/>
            <a:ext cx="5316480" cy="749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с двумя скругленными противолежащими углами 4"/>
          <p:cNvSpPr/>
          <p:nvPr/>
        </p:nvSpPr>
        <p:spPr>
          <a:xfrm>
            <a:off x="1619280" y="1341360"/>
            <a:ext cx="6769080" cy="439128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рограмма рассчитана на детей  младшего школьного возраста с диагнозом Общее недоразвитие речи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уровня (по Р.Е. Левиной ) и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уровня (Филичева Т.Б., Чиркина Г.В.) речевого развития в блоке работ по коррекции аграмматической  дис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extBox 6" descr=""/>
          <p:cNvPicPr/>
          <p:nvPr/>
        </p:nvPicPr>
        <p:blipFill>
          <a:blip r:embed="rId2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Картинка 39 из 1495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285840"/>
            <a:ext cx="1476360" cy="149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lipjaqkey"/>
          <p:cNvPicPr/>
          <p:nvPr/>
        </p:nvPicPr>
        <p:blipFill>
          <a:blip r:embed="rId5"/>
          <a:stretch/>
        </p:blipFill>
        <p:spPr>
          <a:xfrm>
            <a:off x="7056360" y="4500720"/>
            <a:ext cx="2087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extBox 3" descr=""/>
          <p:cNvPicPr/>
          <p:nvPr/>
        </p:nvPicPr>
        <p:blipFill>
          <a:blip r:embed="rId1"/>
          <a:stretch/>
        </p:blipFill>
        <p:spPr>
          <a:xfrm>
            <a:off x="285840" y="542880"/>
            <a:ext cx="6919920" cy="1305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с двумя скругленными противолежащими углами 4"/>
          <p:cNvSpPr/>
          <p:nvPr/>
        </p:nvSpPr>
        <p:spPr>
          <a:xfrm>
            <a:off x="1214280" y="1928880"/>
            <a:ext cx="6769080" cy="457200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I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этап (диагностичес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Исследование грамматического строя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II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этап (подготовитель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III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этап (коррекционн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extBox 6" descr=""/>
          <p:cNvPicPr/>
          <p:nvPr/>
        </p:nvPicPr>
        <p:blipFill>
          <a:blip r:embed="rId2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eti71[1]"/>
          <p:cNvPicPr/>
          <p:nvPr/>
        </p:nvPicPr>
        <p:blipFill>
          <a:blip r:embed="rId3"/>
          <a:stretch/>
        </p:blipFill>
        <p:spPr>
          <a:xfrm>
            <a:off x="7000920" y="4500720"/>
            <a:ext cx="1413000" cy="2016000"/>
          </a:xfrm>
          <a:prstGeom prst="rect">
            <a:avLst/>
          </a:prstGeom>
          <a:ln w="0">
            <a:noFill/>
          </a:ln>
        </p:spPr>
      </p:pic>
      <p:sp>
        <p:nvSpPr>
          <p:cNvPr id="145" name="Oval 10"/>
          <p:cNvSpPr/>
          <p:nvPr/>
        </p:nvSpPr>
        <p:spPr>
          <a:xfrm>
            <a:off x="6786720" y="6000840"/>
            <a:ext cx="431640" cy="43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 flipV="1">
            <a:off x="6858000" y="6214320"/>
            <a:ext cx="360360" cy="71640"/>
          </a:xfrm>
          <a:custGeom>
            <a:avLst/>
            <a:gdLst>
              <a:gd name="textAreaLeft" fmla="*/ 0 w 360360"/>
              <a:gd name="textAreaRight" fmla="*/ 360720 w 360360"/>
              <a:gd name="textAreaTop" fmla="*/ 9000 h 71640"/>
              <a:gd name="textAreaBottom" fmla="*/ 62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extBox 3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7070400" cy="74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http://im7-tub-ru.yandex.net/i?id=298962096-16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428840"/>
            <a:ext cx="2255760" cy="16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www.bezformata.ru/content/Images/000/003/854/image3854809.jpg">
            <a:hlinkClick r:id="rId4"/>
          </p:cNvPr>
          <p:cNvPicPr/>
          <p:nvPr/>
        </p:nvPicPr>
        <p:blipFill>
          <a:blip r:embed="rId5"/>
          <a:stretch/>
        </p:blipFill>
        <p:spPr>
          <a:xfrm flipH="1" rot="762600">
            <a:off x="177840" y="3760560"/>
            <a:ext cx="1922400" cy="18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http://im5-tub-ru.yandex.net/i?id=337073229-43-72&amp;n=21">
            <a:hlinkClick r:id="rId6"/>
          </p:cNvPr>
          <p:cNvPicPr/>
          <p:nvPr/>
        </p:nvPicPr>
        <p:blipFill>
          <a:blip r:embed="rId7">
            <a:lum bright="20000"/>
          </a:blip>
          <a:stretch/>
        </p:blipFill>
        <p:spPr>
          <a:xfrm>
            <a:off x="6715080" y="10000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img1.liveinternet.ru/images/foto/c/0/73/3925073/f_20110544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86720" y="1000080"/>
            <a:ext cx="1807920" cy="234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http://im2-tub-ru.yandex.net/i?id=458441477-49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43200" y="492912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:\Аниме\анимац карт 2\2A5.gif"/>
          <p:cNvPicPr/>
          <p:nvPr/>
        </p:nvPicPr>
        <p:blipFill>
          <a:blip r:embed="rId12"/>
          <a:stretch/>
        </p:blipFill>
        <p:spPr>
          <a:xfrm>
            <a:off x="3000240" y="2714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http://im6-tub-ru.yandex.net/i?id=118619630-51-72&amp;n=2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572080" y="1643040"/>
            <a:ext cx="625680" cy="68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http://im8-tub-ru.yandex.net/i?id=328165463-40-72&amp;n=21"/>
          <p:cNvPicPr/>
          <p:nvPr/>
        </p:nvPicPr>
        <p:blipFill>
          <a:blip r:embed="rId15"/>
          <a:stretch/>
        </p:blipFill>
        <p:spPr>
          <a:xfrm>
            <a:off x="7143840" y="4071960"/>
            <a:ext cx="1079280" cy="88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E:\Аниме\анимац карт 2\ani-bull_mean[1].gif"/>
          <p:cNvPicPr/>
          <p:nvPr/>
        </p:nvPicPr>
        <p:blipFill>
          <a:blip r:embed="rId16"/>
          <a:stretch/>
        </p:blipFill>
        <p:spPr>
          <a:xfrm>
            <a:off x="3857760" y="3500280"/>
            <a:ext cx="1476360" cy="1333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E:\Аниме\анимац карт 2\251[1].gif"/>
          <p:cNvPicPr/>
          <p:nvPr/>
        </p:nvPicPr>
        <p:blipFill>
          <a:blip r:embed="rId17">
            <a:lum contrast="40000"/>
          </a:blip>
          <a:stretch/>
        </p:blipFill>
        <p:spPr>
          <a:xfrm>
            <a:off x="5643720" y="3786120"/>
            <a:ext cx="1128600" cy="82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E:\анимац карт 3\348.gif"/>
          <p:cNvPicPr/>
          <p:nvPr/>
        </p:nvPicPr>
        <p:blipFill>
          <a:blip r:embed="rId18"/>
          <a:stretch/>
        </p:blipFill>
        <p:spPr>
          <a:xfrm>
            <a:off x="5429160" y="2857680"/>
            <a:ext cx="505080" cy="63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http://www.8lap.ru/upload/iblock/bcd/bcd7791e016534eb9fcb575f80381bdc.jpg"/>
          <p:cNvPicPr/>
          <p:nvPr/>
        </p:nvPicPr>
        <p:blipFill>
          <a:blip r:embed="rId19"/>
          <a:stretch/>
        </p:blipFill>
        <p:spPr>
          <a:xfrm>
            <a:off x="3071880" y="16430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E:\Аниме\анимац карт 2\24M2[1].gif"/>
          <p:cNvPicPr/>
          <p:nvPr/>
        </p:nvPicPr>
        <p:blipFill>
          <a:blip r:embed="rId20"/>
          <a:stretch/>
        </p:blipFill>
        <p:spPr>
          <a:xfrm>
            <a:off x="6143760" y="50007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E:\Аниме\анимац карт 2\DUCKANIM[1].gif"/>
          <p:cNvPicPr/>
          <p:nvPr/>
        </p:nvPicPr>
        <p:blipFill>
          <a:blip r:embed="rId21"/>
          <a:stretch/>
        </p:blipFill>
        <p:spPr>
          <a:xfrm>
            <a:off x="4000680" y="1571760"/>
            <a:ext cx="9522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6875 C -0.01233 -0.11319 -0.02656 -0.10115 0.00156 -0.11504 C 0.00556 -0.12037 0.01059 -0.1243 0.01458 -0.12963 C 0.0184 -0.13495 0.01858 -0.14305 0.02552 -0.14421 C 0.03924 -0.14676 0.05312 -0.14606 0.06684 -0.14699 C 0.08576 -0.16365 0.11181 -0.15139 0.13212 -0.16435 E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7.40741E-007 C -0.0007 -0.00671 -0.00209 -0.01343 -0.00209 -0.02037 C -0.00209 -0.08125 0.00711000000000001 -0.04908 0.07187 -0.0463 C 0.09235 -0.04097 0.1118 -0.03264 0.13263 -0.02894 C 0.14044 -0.01875 0.14201 -0.02222 0.13489 -0.01736 E">
                                      <p:cBhvr>
                                        <p:cTn id="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333E-006 C 0.01493 0.01319 0.00799 0.00949 0.01962 0.01435 C 0.02552 0.02639 0.02726 0.02431 0.03698 0.02894 C 0.04931 0.04537 0.06042 0.06458 0.07622 0.07523 C 0.08403 0.09097 0.09271 0.10671 0.1066 0.11296 C 0.11302 0.12014 0.12031 0.12569 0.12622 0.13333 C 0.13872 0.14977 0.12031 0.13519 0.13924 0.14769 C 0.14427 0.15787 0.14566 0.16319 0.1566 0.16806 C 0.16094 0.16991 0.16962 0.17384 0.16962 0.17384 C 0.17466 0.1787 0.17882 0.18657 0.1849 0.18843 C 0.20226 0.19398 0.21893 0.20093 0.2349 0.21157 C 0.25087 0.20926 0.26337 0.20648 0.2783 0.2 C 0.28125 0.21134 0.28281 0.20856 0.27396 0.20856 E">
                                      <p:cBhvr>
                                        <p:cTn id="1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C 0.00243 0.01227 0.00573 0.0213 0.01094 0.03171 C 0.0125 0.06111 0.00955 0.06968 0.01962 0.08981 C 0.0217 0.11921 0.02448 0.1463 0.03698 0.17083 C 0.03993 0.19051 0.04201 0.21204 0.04566 0.23171 C 0.0467 0.23773 0.04618 0.24583 0.05 0.24907 C 0.05226 0.25093 0.05434 0.25301 0.0566 0.25486 C 0.06615 0.27407 0.06979 0.28125 0.08698 0.2868 C 0.08837 0.28981 0.08924 0.29352 0.09132 0.2956 C 0.09618 0.30069 0.10695 0.30162 0.11302 0.30417 C 0.11597 0.30324 0.12101 0.30532 0.1217 0.30139 C 0.1224 0.29745 0.11528 0.29259 0.11528 0.29259 E">
                                      <p:cBhvr>
                                        <p:cTn id="1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11111E-006 C -0.01772 0.01597 0.0026 -0.00486 -0.00869 0.01435 C -0.01563 0.02616 -0.02518 0.03773 -0.03247 0.04931 C -0.03647 0.05556 -0.0382 0.06505 -0.04341 0.06945 C -0.04931 0.07431 -0.05643 0.07523 -0.06303 0.07824 C -0.08265 0.08727 -0.10574 0.09236 -0.12605 0.0956 C -0.13421 0.10208 -0.14098 0.10926 -0.15001 0.11296 C -0.16042 0.1338 -0.15504 0.12523 -0.16511 0.13912 C -0.16737 0.15046 -0.16893 0.15833 -0.17379 0.16806 C -0.18195 0.16435 -0.17935 0.16783 -0.18247 0.15926 E">
                                      <p:cBhvr>
                                        <p:cTn id="1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8.51852E-006 C -0.01441 -0.0081 -0.02378 -0.02152 -0.03663 -0.03495 C -0.04219 -0.0405 -0.04861 -0.04374 -0.05417 -0.0493 C -0.06562 -0.06064 -0.07604 -0.07268 -0.08889 -0.08124 C -0.1033 -0.10069 -0.12691 -0.10509 -0.13889 -0.12754 C -0.14097 -0.13148 -0.14288 -0.13564 -0.14548 -0.13935 C -0.1493 -0.14536 -0.15451 -0.15023 -0.15851 -0.15671 C -0.17482 -0.18425 -0.18976 -0.20694 -0.20851 -0.23194 C -0.21632 -0.24259 -0.22292 -0.25277 -0.23229 -0.26087 C -0.2434 -0.28333 -0.22934 -0.25879 -0.24323 -0.27268 C -0.24722 -0.27685 -0.25 -0.28286 -0.25399 -0.28703 C -0.26232 -0.29606 -0.26701 -0.29861 -0.27587 -0.30439 C -0.28472 -0.32175 -0.27482 -0.30555 -0.28889 -0.31898 C -0.29132 -0.32129 -0.29271 -0.32523 -0.29548 -0.32754 C -0.30173 -0.33333 -0.31198 -0.33587 -0.31927 -0.33935 C -0.32673 -0.3537 -0.33264 -0.35092 -0.34531 -0.3537 C -0.36545 -0.36296 -0.3875 -0.36111 -0.40833 -0.36249 C -0.41128 -0.36435 -0.41371 -0.36828 -0.41701 -0.36828 C -0.43663 -0.36828 -0.42899 -0.36273 -0.44097 -0.35948 C -0.44601 -0.3581 -0.45121 -0.35763 -0.45625 -0.35671 C -0.4658 -0.35231 -0.47986 -0.34837 -0.4868 -0.33935 C -0.49531 -0.32777 -0.49028 -0.33171 -0.50191 -0.32754 C -0.51198 -0.30763 -0.52691 -0.31134 -0.54097 -0.29861 C -0.54236 -0.29583 -0.5434 -0.29236 -0.54531 -0.29004 C -0.54722 -0.28749 -0.55017 -0.2868 -0.55191 -0.28425 C -0.55538 -0.27893 -0.55764 -0.27245 -0.56059 -0.26666 C -0.56232 -0.26319 -0.56493 -0.26087 -0.56701 -0.2581 C -0.5684 -0.25277 -0.57882 -0.22777 -0.56701 -0.24351 E">
                                      <p:cBhvr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C -0.00451 0.01713 0.000699999999999999 -0.000230000000000001 -0.00868 0.02014 C -0.01389 0.03148 -0.01562 0.0412 -0.0217 0.05208 C -0.025 0.06482 -0.03212 0.06782 -0.03906 0.07824 C -0.05104 0.0963 -0.04132 0.09097 -0.06527 0.10718 C -0.07968 0.1169 -0.09757 0.12407 -0.11093 0.13611 C -0.11302 0.13796 -0.11493 0.14074 -0.11736 0.1419 C -0.12083 0.14375 -0.12465 0.14352 -0.1283 0.14491 C -0.13264 0.14653 -0.13715 0.14815 -0.14132 0.1507 C -0.15955 0.16134 -0.17378 0.1713 -0.1934 0.17685 C -0.20347 0.18982 -0.19218 0.17708 -0.21527 0.18843 C -0.21771 0.18958 -0.21927 0.19306 -0.2217 0.19421 C -0.22517 0.19583 -0.22899 0.19607 -0.23264 0.19699 C -0.24253 0.20347 -0.25225 0.20556 -0.26302 0.20857 C -0.27031 0.21065 -0.28472 0.21435 -0.28472 0.21458 C -0.31857 0.23218 -0.3526 0.24236 -0.38906 0.2463 C -0.40069 0.24537 -0.4125 0.2456 -0.42396 0.24352 C -0.43229 0.2419 -0.44427 0.23264 -0.45225 0.22894 C -0.4592 0.22593 -0.47986 0.22083 -0.48264 0.22014 C -0.49514 0.2132 -0.50694 0.20857 -0.51962 0.20278 C -0.53177 0.18657 -0.51962 0.2 -0.53472 0.1912 C -0.53715 0.18982 -0.53889 0.18704 -0.54132 0.18542 C -0.55416 0.17708 -0.56857 0.17407 -0.58264 0.17107 C -0.59496 0.15949 -0.58298 0.16875 -0.60434 0.16227 C -0.60885 0.16088 -0.61302 0.15833 -0.61736 0.15648 C -0.63524 0.14861 -0.65521 0.15648 -0.67396 0.15347 C -0.67552 0.15324 -0.67239 0.14954 -0.6717 0.14769 E">
                                      <p:cBhvr>
                                        <p:cTn id="2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0.01204 C -0.04289 0.01019 -0.04375 0.00671 -0.04584 0.00625 C -0.05278 0.00486 -0.05573 0.01158 -0.06094 0.01505 C -0.0632 0.01644 -0.07466 0.02037 -0.07622 0.02084 C -0.08212 0.03264 -0.08386 0.03102 -0.09358 0.03519 C -0.10278 0.04329 -0.11372 0.04676 -0.12396 0.05278 C -0.13177 0.05741 -0.13768 0.06366 -0.14584 0.06713 C -0.14948 0.06528 -0.15278 0.06181 -0.1566 0.06134 C -0.16355 0.06042 -0.17795 0.06829 -0.1849 0.07014 C -0.1941 0.07616 -0.20087 0.07894 -0.21094 0.08171 C -0.22188 0.09121 -0.23334 0.09653 -0.24584 0.10185 C -0.25295 0.1081 -0.26042 0.11042 -0.26754 0.11644 C -0.27605 0.12361 -0.27795 0.13264 -0.28698 0.13681 C -0.29115 0.14514 -0.29601 0.15162 -0.30018 0.15996 C -0.304 0.1757 -0.31789 0.19398 -0.3283 0.20347 C -0.329 0.20625 -0.32986 0.20926 -0.33056 0.21204 C -0.33125 0.21505 -0.33056 0.21945 -0.33264 0.22084 C -0.33473 0.22222 -0.33924 0.21783 -0.33924 0.21783 E">
                                      <p:cBhvr>
                                        <p:cTn id="2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C 0.00157 -0.00185 0.00417 -0.00301 0.00452 -0.00579 C 0.00608 -0.01528 -0.00416 -0.025 -0.00868 -0.02894 C -0.02083 -0.05278 -0.00451 -0.02315 -0.01944 -0.04329 C -0.02135 -0.04584 -0.02187 -0.04954 -0.02378 -0.05209 C -0.02569 -0.05463 -0.02847 -0.05556 -0.03038 -0.05787 C -0.03489 -0.0632 -0.03906 -0.06945 -0.0434 -0.07523 C -0.04461 -0.07685 -0.05816 -0.08079 -0.05868 -0.08102 C -0.07257 -0.09329 -0.08194 -0.09746 -0.09774 -0.10417 C -0.10868 -0.10324 -0.11961 -0.10371 -0.13038 -0.10139 C -0.13298 -0.10093 -0.13455 -0.09723 -0.1368 -0.0956 C -0.13889 -0.09422 -0.1434 -0.0926 -0.1434 -0.0926 E">
                                      <p:cBhvr>
                                        <p:cTn id="3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7.40741E-007 C 0.01233 0.00579 0.0099 0.00741 0.01511 0.02037 C 0.02101 0.03496 0.029 0.0456 0.03681 0.0581 C 0.04376 0.06922 0.04028 0.07269 0.05001 0.08125 C 0.05278 0.0926 0.05452 0.09514 0.06303 0.09861 C 0.07449 0.1088 0.08438 0.12199 0.09775 0.12755 C 0.10539 0.13426 0.11094 0.14584 0.11945 0.1507 C 0.12223 0.15232 0.12535 0.15232 0.12813 0.15371 C 0.13108 0.15533 0.13403 0.15741 0.13681 0.15949 C 0.13907 0.16111 0.14098 0.16389 0.14341 0.16528 C 0.15313 0.17084 0.16338 0.17454 0.17379 0.17685 C 0.20417 0.19699 0.25209 0.19584 0.28247 0.19722 C 0.31511 0.2007 0.45695 0.22685 0.43473 0.19722 E">
                                      <p:cBhvr>
                                        <p:cTn id="3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extBox 3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6918120" cy="7491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с двумя скругленными противолежащими углами 4"/>
          <p:cNvSpPr/>
          <p:nvPr/>
        </p:nvSpPr>
        <p:spPr>
          <a:xfrm>
            <a:off x="1619280" y="1341360"/>
            <a:ext cx="6769080" cy="439128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extBox 6" descr=""/>
          <p:cNvPicPr/>
          <p:nvPr/>
        </p:nvPicPr>
        <p:blipFill>
          <a:blip r:embed="rId2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Олег\Desktop\1024х768.png"/>
          <p:cNvPicPr/>
          <p:nvPr/>
        </p:nvPicPr>
        <p:blipFill>
          <a:blip r:embed="rId1"/>
          <a:stretch/>
        </p:blipFill>
        <p:spPr>
          <a:xfrm>
            <a:off x="1258920" y="1674720"/>
            <a:ext cx="7885080" cy="5216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5364000" y="472428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Bookman Old Style"/>
              </a:rPr>
              <a:t>Ф.И.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714680" y="2357280"/>
            <a:ext cx="678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ференциальная диагностика   грамматического строя (падежного словоизмения) у детей с ОНР 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логопед,магистр педагогики Стрижнева Л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с двумя скругленными противолежащими углами 4"/>
          <p:cNvSpPr/>
          <p:nvPr/>
        </p:nvSpPr>
        <p:spPr>
          <a:xfrm>
            <a:off x="1500120" y="1143000"/>
            <a:ext cx="7000920" cy="439272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В современной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сихолингвистике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языковая система ребенка рассматривается как сложная иерархически организованная система, включающая фонетический, грамматический и семантические компон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6" descr=""/>
          <p:cNvPicPr/>
          <p:nvPr/>
        </p:nvPicPr>
        <p:blipFill>
          <a:blip r:embed="rId1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sp>
        <p:nvSpPr>
          <p:cNvPr id="96" name="5-конечная звезда 5"/>
          <p:cNvSpPr/>
          <p:nvPr/>
        </p:nvSpPr>
        <p:spPr>
          <a:xfrm>
            <a:off x="285840" y="12142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-конечная звезда 7"/>
          <p:cNvSpPr/>
          <p:nvPr/>
        </p:nvSpPr>
        <p:spPr>
          <a:xfrm>
            <a:off x="428760" y="421488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autumn037"/>
          <p:cNvPicPr/>
          <p:nvPr/>
        </p:nvPicPr>
        <p:blipFill>
          <a:blip r:embed="rId2"/>
          <a:stretch/>
        </p:blipFill>
        <p:spPr>
          <a:xfrm>
            <a:off x="6786720" y="407196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t106012"/>
          <p:cNvPicPr/>
          <p:nvPr/>
        </p:nvPicPr>
        <p:blipFill>
          <a:blip r:embed="rId3"/>
          <a:stretch/>
        </p:blipFill>
        <p:spPr>
          <a:xfrm flipH="1" rot="5913600">
            <a:off x="7752240" y="4973760"/>
            <a:ext cx="5223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extBox 3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6918120" cy="749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с двумя скругленными противолежащими углами 4"/>
          <p:cNvSpPr/>
          <p:nvPr/>
        </p:nvSpPr>
        <p:spPr>
          <a:xfrm>
            <a:off x="1619280" y="1341360"/>
            <a:ext cx="6769080" cy="439128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ыяснить особенности формирования падежного словоизменения у детей  при нормальном и отклоняющемся от нормы речевом развитии,  определить стратегию использования словоформ  в ре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extBox 6" descr=""/>
          <p:cNvPicPr/>
          <p:nvPr/>
        </p:nvPicPr>
        <p:blipFill>
          <a:blip r:embed="rId2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артинка 15 из 2081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59680" y="4500720"/>
            <a:ext cx="2232000" cy="206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артинка 4 из 199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15160" y="5072040"/>
            <a:ext cx="5367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с двумя скругленными противолежащими углами 4"/>
          <p:cNvSpPr/>
          <p:nvPr/>
        </p:nvSpPr>
        <p:spPr>
          <a:xfrm>
            <a:off x="1643040" y="1357200"/>
            <a:ext cx="6769080" cy="439128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исследование проводилось на базе речевого детского сада № 85 Центрального района, частной школы раннего развития на базе ППМС Московского района, речевого детского сада №4  Московского района, массовых групп детского сада №88 Центральн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TextBox 6" descr=""/>
          <p:cNvPicPr/>
          <p:nvPr/>
        </p:nvPicPr>
        <p:blipFill>
          <a:blip r:embed="rId1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0010-110"/>
          <p:cNvPicPr/>
          <p:nvPr/>
        </p:nvPicPr>
        <p:blipFill>
          <a:blip r:embed="rId2"/>
          <a:stretch/>
        </p:blipFill>
        <p:spPr>
          <a:xfrm>
            <a:off x="6572160" y="4286160"/>
            <a:ext cx="2202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ксперименте была использована методика обследования В.А. Ковшик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14320" y="1785960"/>
            <a:ext cx="54291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испытуемому  было предъявлено 66 стимулов, 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ужской род, одушевле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Мальчик поймал…………..ж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 Мальчик везет……………..пету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 Дядя ведет…………………сл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ужской род, неодушевле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   Мальчик строит…………….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  Тетя моет……………………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:\рисунки Ковшиков\Изображение 001.jpg"/>
          <p:cNvPicPr/>
          <p:nvPr/>
        </p:nvPicPr>
        <p:blipFill>
          <a:blip r:embed="rId1"/>
          <a:stretch/>
        </p:blipFill>
        <p:spPr>
          <a:xfrm>
            <a:off x="6858000" y="1928880"/>
            <a:ext cx="1998720" cy="43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рисунки Ковшиков\Изображение 004.jpg"/>
          <p:cNvPicPr/>
          <p:nvPr/>
        </p:nvPicPr>
        <p:blipFill>
          <a:blip r:embed="rId2"/>
          <a:stretch/>
        </p:blipFill>
        <p:spPr>
          <a:xfrm>
            <a:off x="179280" y="620640"/>
            <a:ext cx="9972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рисунки Ковшиков\Изображение 002.jpg"/>
          <p:cNvPicPr/>
          <p:nvPr/>
        </p:nvPicPr>
        <p:blipFill>
          <a:blip r:embed="rId3"/>
          <a:stretch/>
        </p:blipFill>
        <p:spPr>
          <a:xfrm>
            <a:off x="3214800" y="5572080"/>
            <a:ext cx="2041560" cy="100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рисунки Ковшиков\Изображение 005.jpg"/>
          <p:cNvPicPr/>
          <p:nvPr/>
        </p:nvPicPr>
        <p:blipFill>
          <a:blip r:embed="rId4"/>
          <a:stretch/>
        </p:blipFill>
        <p:spPr>
          <a:xfrm>
            <a:off x="285840" y="2428920"/>
            <a:ext cx="1071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рисунки Ковшиков\Изображение 006.jpg"/>
          <p:cNvPicPr/>
          <p:nvPr/>
        </p:nvPicPr>
        <p:blipFill>
          <a:blip r:embed="rId5"/>
          <a:stretch/>
        </p:blipFill>
        <p:spPr>
          <a:xfrm>
            <a:off x="285840" y="5286240"/>
            <a:ext cx="177300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8196120" cy="54007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71680" y="21420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Сравнительный анализ ошибочных ответов контрольной и                                                             экспериментальных  ОНР(алалия) ОНР(ст.дизартрия) групп в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extBox 3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6918120" cy="1304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с двумя скругленными противолежащими углами 4"/>
          <p:cNvSpPr/>
          <p:nvPr/>
        </p:nvSpPr>
        <p:spPr>
          <a:xfrm>
            <a:off x="1500120" y="1571760"/>
            <a:ext cx="6769080" cy="439092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 норме осваивает синтаксему в  целом, не конструируя ППК (предложно-падежной констру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 речевым дизонтогенезом пытается сконструировать ее  и прибегает к симпл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Box 6" descr=""/>
          <p:cNvPicPr/>
          <p:nvPr/>
        </p:nvPicPr>
        <p:blipFill>
          <a:blip r:embed="rId2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250"/>
          <p:cNvPicPr/>
          <p:nvPr/>
        </p:nvPicPr>
        <p:blipFill>
          <a:blip r:embed="rId3"/>
          <a:stretch/>
        </p:blipFill>
        <p:spPr>
          <a:xfrm>
            <a:off x="6858000" y="49291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83[1]"/>
          <p:cNvPicPr/>
          <p:nvPr/>
        </p:nvPicPr>
        <p:blipFill>
          <a:blip r:embed="rId4"/>
          <a:stretch/>
        </p:blipFill>
        <p:spPr>
          <a:xfrm>
            <a:off x="6715080" y="6281640"/>
            <a:ext cx="622440" cy="5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83[1]"/>
          <p:cNvPicPr/>
          <p:nvPr/>
        </p:nvPicPr>
        <p:blipFill>
          <a:blip r:embed="rId5"/>
          <a:stretch/>
        </p:blipFill>
        <p:spPr>
          <a:xfrm>
            <a:off x="4857840" y="5929200"/>
            <a:ext cx="699840" cy="6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f83[1]"/>
          <p:cNvPicPr/>
          <p:nvPr/>
        </p:nvPicPr>
        <p:blipFill>
          <a:blip r:embed="rId6"/>
          <a:stretch/>
        </p:blipFill>
        <p:spPr>
          <a:xfrm>
            <a:off x="8143920" y="6124680"/>
            <a:ext cx="792000" cy="733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Deti83[1]"/>
          <p:cNvPicPr/>
          <p:nvPr/>
        </p:nvPicPr>
        <p:blipFill>
          <a:blip r:embed="rId7"/>
          <a:stretch/>
        </p:blipFill>
        <p:spPr>
          <a:xfrm flipH="1">
            <a:off x="5572080" y="4757760"/>
            <a:ext cx="172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extBox 3" descr=""/>
          <p:cNvPicPr/>
          <p:nvPr/>
        </p:nvPicPr>
        <p:blipFill>
          <a:blip r:embed="rId1"/>
          <a:stretch/>
        </p:blipFill>
        <p:spPr>
          <a:xfrm>
            <a:off x="324000" y="304920"/>
            <a:ext cx="6918120" cy="13046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с двумя скругленными противолежащими углами 4"/>
          <p:cNvSpPr/>
          <p:nvPr/>
        </p:nvSpPr>
        <p:spPr>
          <a:xfrm>
            <a:off x="1500120" y="2000160"/>
            <a:ext cx="6769080" cy="4391280"/>
          </a:xfrm>
          <a:prstGeom prst="pie">
            <a:avLst/>
          </a:prstGeom>
          <a:solidFill>
            <a:srgbClr val="ffffff">
              <a:alpha val="65000"/>
            </a:srgbClr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ормальном речевом  развитии практически исключены случаи  межпадежных замен, а  при дизонтогенетическом они возм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 ОНР   процесс  поиска слова  недостаточно автоматизирова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xtBox 6" descr=""/>
          <p:cNvPicPr/>
          <p:nvPr/>
        </p:nvPicPr>
        <p:blipFill>
          <a:blip r:embed="rId2"/>
          <a:stretch/>
        </p:blipFill>
        <p:spPr>
          <a:xfrm>
            <a:off x="2693880" y="5986440"/>
            <a:ext cx="5761080" cy="43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Картинка 18 из 5220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6143400" y="0"/>
            <a:ext cx="2300040" cy="316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39 из 208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500120"/>
            <a:ext cx="1257480" cy="22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Картинка 57 из 2039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2357280"/>
            <a:ext cx="1122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0:59:38Z</dcterms:created>
  <dc:creator>Олег</dc:creator>
  <dc:description/>
  <dc:language>en-US</dc:language>
  <cp:lastModifiedBy>Стрижнёва</cp:lastModifiedBy>
  <dcterms:modified xsi:type="dcterms:W3CDTF">2018-02-05T08:07:42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0104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