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7420-D810-4A9E-822A-B1302A892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5687-FB35-4563-9157-E00E659E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512E-D4C9-4CC2-AE64-FC72EF005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4DA3-1542-4505-8C53-EA36DCA63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F3B7-7A8A-4346-BB8C-2B4AAD6F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4A20-41D8-442C-AEE5-BFC100C7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2558-523F-47B1-983F-3C797B8E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C244-178C-4E43-B788-1217BB4F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6002-BAAA-4777-BEA0-F08C21C0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F19F-DD15-4325-B3F8-9C6B14E1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6B3E-E52A-4C22-9F27-A50E75BB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3A8F-B858-4976-A001-76741FFE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3EF5-1DF4-4395-9B03-F9E2724876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7" descr=""/>
          <p:cNvPicPr/>
          <p:nvPr/>
        </p:nvPicPr>
        <p:blipFill>
          <a:blip r:embed="rId1"/>
          <a:stretch/>
        </p:blipFill>
        <p:spPr>
          <a:xfrm>
            <a:off x="2335320" y="476280"/>
            <a:ext cx="5486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8" descr="C:\Users\Eldorado\Desktop\Фото садик\SAM_4369.JPG"/>
          <p:cNvPicPr/>
          <p:nvPr/>
        </p:nvPicPr>
        <p:blipFill>
          <a:blip r:embed="rId2"/>
          <a:stretch/>
        </p:blipFill>
        <p:spPr>
          <a:xfrm>
            <a:off x="539640" y="1557360"/>
            <a:ext cx="2160720" cy="1942920"/>
          </a:xfrm>
          <a:prstGeom prst="rect">
            <a:avLst/>
          </a:prstGeom>
          <a:ln w="0">
            <a:noFill/>
          </a:ln>
        </p:spPr>
      </p:pic>
      <p:sp>
        <p:nvSpPr>
          <p:cNvPr id="43" name="TextBox 10"/>
          <p:cNvSpPr/>
          <p:nvPr/>
        </p:nvSpPr>
        <p:spPr>
          <a:xfrm>
            <a:off x="5508720" y="4076640"/>
            <a:ext cx="2663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1"/>
          <p:cNvSpPr/>
          <p:nvPr/>
        </p:nvSpPr>
        <p:spPr>
          <a:xfrm>
            <a:off x="2978280" y="2395440"/>
            <a:ext cx="5381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Calibri"/>
              </a:rPr>
              <a:t>Информация: анкеты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Calibri"/>
              </a:rPr>
              <a:t>опросник,карта индивидуальных особенностей ребён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Calibri"/>
              </a:rPr>
              <a:t>Достижения: рисунки, поделки, работы де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Calibri"/>
              </a:rPr>
              <a:t>Оценки: карта наблюдений и оценки развития де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Calibri"/>
              </a:rPr>
              <a:t>Индивидуальный маршрут (ИП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14"/>
          <p:cNvSpPr/>
          <p:nvPr/>
        </p:nvSpPr>
        <p:spPr>
          <a:xfrm>
            <a:off x="539640" y="371628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Аркад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4336920" y="522360"/>
            <a:ext cx="387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Информ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2" descr="C:\Users\Eldorado\AppData\Local\Microsoft\Windows\INetCache\Content.Word\SAM_4591.jpg"/>
          <p:cNvPicPr/>
          <p:nvPr/>
        </p:nvPicPr>
        <p:blipFill>
          <a:blip r:embed="rId1"/>
          <a:stretch/>
        </p:blipFill>
        <p:spPr>
          <a:xfrm>
            <a:off x="797040" y="804960"/>
            <a:ext cx="2016000" cy="14396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3" descr="C:\Users\Eldorado\Desktop\фото для аттестации\SAM_4592.JPG"/>
          <p:cNvPicPr/>
          <p:nvPr/>
        </p:nvPicPr>
        <p:blipFill>
          <a:blip r:embed="rId2"/>
          <a:stretch/>
        </p:blipFill>
        <p:spPr>
          <a:xfrm>
            <a:off x="582480" y="299088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" descr="C:\Users\Eldorado\Desktop\фото для аттестации\SAM_4612.JPG"/>
          <p:cNvPicPr/>
          <p:nvPr/>
        </p:nvPicPr>
        <p:blipFill>
          <a:blip r:embed="rId3"/>
          <a:stretch/>
        </p:blipFill>
        <p:spPr>
          <a:xfrm>
            <a:off x="6443640" y="1557360"/>
            <a:ext cx="1944720" cy="230328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156360" y="400536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арта индивидуальных особенност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395280" y="2363760"/>
            <a:ext cx="420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нкета индивидуальных особенностей ребё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1893960" y="5016600"/>
            <a:ext cx="29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нкета для родител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3492360" y="62064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Достиж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2" descr="C:\Users\Eldorado\Desktop\аркадий хвалёнка.jpg"/>
          <p:cNvPicPr/>
          <p:nvPr/>
        </p:nvPicPr>
        <p:blipFill>
          <a:blip r:embed="rId1"/>
          <a:stretch/>
        </p:blipFill>
        <p:spPr>
          <a:xfrm>
            <a:off x="298440" y="530280"/>
            <a:ext cx="2376360" cy="23032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3" descr="C:\Users\Eldorado\Desktop\хвалёнка.jpg"/>
          <p:cNvPicPr/>
          <p:nvPr/>
        </p:nvPicPr>
        <p:blipFill>
          <a:blip r:embed="rId2"/>
          <a:stretch/>
        </p:blipFill>
        <p:spPr>
          <a:xfrm>
            <a:off x="5835600" y="320760"/>
            <a:ext cx="2592360" cy="2303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" descr="C:\Users\Eldorado\Desktop\фото для аттестации\SAM_4613.JPG"/>
          <p:cNvPicPr/>
          <p:nvPr/>
        </p:nvPicPr>
        <p:blipFill>
          <a:blip r:embed="rId3"/>
          <a:stretch/>
        </p:blipFill>
        <p:spPr>
          <a:xfrm>
            <a:off x="2978280" y="2462040"/>
            <a:ext cx="2297160" cy="171792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3203640" y="6237360"/>
            <a:ext cx="216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2627280" y="4324320"/>
            <a:ext cx="402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ертифика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бедитель в конкурсе «Новогодняя сказк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482760" y="305604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Хвалён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0"/>
          <p:cNvSpPr/>
          <p:nvPr/>
        </p:nvSpPr>
        <p:spPr>
          <a:xfrm>
            <a:off x="6692760" y="2925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Хвалён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C:\Users\Eldorado\Desktop\фото для аттестации\SAM_4599.JPG"/>
          <p:cNvPicPr/>
          <p:nvPr/>
        </p:nvPicPr>
        <p:blipFill>
          <a:blip r:embed="rId1"/>
          <a:stretch/>
        </p:blipFill>
        <p:spPr>
          <a:xfrm>
            <a:off x="826920" y="765000"/>
            <a:ext cx="2232360" cy="31687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" descr="C:\Users\Eldorado\Desktop\фото для аттестации\SAM_4595.JPG"/>
          <p:cNvPicPr/>
          <p:nvPr/>
        </p:nvPicPr>
        <p:blipFill>
          <a:blip r:embed="rId2"/>
          <a:stretch/>
        </p:blipFill>
        <p:spPr>
          <a:xfrm>
            <a:off x="6084720" y="907920"/>
            <a:ext cx="2016360" cy="29527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3" descr="C:\Users\Eldorado\Desktop\фото для аттестации\SAM_4596.JPG"/>
          <p:cNvPicPr/>
          <p:nvPr/>
        </p:nvPicPr>
        <p:blipFill>
          <a:blip r:embed="rId3"/>
          <a:stretch/>
        </p:blipFill>
        <p:spPr>
          <a:xfrm>
            <a:off x="826920" y="4076640"/>
            <a:ext cx="2305080" cy="19447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4" descr="C:\Users\Eldorado\Desktop\фото для аттестации\SAM_4600.JPG"/>
          <p:cNvPicPr/>
          <p:nvPr/>
        </p:nvPicPr>
        <p:blipFill>
          <a:blip r:embed="rId4"/>
          <a:stretch/>
        </p:blipFill>
        <p:spPr>
          <a:xfrm>
            <a:off x="3703680" y="4221000"/>
            <a:ext cx="1736640" cy="18720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5" descr="C:\Users\Eldorado\Desktop\фото для аттестации\SAM_4598.JPG"/>
          <p:cNvPicPr/>
          <p:nvPr/>
        </p:nvPicPr>
        <p:blipFill>
          <a:blip r:embed="rId5"/>
          <a:stretch/>
        </p:blipFill>
        <p:spPr>
          <a:xfrm>
            <a:off x="6227640" y="4292640"/>
            <a:ext cx="1513080" cy="201600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3564000" y="1125360"/>
            <a:ext cx="25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Мои раб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3851280" y="549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це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" descr="C:\Users\Eldorado\Desktop\фото для аттестации\SAM_4601.JPG"/>
          <p:cNvPicPr/>
          <p:nvPr/>
        </p:nvPicPr>
        <p:blipFill>
          <a:blip r:embed="rId1"/>
          <a:stretch/>
        </p:blipFill>
        <p:spPr>
          <a:xfrm>
            <a:off x="611280" y="1341360"/>
            <a:ext cx="2262240" cy="167652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539640" y="3330720"/>
            <a:ext cx="332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арта наблюдений за ребёнк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Users\Eldorado\Desktop\фото для аттестации\SAM_4611.JPG"/>
          <p:cNvPicPr/>
          <p:nvPr/>
        </p:nvPicPr>
        <p:blipFill>
          <a:blip r:embed="rId2"/>
          <a:stretch/>
        </p:blipFill>
        <p:spPr>
          <a:xfrm>
            <a:off x="6818400" y="1268280"/>
            <a:ext cx="1790640" cy="150048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/>
          <p:cNvSpPr/>
          <p:nvPr/>
        </p:nvSpPr>
        <p:spPr>
          <a:xfrm>
            <a:off x="6858000" y="2887560"/>
            <a:ext cx="197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блюдения за ребёнк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3"/>
          <a:stretch/>
        </p:blipFill>
        <p:spPr>
          <a:xfrm>
            <a:off x="3030480" y="1319040"/>
            <a:ext cx="2938680" cy="2965680"/>
          </a:xfrm>
          <a:prstGeom prst="rect">
            <a:avLst/>
          </a:prstGeom>
          <a:ln w="0">
            <a:noFill/>
          </a:ln>
        </p:spPr>
      </p:pic>
      <p:sp>
        <p:nvSpPr>
          <p:cNvPr id="73" name="TextBox 7"/>
          <p:cNvSpPr/>
          <p:nvPr/>
        </p:nvSpPr>
        <p:spPr>
          <a:xfrm flipV="1" rot="10800000">
            <a:off x="3305160" y="4281840"/>
            <a:ext cx="188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alibri"/>
              </a:rPr>
              <a:t>Наблюдение за развитием ребё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189080" y="2287800"/>
            <a:ext cx="74055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дивидуальный план обуч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Фамилия, имя ребёнка: Ступак Аркад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зраст ребёнка: 4 года 4 месяц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спитатели: Мавлембердина М.Г., Хакимова Э.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та: 03 11 2017 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ые достижения за предыдущий период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Быстро запоминает стихи и песни, активный на утреннем, вечернем круге, участвует на презентации проект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и развит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1.Формировать умение рассказывать о прошлых впечатления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2.Упражнять воспроизводить логические последовательност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Облако 5"/>
          <p:cNvSpPr/>
          <p:nvPr/>
        </p:nvSpPr>
        <p:spPr>
          <a:xfrm>
            <a:off x="1816200" y="874800"/>
            <a:ext cx="4232160" cy="1098360"/>
          </a:xfrm>
          <a:prstGeom prst="pi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Индивидуальный маршру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201680" y="1428840"/>
          <a:ext cx="6610320" cy="4064040"/>
        </p:xfrm>
        <a:graphic>
          <a:graphicData uri="http://schemas.openxmlformats.org/drawingml/2006/table">
            <a:tbl>
              <a:tblPr/>
              <a:tblGrid>
                <a:gridCol w="3780000"/>
                <a:gridCol w="2830320"/>
              </a:tblGrid>
              <a:tr h="4064040">
                <a:tc>
                  <a:txBody>
                    <a:bodyPr lIns="43200" rIns="43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Индивидуальная работа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задавать наводящие вопросы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вопросы-подсказки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составлять небольшие рассказы об игрушке, по картине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побуждать рассказывать о выходном дне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привлечь в ситуативный разговор в режимные моменты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Индивидуальная работа в центре математики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«продолжи ряд»;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	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«поставь по порядку»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«назови предмет в ряду»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«что лишнее?» и «почему?»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«что сначала, что потом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Предложить родителям попросить ребёнка рассказать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что он делал в саду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с кем и в какие игры играл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что происходило по дороге домой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	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Индивидуальные листы с заданием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обрести рабочие листы с заданием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Rectangle 1"/>
          <p:cNvSpPr/>
          <p:nvPr/>
        </p:nvSpPr>
        <p:spPr>
          <a:xfrm>
            <a:off x="1763640" y="621720"/>
            <a:ext cx="583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ратегии (действия)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 детском саду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Дом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9T12:46:22Z</dcterms:created>
  <dc:creator>Инна</dc:creator>
  <dc:description/>
  <dc:language>en-US</dc:language>
  <cp:lastModifiedBy>Eldorado</cp:lastModifiedBy>
  <dcterms:modified xsi:type="dcterms:W3CDTF">2018-02-03T12:04:29Z</dcterms:modified>
  <cp:revision>17</cp:revision>
  <dc:subject/>
  <dc:title>Презентация PowerPoint</dc:title>
</cp:coreProperties>
</file>