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C31-55EB-4CF8-9820-9807C0BB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C68-9F9F-42E2-90D6-B588DAD6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F23-2FC0-4402-811C-ED7FF669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E9F-8A6E-4E4E-AC40-36559A49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98FD-DC62-4FAD-B594-FBBD3FC0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EC36-8916-4AF8-A6CF-296BBD9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5CB4-8AA6-4BE6-8367-2ADB29FA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B82F-39B3-49A1-9365-DDDDDF0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4138-B698-4EDF-913D-71EFFB8F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2C59-040E-4957-9784-8EC55A46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95D8-3703-473C-B3AA-45C77A19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BEA-944D-4137-9A88-BC1FE847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DC13-E53F-4462-8AD5-E99F6092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D50B-AA32-4D98-A515-DA68919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D5B3-BACB-4B90-9A10-80078D0F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C61B-3287-43F5-A7E0-EEFF3211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588B-A017-4160-AA19-F3EFB3D5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4D6-9CD0-484D-9FF8-4DF840FB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A32-1FAF-4CE3-9C8F-E9C092B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72E-D461-4D3B-AB30-4C74F2AA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9FC-AA74-4B8E-95C0-A5CC5FEF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022-D76B-4AFB-9AC3-3EE3EF1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1A1-F454-4B73-B175-B473C56F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8DC-79AD-4921-B8A7-27157EB5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A744-DF39-46C1-B0A7-5B71CD9ADEE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B7B-9612-4F0F-B0D8-9DACFBBE5BA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327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br>
              <a:rPr sz="1600"/>
            </a:b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«Центр развития ребёнка – </a:t>
            </a:r>
            <a:br>
              <a:rPr sz="1600"/>
            </a:b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детский  сад № 181»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РЕЗЕНТАЦИЯ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Сценарий  развлечения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ЕНЬ МАТЕРИ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Воспитатели: </a:t>
            </a:r>
            <a:br>
              <a:rPr sz="2400"/>
            </a:b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Шаптала А.И.,</a:t>
            </a:r>
            <a:br>
              <a:rPr sz="2400"/>
            </a:b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Абакумова Е.А.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f7d47d"/>
                </a:solidFill>
                <a:latin typeface="Arial"/>
              </a:rPr>
              <a:t>2017-2018  уч. год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  мам и детей "Весёлые пенгвинчики"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572000" cy="3430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716360" y="3465360"/>
            <a:ext cx="4427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гра «Покрутить обруч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788000" y="3537000"/>
            <a:ext cx="40496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гра «Попрыгать на прыгалке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26828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211640" y="3070080"/>
            <a:ext cx="4770360" cy="35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гра «Отбивать мяч одной рукой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1628640"/>
            <a:ext cx="4572000" cy="3430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356000" y="3232080"/>
            <a:ext cx="45547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тихотворение про бабушк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Бабушка наша очень добр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   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Бабушка наша стала стара.                             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  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Много морщинок у бабушки наш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 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С ними она ещё лучше и краше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032360" y="2490840"/>
            <a:ext cx="36176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ети поют песню для бабушки «Молодая бабушка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16000" y="1768320"/>
            <a:ext cx="55436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Дети поют частушк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2133720"/>
            <a:ext cx="36162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Оля с мамой поругалась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Села в угол и ревет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Пусть меня обратно аис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В своем клюв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забер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5473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амодеятельность родителей на празднике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59054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27160"/>
            <a:ext cx="7372080" cy="17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Мы наш праздник завершаем,</a:t>
            </a:r>
            <a:br>
              <a:rPr sz="3200"/>
            </a:b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     милым мамам пожелаем, чтобы мамы не старели,  молодели, хорошели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2360520"/>
            <a:ext cx="3616200" cy="33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Есть в природе знак святой и вещи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     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Ярко обозначенный в веках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Самая прекрасная из женщин 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    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Женщина с ребенком на рук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032360" y="249084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Дети приготовили портреты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своих мам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788000" cy="3592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356000" y="3230640"/>
            <a:ext cx="45547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орогие наши мамы!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997360"/>
            <a:ext cx="4032360" cy="3303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7527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игласили всех на сладкий сто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3280" y="3249720"/>
            <a:ext cx="4338720" cy="3252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тография на памя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48400" cy="17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пасибо вам за доброе сердце, за желание побыть с детьми, дарить им душевное тепло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9640" y="2008080"/>
            <a:ext cx="590400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рисованные портреты мам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Под музыку «Мама – первое слово» дети входят в за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62412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Под празднично-торжественную музыку, в красиво-украшенную групповую комнату  ,где полукругом на стульчиках сидели нарядные мамы- входят ребята подготовительной групп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132000" y="253836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едущая поздравляет всех мам с празднико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  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Сегодня, в « День Матери» мы приветствуем вас в нашем садике и хотим порадовать своими выступлениями А подготовили их ваши самые дорогие, самые родные, самые любимые, самые очаровательные дети.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924360" y="1413000"/>
            <a:ext cx="38908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АССКАЗЫВАЮТ  СТИ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268280"/>
            <a:ext cx="36162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Ребёнок 1           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Что такое мама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 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Это яркий свет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  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Это много зна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   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Ужин и обед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  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Ребёнок 2        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Что такое мама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Веселье, радость, смех                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Мама, как сердечк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А сердце есть у всех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Ребёнок 3      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     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Что такое мама? 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      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Это как сте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        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Защитит от драмы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          </a:t>
            </a:r>
            <a:r>
              <a:rPr b="1" lang="en-US" sz="1600" spc="-1" strike="noStrike">
                <a:solidFill>
                  <a:srgbClr val="f7d47d"/>
                </a:solidFill>
                <a:latin typeface="Arial"/>
              </a:rPr>
              <a:t>Папу и мен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43280" y="1515960"/>
            <a:ext cx="54007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Дети поют песню  «Нужные слова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208160"/>
            <a:ext cx="4140360" cy="3106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211640" y="340200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Приглашают двух мам, предлагают запеленать куклу кто быстрее  и спеть для нее колыбельную, как пели когда-то вы своим малыша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3520" y="1971720"/>
            <a:ext cx="4308480" cy="3232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41767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Мальчики танцуют танец  «Сердце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3295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1T17:09:10Z</dcterms:created>
  <dc:creator>Admin</dc:creator>
  <dc:description/>
  <dc:language>en-US</dc:language>
  <cp:lastModifiedBy>Admin</cp:lastModifiedBy>
  <dcterms:modified xsi:type="dcterms:W3CDTF">2018-02-06T18:14:07Z</dcterms:modified>
  <cp:revision>8</cp:revision>
  <dc:subject/>
  <dc:title>Слайд 1</dc:title>
</cp:coreProperties>
</file>