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C6D-7D4A-4C07-80D8-AF97D1F8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F3E-811B-4440-A43D-E87E37AC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A62-C9BB-41CE-912D-5B77FDC8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932-211E-48CB-97FF-744E934E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4EE-2D43-46C0-8E38-E61FA62C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AE2-928E-48D9-A777-2E65A547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399-DF74-4950-88C6-435DF9A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5AF-457A-4190-92A1-8BD08007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526-2A75-4B26-AAEE-89C6B80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613-489A-43E4-8F7B-91C7917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8C6-1B5F-4A4B-A1ED-D1FA1C8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AF2-E748-4CE1-86DC-40810FF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A01-6AA4-4DE5-810F-A77375013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омайская средняя общеобразовательная школа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мбирского муниципального района Республики Мордовия</a:t>
            </a:r>
            <a:br>
              <a:rPr sz="18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ий семинар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еализация метапредметного подхода на уроках технологии в условиях  федеральных государственных образовательных стандартов общего образова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амаев Д.А., учитель технологии МО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Первомай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303030"/>
                </a:solidFill>
                <a:latin typeface="Times New Roman"/>
              </a:rPr>
              <a:t>Актуальность данной проблемы заключает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 в освоении новых технологий организации деятельности уче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 в формах и методах обеспечения мотивационной готовности учителей к повышению своего профессионального масте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 в формировании и развитии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 в новых подходах к системе оценки достижения планируемых результатов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413000"/>
            <a:ext cx="8218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предметного подхо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бразовании - попытка осторожно, постепенно, без всяких резких революционных реформ развернуть образование навстречу новым потребностям и новым вызовам, вызовам уже не XVII, а именно XXI 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а ГРОМЫКО, заместитель директора НИИ ИСРОО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303030"/>
                </a:solidFill>
                <a:latin typeface="Times New Roman"/>
              </a:rPr>
              <a:t>Задачи для формирования метапредметных навыков у обучающих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совершенствовать собственную методику преподавания технологии в рамках метапредметных технологий путем повышения квалификации и изучения теоретическ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вооружить учащихся комплексной системой учебных умений для формирования и развития универсальных учебных действ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учить самостоятельно находить и видеть  задачу в окружающей действительности и решать её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развивать у учащихся – речь, память, внимание, воображение, восприятие, творческое мыш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Ю. В. Громыко в своих работах выделяет ряд следующих метапредмет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4920" y="3341160"/>
            <a:ext cx="806436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Знак       Знание       Задача    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низ 4"/>
          <p:cNvSpPr/>
          <p:nvPr/>
        </p:nvSpPr>
        <p:spPr>
          <a:xfrm>
            <a:off x="2935440" y="247824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низ 5"/>
          <p:cNvSpPr/>
          <p:nvPr/>
        </p:nvSpPr>
        <p:spPr>
          <a:xfrm>
            <a:off x="4875120" y="2363760"/>
            <a:ext cx="486000" cy="977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6"/>
          <p:cNvSpPr/>
          <p:nvPr/>
        </p:nvSpPr>
        <p:spPr>
          <a:xfrm>
            <a:off x="1233360" y="2478240"/>
            <a:ext cx="486000" cy="977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низ 7"/>
          <p:cNvSpPr/>
          <p:nvPr/>
        </p:nvSpPr>
        <p:spPr>
          <a:xfrm>
            <a:off x="6983280" y="2363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 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Знак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70028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дания: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пользуя свои знания из курса информатики и навыки работы с компьютером, нарисуйте при помощи составляющей программы «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ord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блон декоративной тарелки с обозначением основных размер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процесс 3"/>
          <p:cNvSpPr/>
          <p:nvPr/>
        </p:nvSpPr>
        <p:spPr>
          <a:xfrm>
            <a:off x="395280" y="1700280"/>
            <a:ext cx="8353440" cy="18000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реализуется при записи условно-графическими изображениями технологических операций и выполнении графических раб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 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Зн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задания: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Преобразуйте теоретический материал раздела учебника ««Семейный бюджет. Расходная и доходная части бюджета» для экономических условий вашей семь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процесс 5"/>
          <p:cNvSpPr/>
          <p:nvPr/>
        </p:nvSpPr>
        <p:spPr>
          <a:xfrm>
            <a:off x="395280" y="1700280"/>
            <a:ext cx="8353440" cy="17287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реализуется при изучении всех разделов курса, он обучает умению систематизировать информацию, переводить её на уровень понимания для практического использован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 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Задач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3068640"/>
            <a:ext cx="82915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задания: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Вася сбил и повесил скворечник, но в него забрался кот. Возможно ли переделать конструкцию скворечника так, чтобы кот не смог проникать внутрь, но это не являлось бы препятствием для птиц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процесс 3"/>
          <p:cNvSpPr/>
          <p:nvPr/>
        </p:nvSpPr>
        <p:spPr>
          <a:xfrm>
            <a:off x="395280" y="1628640"/>
            <a:ext cx="8424720" cy="144000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реализуется при необходимости объяснить непонятное явление, выявить его причины или когда  требуется что-нибудь придумать (изобрести), а также найти выход из нестандартной (проблемной) ситу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 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Пробле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2708280"/>
            <a:ext cx="8291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задания: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При создании сувенира необходимо соединить элементы мордовской культуры и символику Чемпионата мира по футболу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FIFA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2018”.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Как нам это сделать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процесс 3"/>
          <p:cNvSpPr/>
          <p:nvPr/>
        </p:nvSpPr>
        <p:spPr>
          <a:xfrm>
            <a:off x="395280" y="1557360"/>
            <a:ext cx="8353440" cy="10796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реализуется через проектную дея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новационность предложенных методических нарабо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ается в целенаправленном внедрении в образовательный процесс новых технологий, способствующих эффективному обучению школьников посредством метапредметного под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ные результаты образования школьников являются важными, в первую очередь, для формирования у них универсальных способов познания объективной действительности вне зависимости от ее предметной принадл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59767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Голова, наполненная отрывочными, бессвязными знаниями, похожа на кладовую, в которой все в беспорядке и где сам хозяин ничего не отыщет; голова, где только система без знаний, похожа на лавку, в которой на всех ящиках есть надписи, но в ящиках пусто»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487600" cy="2779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504720" y="501336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ам того не подозревая, в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XIX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еке Ушинский обращает внимание на проблему, которая стала очень актуальной в свете направлений разработки ФГОС второго поко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онцепции ФГОС требования к результатам освоения основных общеобразовательных программ, которые структурируются по ключевым задачам общего образования, включаю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08720" y="2133720"/>
            <a:ext cx="3349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Выгнутая влево стрелка 4"/>
          <p:cNvSpPr/>
          <p:nvPr/>
        </p:nvSpPr>
        <p:spPr>
          <a:xfrm flipH="1">
            <a:off x="6732000" y="2201760"/>
            <a:ext cx="1368360" cy="107316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123120 h 1073160"/>
              <a:gd name="textAreaBottom" fmla="*/ 637920 h 107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4961" stAng="-5400000" swAng="-5400000"/>
                <a:lnTo>
                  <a:pt x="0" y="10362"/>
                </a:lnTo>
                <a:arcTo wR="21600" hR="4961" stAng="10800000" swAng="-2937518"/>
                <a:lnTo>
                  <a:pt x="17365" y="21504"/>
                </a:lnTo>
                <a:lnTo>
                  <a:pt x="21600" y="12623"/>
                </a:lnTo>
                <a:lnTo>
                  <a:pt x="17365" y="3549"/>
                </a:lnTo>
                <a:lnTo>
                  <a:pt x="17365" y="9826"/>
                </a:lnTo>
                <a:arcTo wR="21600" hR="4961" stAng="7862482" swAng="2428903"/>
                <a:lnTo>
                  <a:pt x="3481" y="7662"/>
                </a:lnTo>
                <a:arcTo wR="21600" hR="4961" stAng="-10291385" swAng="4891385"/>
                <a:close/>
              </a:path>
              <a:path fill="darkenLess" w="21600" h="21600">
                <a:moveTo>
                  <a:pt x="21600" y="0"/>
                </a:moveTo>
                <a:arcTo wR="21600" hR="4961" stAng="-5400000" swAng="-5400000"/>
                <a:lnTo>
                  <a:pt x="0" y="4961"/>
                </a:lnTo>
                <a:arcTo wR="21600" hR="4961" stAng="10800000" swAng="-508615"/>
                <a:lnTo>
                  <a:pt x="3481" y="7662"/>
                </a:lnTo>
                <a:arcTo wR="21600" hR="4961" stAng="-10291385" swAng="489138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ыгнутая влево стрелка 5"/>
          <p:cNvSpPr/>
          <p:nvPr/>
        </p:nvSpPr>
        <p:spPr>
          <a:xfrm>
            <a:off x="755640" y="2205000"/>
            <a:ext cx="1440000" cy="107316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168840 h 1073160"/>
              <a:gd name="textAreaBottom" fmla="*/ 775440 h 107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06" stAng="-5400000" swAng="-5400000"/>
                <a:lnTo>
                  <a:pt x="0" y="12206"/>
                </a:lnTo>
                <a:arcTo wR="21600" hR="6806" stAng="10800000" swAng="-3537293"/>
                <a:lnTo>
                  <a:pt x="17575" y="21481"/>
                </a:lnTo>
                <a:lnTo>
                  <a:pt x="21600" y="16312"/>
                </a:lnTo>
                <a:lnTo>
                  <a:pt x="17575" y="10905"/>
                </a:lnTo>
                <a:lnTo>
                  <a:pt x="17575" y="13493"/>
                </a:lnTo>
                <a:arcTo wR="21600" hR="6806" stAng="7262707" swAng="3072024"/>
                <a:lnTo>
                  <a:pt x="1772" y="9506"/>
                </a:lnTo>
                <a:arcTo wR="21600" hR="6806" stAng="-10334731" swAng="4934731"/>
                <a:close/>
              </a:path>
              <a:path fill="darkenLess" w="21600" h="21600">
                <a:moveTo>
                  <a:pt x="21600" y="0"/>
                </a:moveTo>
                <a:arcTo wR="21600" hR="6806" stAng="-5400000" swAng="-5400000"/>
                <a:lnTo>
                  <a:pt x="0" y="6806"/>
                </a:lnTo>
                <a:arcTo wR="21600" hR="6806" stAng="10800000" swAng="-465269"/>
                <a:lnTo>
                  <a:pt x="1772" y="9506"/>
                </a:lnTo>
                <a:arcTo wR="21600" hR="6806" stAng="-10334731" swAng="493473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низ 6"/>
          <p:cNvSpPr/>
          <p:nvPr/>
        </p:nvSpPr>
        <p:spPr>
          <a:xfrm>
            <a:off x="4165560" y="2322360"/>
            <a:ext cx="485640" cy="181620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755640" y="3541680"/>
            <a:ext cx="294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чност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059280" y="3957480"/>
            <a:ext cx="313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предме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6195960" y="3676680"/>
            <a:ext cx="20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Мет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1700280"/>
            <a:ext cx="8218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 древнегреческого – означае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“стоящее за”, “через”, “над”,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о есть выход за рамки собственно предме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апредм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00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чебный предмет нового типа, в основе которого лежит мыследеятельностный тип интеграции учебного матери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апредметный подход – эт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ередача обучающимся деятельностных способов работы со знаниями и деятельностных единиц содерж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хорошее знание своего предмета, что позволяет деятельностно осмыслить учебный материал и заново его интерпретировать с точки зрения деятельностных единиц содерж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риентация на развитие у школьников базовых способностей (мышления, воображения, способности к целеполаганию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метапредметным подход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Это интегрированное заня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еятельность  учащихся организуется не с целью передачи им знаний, а с целью им передачи способов работы со зна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Содержание составляют деятельностные единицы, носящие универсальный характер:  понятия, модели, схемы, задачи, проблемы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истемная работа со способ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 с метапредметным подход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280" y="2133720"/>
            <a:ext cx="8147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чностное совершенствование учащегося через его познавательное развит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учёные, разрабатывающие идеи метапредметного подхо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571840" cy="307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338640" y="1989000"/>
            <a:ext cx="240192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5945040" y="1606680"/>
            <a:ext cx="2646360" cy="3498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24000" y="4729320"/>
            <a:ext cx="27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Г. Асмолов, д.пс.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976480" y="5560920"/>
            <a:ext cx="29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В. Хуторской, д.п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790600" y="514656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Ю.В. Громыко, д.ф.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Пользователь</cp:lastModifiedBy>
  <dcterms:modified xsi:type="dcterms:W3CDTF">2017-03-08T20:25:11Z</dcterms:modified>
  <cp:revision>32</cp:revision>
  <dc:subject/>
  <dc:title>Презентация PowerPoint</dc:title>
</cp:coreProperties>
</file>