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B61-650F-48CE-819D-94F79784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28A-E9E6-4133-BC63-1E58119B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D69-1D20-4246-852D-0E3DE6F5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40E-977D-4096-8F5C-26758413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93B5-829E-4C1E-B03A-9AA74CEF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0814-52BD-4228-9071-866B53CC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7BD3-6A31-4A1E-8FF5-CF066197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68E-068E-47FD-86B1-97869462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A06C-13B0-4112-B760-BF55186A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35EA-37B7-4ECE-AF90-D0BF143A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B33F-19EF-4B0D-A427-5DD82B36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BBE-8E78-4CB7-BD34-EB57881F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8AD2-F402-4C96-9E98-D2DDB176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477B-2F86-4447-B52C-437EE15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9A20-F8B6-4AF9-B68D-FA8BDB2D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B049-AB08-4E3F-8C53-498FB355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2274-0114-4AE2-92EC-FE3103B6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D55-4E46-41DC-AF4A-DDED7916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D32-4048-4504-94A6-D42F3480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6DE-019F-42B5-B9B8-EC5CB8C2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F24-87E2-4056-8596-DA2A14D5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EAA-E721-4D5F-9613-544C5C0E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7F4-C91E-43BC-8187-E9D1228A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E03-6B02-4676-9A9C-58972AA4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93BA-4B14-4963-8A58-9E2E81D009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089F-7C31-4247-BCCC-B0A1945E85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44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Физическое развитие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и формирование правил здорового образа жизни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у детей дошкольного возраста в условиях введения ФГОС дошкольного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ультура здоровья  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еобходим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тот уровень культуры, без освоения которого вообще невозможно говорить о нормах отношения ребенка к себе и окружающим. К этому уровню можно отнести, например, гигиенические навыки, навыки самообслуживания, навыки общения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елательный уровен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этому уровню целесообразно отнести навыки и умения, на приобретение которых детьми направлены все разделы работы, осуществляемой в дошкольном учреждении в рамках образовательной программы: музыкальная культура, художественная культура, физическая культура, экологическая культура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ариативный уровен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этому уровню относятся виды индивидуального культурного предпочтения, которые, как правило, реализуются через систему дополнительного образования: музыкальных, художественных, спортивных школах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изическое воспитани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едагогическая система, направленна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форм и функций организма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двигательных умений, навыков,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физических кач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ивычек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инципы  физического воспит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нцип оздоровительной направл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беспечение рационального общего и двигательного режима, создание оптимальных условий для чередования двигательной и познавательной актив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Принцип разностороннего и гармоничного развития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ражается в комплексном решении задач физического, умственного, социально-нравственного, художественно-эстетического воспитания, взаимосвязи физической культуры с жиз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ринцип гуманизации и демократизаци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абота с детьми на основе личностно-ориентированного под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ринцип индивидуал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гибкого режима дня и режима в процессе проведения занятий, учитывая индивидуальные особенности кажд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инцип возрастной адекватности физических 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ринцип постепенного наращивания развивающе-тренирующих воз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ринцип единства с сем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Принцип непреры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омпоненты физического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лесный 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развитие и коррекцию физических данных ребенка: выносливости, координации, силы, быстроты, гиб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теллектуальный 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правлен на развитие познавательных процессов; на овладение элементарными знаниями: техники выполнения различных движений, анатомического строения человека, правил гигиены, закаливания, сохранения и укрепления здоровья; на знакомство с различными видами физкультурно-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уховно-мировоззренческий компон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формирование у детей навыков здорового образа жизни, заинтересованности и потребности в систематических занятиях физическими упражнениями, закаливающих процедурах для дальнейшей самореализации в учебной, спортивной, трудовой, обще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Методы физического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глядные 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имитация (подражание), демонстрация способов выполнения физических упражнений, использование наглядных пособий (рисунки, фотографии, видеофильмы), использование зрительных ориентиров, звуковых сигнал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ловесные 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писание, объяснение, комментирование упражнений, указания, распоряжения вопросы к детям, команды, беседы, чтение, рассказы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ктические 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ыполнение движений, повторение упражнений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редства физического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Гигиен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жим занятий, отдыха, сна и питания, гигиена помещения, площадки, одежды, спортивного инвентар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Естественные силы прир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( солнце, воздух, в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Физически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беспечивают удовлетворение естественной биологической потребности детей в движении, способствуют формированию двигательных умений и навык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Система организации здровьесберегающей среды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нормативно-правовых док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здоровьесберегающей среды в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показателей физического развития, двигательной подготовленности, объективных и субъективных критериев здоровья методами диагно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благоприятного течения адап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программы по физическому воспит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индивидуальных планов оздоровления на груп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емственность со шко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оспитателей по самообразо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сангигиенического реж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здоровьесберегающи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ная модель стратегии и тактики работы воспитателя с родителя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1 этап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Ознакомитель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бор информации (собеседование, анкетирование, наблюден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еление группы риска (по результатам исследова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2 этап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Общепрофилактичес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глядная агитация (стенды, памятки, печать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ечи со специалис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3 этап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Работа с группой рис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проблем (беседы, наблюдения, тесты, опрос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рекция родительских установок (тренинги, бесед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4 этап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Индивидуальная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, знакомство с опытом семейного воспитания (выступление в печати, на радио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ультативная индивидуальная помощь (по запроса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5 этап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Рефлекс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изменений родительских установок в группе риска (беседы, наблюд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ительное обсуждение отдельных вопросов (с привлечением специалист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6 этап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Интегр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ые мероприятия (с привлечением группы рис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уссии (совместное обсуждение пробле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7 этап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Перспек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местное обсуждение планов на будущ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98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98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98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98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98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98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98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98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98" fill="hold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98" fill="hold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98" fill="hold"/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98" fill="hold"/>
                                        <p:tgtEl>
                                          <p:spTgt spid="1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98" fill="hold"/>
                                        <p:tgtEl>
                                          <p:spTgt spid="1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98" fill="hold"/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Здоровьесберегающие педагогические технологии</a:t>
            </a:r>
            <a:br>
              <a:rPr sz="40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(А.М. Сивцова)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Технологии сохранения и стимулирования здоровь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тчин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тмопласт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еские пау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ые и спортив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акс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пальчико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для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дыхатель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бодрящ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коррегирующ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ортопед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тотерап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омотерап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ые процед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воздушные ван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9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98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98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98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98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98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98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98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98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98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98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98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98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98" fill="hold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98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a00"/>
                </a:solidFill>
                <a:latin typeface="Arial"/>
              </a:rPr>
              <a:t>Единственная красота, которую я знаю, - это здоров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енрих Гей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быть здоровым, нужны собственные усилия, постоянные и значительные, и заменить их нельзя ниче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.М. Ам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2. Технологии обучения здоровому образу жи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ное занят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отренинги и игротерап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тивные иг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из серии «Здоровь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масс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ечный самомасса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ческая обратная связь (БО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9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98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98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98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98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98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98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98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98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Коррекционные техноло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ттерап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отерап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отерап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терап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гимнаст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ая ритм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98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98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98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98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98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ценка эффективности организации форм оздоровительно-воспитательной деятельности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a00"/>
                </a:solidFill>
                <a:latin typeface="Arial"/>
              </a:rPr>
              <a:t>Критер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физкультурные мероприятия (двигательный режим) должны составлять не менее 50% периода бодрств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культурное занятие должно быть основной формой обучения и дозированной тренировки систем и функций орган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ученные движения для закрепления и совершенствования должны быть перенесены в повседневные формы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двигательная деятельность детей должна быть одним из основных критериев степени овладения двигательными уме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у процесса физического воспитания должен быть положен индивидуальный и дифференцированный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физкультурно-оздоровительная работа должна проводиться в тесном единстве с сем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98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98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898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98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898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898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Физическая куль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здействует непосредственно на жизненно важные качества, возможности и способности человека, которые получены в виде задатков от природы, передаются по наследству и развиваются в течение жизни поколений под влиянием условий жизни, деятельности и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52280" y="4724280"/>
            <a:ext cx="2381400" cy="20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Физическое разви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оцесс формирования и последующего изменения естественных форм и функций организма ребенка и основанных на них физически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физическое развитие предполагает развитие физических качеств (ловкость, быстрота, сила, выносливость, гибкость) и двигательных способностей (координация и глазоме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7720" y="274680"/>
            <a:ext cx="807732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Федеральный государственный стандарт дошкольного образования обозначает целевые ориенти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у ребенка развита крупная и мелкая моторика. Он может контролировать свои движения и управлять ими, обладает развитой потребностью бегать, прыгать…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владение элементарными нормами и правилами здорового образа жизни (в питании, двигательном режиме, закаливании, при формировании полезных привычек и др.)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обретение опыта в следующих видах деятельности: двигательной, в том числе в основных движениях (ходьбе, беге, прыжках, лазанье и др.), а также при катании на самокате, санках, велосипеде, ходьбе на лыжах, в спортивных играх»; «Ребенок может следовать … правилам безопасного поведения и личной гигие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«Я не боюсь еще и еще раз повторить: забота о здоровье –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26665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ЗДОРОВЬ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a00"/>
                </a:solidFill>
                <a:latin typeface="Arial"/>
              </a:rPr>
              <a:t>это состояние полного физического, психического и социального благополучия, а не просто отсутствие болезней или физических дефе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емирная организация здравоохра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209680" y="0"/>
            <a:ext cx="3384720" cy="27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ФГОС дошкольного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«Стандарт решает 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охраны и укрепления физического и психического здоровья детей; ... создание среды, которая гарантирует охрану и укрепление физического и психического здоровья воспитанн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«здоровье физическое»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совершенство саморегуляции в организме, максимальная адаптация к окружающей сре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«здоровье психическое»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высокое сознание, развитое мышление, большая внутренняя и моральная сила, побуждающая к созидатель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«здоровье социальное»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моральное самообладание, адекватная оценка своего «Я», самоопределение личности в оптимальных условиях микро-, и макросреды (семье, школе, социальной групп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стояние здоровь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временных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ЗДОРОВЫХ – от 3-5 до 1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Хронические заболевания почти у 50 % до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ждые 5-7 лет распространенность нервно-психических заболеваний увеличивается на 10-1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Девиантные формы поведения встречаются у 30%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От чего зависит здоров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457200" y="1461960"/>
            <a:ext cx="822960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браз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ет три категории: уровень жизни, качество жизни и стиль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ровень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тепень удовлетворения материальных, культурных и духовных потребностей (в основном это экономическая категор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чество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ется комфортом удовлетворения человеческих потребностей (преимущественно социологическая категор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тиль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еденческая особенность жизни человека, т.е. определенный стандарт, под который подстраивается личность (личностная категор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3-12-09T04:44:58Z</dcterms:modified>
  <cp:revision>23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