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730-985F-4F67-AC9D-DDBBCD0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F58-0234-4ABE-B370-7344DBC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A63-7C47-4F70-905B-1BEBB093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E41-5F40-4165-8B06-DAB87B03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B468-33A3-4F59-9458-F28C806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CE2-FC3F-4A75-B509-878D4146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40D-2D48-41AB-9FD2-92434C0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92A4-D359-481C-9DC4-3F276454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5D82-07C8-4EF4-870B-2D72154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4CE-FC4D-41DD-B7FA-B71ACAE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6D9B-B878-46BD-B7F8-8E2CDEE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C95-2295-4A66-9AE8-B0D6F0F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B487-5247-458C-97D1-4AC7290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9F5-5122-4F85-A860-F3766A5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6186-C870-4ED4-805A-250DC9E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FCD3-58F3-4972-864F-BDBDDD3F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B4E6-F219-47D7-9FDE-074D6B57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B0A5-1C34-4FB3-AC8E-5F26E194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C568-BAC7-467B-B4D3-3F4D230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7738-E724-4BC9-9984-9CE0779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F483-4BB4-4E12-8DAF-3F413513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401D-61BB-42C6-AB94-34B7B71F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09C-2764-4E68-9BE1-FD6CD23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2486-7953-4EE9-9A12-C47A483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AD52-BA0B-470A-A043-E3FD6C7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E78B-086F-4866-8385-C3C113A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5203-272A-4538-9CC8-EF7FECD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F961-D983-4FBD-89DD-5FD7B29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FA54-6E39-4019-90AB-D0141173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7779-F919-4238-BE2C-CAD10EC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EBB1-8182-4FA0-9009-048CD311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BAB5-F8BC-4A83-8592-F204CD5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62B1-B908-4E5D-80EF-1BD171F8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863-EF90-47F1-9606-7A58800E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140C-83D0-4956-BC96-3045790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0F61-E70D-4D56-B3DF-90A34C4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BD46-4248-4133-9B3F-8094ECA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9F45-7762-4A4E-BF89-F97D9C9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4264-AF6C-4B86-AA57-AA4118D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ACD2-0399-46F1-9AEA-E3A2CDE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4290-7060-4F65-96FA-F2B71A2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04F3-8607-47FE-AEB9-F5FBBB06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D457-0697-43A0-AE8C-09DABF84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4DC-CE9D-4A1D-B36E-6F2AA489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482-CD50-423F-BF72-E2A69A32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26D-7504-4782-9C91-F5D291D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B23-6FB6-4EE5-92DB-0766DA4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52D-B8B9-49F9-9803-96B4D7B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2D3-49A9-48F3-9EEE-43E93D95145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8AE-5781-46DD-817E-82DADFB8CB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0B5-D77A-4846-88F9-6E94499E36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198-F1DB-4336-BB53-651CB80C88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822240" y="755640"/>
            <a:ext cx="7662960" cy="520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94920" y="907920"/>
            <a:ext cx="820908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212745"/>
                </a:solidFill>
                <a:uFillTx/>
                <a:latin typeface="Calibri"/>
              </a:rPr>
              <a:t>с учетом времени на промежуточную аттестацию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 экзамен  по учебной дисциплине, междисциплинарному курсу;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 комплексный экзамен по двум или нескольким учебным дисциплинам, междисциплинарным курсам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212745"/>
                </a:solidFill>
                <a:uFillTx/>
                <a:latin typeface="Calibri"/>
              </a:rPr>
              <a:t>без учёта времени на промежуточную аттестацию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 зачет,  дифференцированный зачет с оценкой по учебной дисциплине, междисциплинарному курсу;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 дифференцированный зачет с оценкой по курсовой работе (проекту);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  квалификационный экзамен по профессиональному модулю;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Calibri"/>
              </a:rPr>
              <a:t>-дифференцированный зачет с оценкой по всем видам практик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317520" y="334800"/>
            <a:ext cx="843588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138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</a:t>
            </a:r>
            <a:r>
              <a:rPr b="1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омежуточная  аттестация по основным </a:t>
            </a:r>
            <a:r>
              <a:rPr b="1" lang="ru-RU" sz="2600" spc="-1" strike="noStrike" u="sng">
                <a:solidFill>
                  <a:srgbClr val="212745"/>
                </a:solidFill>
                <a:uFillTx/>
                <a:latin typeface="Times New Roman"/>
                <a:ea typeface="Times New Roman"/>
              </a:rPr>
              <a:t>общеобразовательным программам</a:t>
            </a:r>
            <a:r>
              <a:rPr b="1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среднего общего образования проводится в форме обязательных письменных экзаменов по математике и русскому языку и одного устного экзамена по профильной дисциплине общеобразовательного цикла, которая выбирается обучающимися или образовательным учреждением.</a:t>
            </a:r>
            <a:r>
              <a:rPr b="0" lang="ru-RU" sz="2600" spc="-1" strike="noStrike" u="sng">
                <a:solidFill>
                  <a:srgbClr val="212745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 остальным дисциплинам общеобразовательного цикла проводятся З и ДЗ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стный экзамен </a:t>
            </a: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 профильной дисциплине проводится в традиционной форме – по билетам. Перечень экзаменационных вопросов, содержание экзаменационных билетов, практических заданий для устного экзамена преподаватель разрабатывает самостоятельно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ифференцированный зачет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орму проведения преподаватель определяет самостоятельно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оставлении заданий для промежуточной аттестации рекомендуется использовать контрольно-оценочные средства  разработанные самим преподавателем.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749160" y="353880"/>
            <a:ext cx="824256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6836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язательной формой промежуточной аттестации по профессиональным модулям является квалификационный экзамен, который проводится в последнем семестре освоения программ ПМ и представляет собой форму независимой оценки результатов обучения с участием работодателей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ем допуска к Квалификационному экзамену является успешное освоение обучающимися всех элементов программы ПМ (МДК и предусмотренных практик)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омежуточная аттестация по учебной / производственной практике в рамках освоения программ профессиональных модулей осуществляется в форме дифференцированного зачет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66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39640" y="115920"/>
            <a:ext cx="806472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ТТЕСТАЦИОННЫЕ МАТЕРИАЛЫ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244440" y="749160"/>
            <a:ext cx="847872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763280" y="333360"/>
            <a:ext cx="57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ПАСИБО ЗА ВНИМАНИЕ!</a:t>
            </a: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          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оставила методист - Есина Н.В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41" name="Picture 3" descr="C:\Documents and Settings\user\Рабочий стол\отчет по неделе пцк\фото\экономическая игра\DSC05011.JPG"/>
          <p:cNvPicPr/>
          <p:nvPr/>
        </p:nvPicPr>
        <p:blipFill>
          <a:blip r:embed="rId1"/>
          <a:stretch/>
        </p:blipFill>
        <p:spPr>
          <a:xfrm rot="351000">
            <a:off x="2398680" y="1569600"/>
            <a:ext cx="4284720" cy="3183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38120" y="407880"/>
            <a:ext cx="8126280" cy="2268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440" y="2565000"/>
            <a:ext cx="82789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намику усвоения учебного материала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йствительный уровень владения системой знаний, умений и навыков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на основе их анализа вносить соответствующие коррективы в организацию учебного процесса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785960" y="347760"/>
            <a:ext cx="6626160" cy="1000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верочная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онтроля служат главным основанием для суждения о результатах учения. Данные контроля констатируют результаты  и оценку учебной деятельности студентов и преподавателей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бучающая –</a:t>
            </a:r>
            <a:r>
              <a:rPr b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выполнения контрольных заданий происходит повторение и закрепление, совершенствование приобретенных ранее знаний и умений путем их уточнения и дополнени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азвивающая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ает большие возможности для развития личности студента, формирования его познавательных способностей, так как в этом процессе происходит напряжение умственной. Контроль протекает в условиях обостренной работы внимания, памяти, мышления, воображени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ная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ь дисциплинирует студента, воспитывает у него чувство ответственности за свою работу, приучает к систематическому учебному труду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тодическая –</a:t>
            </a:r>
            <a:r>
              <a:rPr b="1" lang="ru-RU" sz="17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оцесс и результаты очень важны для совершенствования работы самого преподавателя. Контроль позволяет оценить методы обучения, увидеть его сильные и слабые стороны, выбрать оптимальные варианты обучающей деятельности 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682560" y="407880"/>
            <a:ext cx="7881840" cy="1201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81342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кущий контроль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обучающихся представляет собой контроль освоения студентами  программного материала учебных дисциплин, междисциплинарных курсов и может иметь следующие виды: входной, оперативный и рубежный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межуточная аттестаци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вляется обязательной. Она проводится в установленные учебным планом сроки по окончании освоения программ учебных дисциплин и профессиональных модулей общеобразовательной  и профессиональной подготовкам. Промежуточная аттестация оценивает результаты учебной деятельности обучающихся за полугодие, учебный год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осударственная итоговая аттестация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317520" y="237960"/>
            <a:ext cx="8601120" cy="9622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кущий контроль по УД и ПМ проводится в пределах учебного времени, отведенного на соответствующую дисциплину, как традиционными, так и инновационными методами, включая компьютерные технологии, интернет-тестиров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адача – регулярное управление учебной деятельностью студентов и ее корректиров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12745"/>
                </a:solidFill>
                <a:uFillTx/>
                <a:latin typeface="Calibri"/>
              </a:rPr>
              <a:t>Входной контроль </a:t>
            </a:r>
            <a:r>
              <a:rPr b="1" lang="ru-RU" sz="1800" spc="-1" strike="noStrike">
                <a:solidFill>
                  <a:srgbClr val="212745"/>
                </a:solidFill>
                <a:latin typeface="Calibri"/>
              </a:rPr>
              <a:t>знаний обучающихся проводится в начале изучения темы, дисциплины, раздела, междисциплинарного курса с целью выстраивания индивидуальной траектории обучения обучающихся.</a:t>
            </a:r>
            <a:r>
              <a:rPr b="1" lang="ru-RU" sz="1800" spc="-1" strike="noStrike" u="sng">
                <a:solidFill>
                  <a:srgbClr val="212745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12745"/>
                </a:solidFill>
                <a:uFillTx/>
                <a:latin typeface="Calibri"/>
              </a:rPr>
              <a:t>Оперативный контроль </a:t>
            </a:r>
            <a:r>
              <a:rPr b="1" lang="ru-RU" sz="1800" spc="-1" strike="noStrike">
                <a:solidFill>
                  <a:srgbClr val="212745"/>
                </a:solidFill>
                <a:latin typeface="Calibri"/>
              </a:rPr>
              <a:t>проводится с целью объективной оценки качества освоения программ дисциплин, междисциплинарных курсов, профессиональных модулей, а также стимулирования учебной работы обучающихся, мониторинга результатов образовательной деятельности, подготовки к промежуточной аттестации и обеспечения максимальной эффективности учебно-воспитательного процесс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12745"/>
                </a:solidFill>
                <a:uFillTx/>
                <a:latin typeface="Calibri"/>
              </a:rPr>
              <a:t>Рубежный контроль </a:t>
            </a:r>
            <a:r>
              <a:rPr b="1" lang="ru-RU" sz="1800" spc="-1" strike="noStrike">
                <a:solidFill>
                  <a:srgbClr val="212745"/>
                </a:solidFill>
                <a:latin typeface="Calibri"/>
              </a:rPr>
              <a:t>является контрольной точкой по завершению каждой зачетной единицы учебной дисциплины или междисциплинарного курса и проводится с целью комплексной оценки уровня освоения программного материал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353440" cy="59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контрольная работ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самостоятельная работа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лабораторная работ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практическое занятие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семинарское занятие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коллоквиум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24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тестирование</a:t>
            </a:r>
            <a:r>
              <a:rPr b="0" lang="ru-RU" sz="1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эссе и другие творческие работы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проектные работы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c3260c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курсовые работ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buClr>
                <a:srgbClr val="c3260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опрос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9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8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Форму текущего контроля определяет преподаватель с учетом контингента обучающихся и студентов, содержания учебного материала. Контрольная работа, как форма текущей аттестации, предусматривается по каждой дисциплине и отражается в рабочей программе. Результаты контрольных работ оцениваются и отражаются в журнале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9680" indent="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24" name="Заголовок 4" descr=""/>
          <p:cNvPicPr/>
          <p:nvPr/>
        </p:nvPicPr>
        <p:blipFill>
          <a:blip r:embed="rId1"/>
          <a:stretch/>
        </p:blipFill>
        <p:spPr>
          <a:xfrm>
            <a:off x="1243080" y="-6480"/>
            <a:ext cx="7437240" cy="77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868480" cy="2408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8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10920" y="1341000"/>
            <a:ext cx="78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Цели контроля определяют выбор методов.  Только комплексное применение методов позволяет регулярно и эффективно выявлять динамику формирования системы знаний, умений, навыков, освоение общих и профессиональных компетенций студентов.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395360" y="438120"/>
            <a:ext cx="6870600" cy="1330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39640" y="1413000"/>
            <a:ext cx="777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alibri"/>
              </a:rPr>
              <a:t>— </a:t>
            </a:r>
            <a:r>
              <a:rPr b="1" lang="ru-RU" sz="22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это способы деятельности преподавателя и студентов, в ходе которых выявляется усвоение учебного материала и овладение студентами требуемых знаний, умений, навыков, общих и профессиональных компетенций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стный опрос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письменная проверка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практическая проверка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тандартизированный контроль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77744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212745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212745"/>
                </a:solidFill>
                <a:latin typeface="Calibri"/>
              </a:rPr>
              <a:t>является обязательной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212745"/>
                </a:solidFill>
                <a:latin typeface="Calibri"/>
              </a:rPr>
              <a:t>- проводится в установленные учебным планом сроки по окончании освоения программ учебных дисциплин общеобразовательного и профессионального цикл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12745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212745"/>
                </a:solidFill>
                <a:latin typeface="Calibri"/>
              </a:rPr>
              <a:t>- оценивает результаты учебной деятельности обучающихся за полугодие, учебный год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755640" y="341280"/>
            <a:ext cx="7711920" cy="1725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13:30:02Z</dcterms:created>
  <dc:creator>xxx</dc:creator>
  <dc:description/>
  <dc:language>en-US</dc:language>
  <cp:lastModifiedBy>WiZaRd</cp:lastModifiedBy>
  <cp:lastPrinted>2018-01-31T13:22:41Z</cp:lastPrinted>
  <dcterms:modified xsi:type="dcterms:W3CDTF">2018-02-05T21:25:14Z</dcterms:modified>
  <cp:revision>191</cp:revision>
  <dc:subject/>
  <dc:title>Заголовок слайда отсутствует</dc:title>
</cp:coreProperties>
</file>