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E7E-FC17-40F4-9AF3-B6A74140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471-7687-44D1-979E-E2F97398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42E-833B-4C87-B343-F6A56151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EF2-791E-4444-AE69-B62D3559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5CA-460A-4C3A-9F6F-250CCC2B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FEE-FFD8-43BB-8F9E-3C0FAA6D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D2E-BA50-4048-9F8C-36421EEE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B46-E16B-4983-8F10-CBE84502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8E4-3A4E-49FF-8909-8AFF270D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A2E-9956-4EE9-B1B7-7F13DB4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4CC-9D8C-4F39-BEA5-4C16E489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F05-04D4-4539-ABC3-E27C2B70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CFCA-4080-4B47-9177-923B3D36E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rcRect l="21903" t="22504" r="30564" b="49701"/>
          <a:stretch/>
        </p:blipFill>
        <p:spPr>
          <a:xfrm>
            <a:off x="-76320" y="-165240"/>
            <a:ext cx="12268440" cy="70995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"/>
          <p:cNvPicPr/>
          <p:nvPr/>
        </p:nvPicPr>
        <p:blipFill>
          <a:blip r:embed="rId2"/>
          <a:stretch/>
        </p:blipFill>
        <p:spPr>
          <a:xfrm>
            <a:off x="2360520" y="1969920"/>
            <a:ext cx="2649600" cy="1952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"/>
          <p:cNvPicPr/>
          <p:nvPr/>
        </p:nvPicPr>
        <p:blipFill>
          <a:blip r:embed="rId3"/>
          <a:srcRect l="4430" t="3029" r="8161" b="54618"/>
          <a:stretch/>
        </p:blipFill>
        <p:spPr>
          <a:xfrm>
            <a:off x="1743120" y="4940280"/>
            <a:ext cx="7915320" cy="38354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"/>
          <p:cNvPicPr/>
          <p:nvPr/>
        </p:nvPicPr>
        <p:blipFill>
          <a:blip r:embed="rId4"/>
          <a:stretch/>
        </p:blipFill>
        <p:spPr>
          <a:xfrm>
            <a:off x="7284960" y="2017800"/>
            <a:ext cx="2649600" cy="19526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5"/>
          <a:stretch/>
        </p:blipFill>
        <p:spPr>
          <a:xfrm>
            <a:off x="3780000" y="380880"/>
            <a:ext cx="4576680" cy="457704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17"/>
          <p:cNvGrpSpPr/>
          <p:nvPr/>
        </p:nvGrpSpPr>
        <p:grpSpPr>
          <a:xfrm>
            <a:off x="4149720" y="3875040"/>
            <a:ext cx="4422960" cy="2716200"/>
            <a:chOff x="4149720" y="3875040"/>
            <a:chExt cx="4422960" cy="2716200"/>
          </a:xfrm>
        </p:grpSpPr>
        <p:pic>
          <p:nvPicPr>
            <p:cNvPr id="47" name="Рисунок 14" descr=""/>
            <p:cNvPicPr/>
            <p:nvPr/>
          </p:nvPicPr>
          <p:blipFill>
            <a:blip r:embed="rId6"/>
            <a:stretch/>
          </p:blipFill>
          <p:spPr>
            <a:xfrm>
              <a:off x="4149720" y="3875040"/>
              <a:ext cx="3686400" cy="27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Прямоугольник 15"/>
            <p:cNvSpPr/>
            <p:nvPr/>
          </p:nvSpPr>
          <p:spPr>
            <a:xfrm>
              <a:off x="4559040" y="5067360"/>
              <a:ext cx="26035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10"/>
            <p:cNvSpPr/>
            <p:nvPr/>
          </p:nvSpPr>
          <p:spPr>
            <a:xfrm>
              <a:off x="4635360" y="5004000"/>
              <a:ext cx="393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БУКВА</a:t>
              </a:r>
              <a:r>
                <a:rPr b="1" lang="ru-RU" sz="48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 «</a:t>
              </a:r>
              <a:r>
                <a:rPr b="1" lang="ru-RU" sz="6000" spc="-1" strike="noStrike">
                  <a:solidFill>
                    <a:srgbClr val="c00000"/>
                  </a:solidFill>
                  <a:latin typeface="Myriad Pro"/>
                  <a:ea typeface="Segoe UI Black"/>
                </a:rPr>
                <a:t>И</a:t>
              </a:r>
              <a:r>
                <a:rPr b="1" lang="ru-RU" sz="48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»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Прямоугольник 16"/>
          <p:cNvSpPr/>
          <p:nvPr/>
        </p:nvSpPr>
        <p:spPr>
          <a:xfrm>
            <a:off x="4765680" y="668160"/>
            <a:ext cx="26784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c00000"/>
                </a:solidFill>
                <a:latin typeface="Myriad Pro"/>
              </a:rPr>
              <a:t>И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rcRect l="21903" t="22504" r="30564" b="49701"/>
          <a:stretch/>
        </p:blipFill>
        <p:spPr>
          <a:xfrm>
            <a:off x="-76320" y="-165240"/>
            <a:ext cx="12268440" cy="7099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"/>
          <p:cNvPicPr/>
          <p:nvPr/>
        </p:nvPicPr>
        <p:blipFill>
          <a:blip r:embed="rId2"/>
          <a:stretch/>
        </p:blipFill>
        <p:spPr>
          <a:xfrm>
            <a:off x="2360520" y="1969920"/>
            <a:ext cx="2649600" cy="1952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rcRect l="4430" t="3029" r="8161" b="54618"/>
          <a:stretch/>
        </p:blipFill>
        <p:spPr>
          <a:xfrm>
            <a:off x="1743120" y="4940280"/>
            <a:ext cx="7915320" cy="3835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"/>
          <p:cNvPicPr/>
          <p:nvPr/>
        </p:nvPicPr>
        <p:blipFill>
          <a:blip r:embed="rId4"/>
          <a:stretch/>
        </p:blipFill>
        <p:spPr>
          <a:xfrm>
            <a:off x="7284960" y="2017800"/>
            <a:ext cx="2649600" cy="1952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5"/>
          <a:stretch/>
        </p:blipFill>
        <p:spPr>
          <a:xfrm>
            <a:off x="3780000" y="380880"/>
            <a:ext cx="4576680" cy="457704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17"/>
          <p:cNvGrpSpPr/>
          <p:nvPr/>
        </p:nvGrpSpPr>
        <p:grpSpPr>
          <a:xfrm>
            <a:off x="4149720" y="3875040"/>
            <a:ext cx="4422960" cy="2716200"/>
            <a:chOff x="4149720" y="3875040"/>
            <a:chExt cx="4422960" cy="2716200"/>
          </a:xfrm>
        </p:grpSpPr>
        <p:pic>
          <p:nvPicPr>
            <p:cNvPr id="57" name="Рисунок 14" descr=""/>
            <p:cNvPicPr/>
            <p:nvPr/>
          </p:nvPicPr>
          <p:blipFill>
            <a:blip r:embed="rId6"/>
            <a:stretch/>
          </p:blipFill>
          <p:spPr>
            <a:xfrm>
              <a:off x="4149720" y="3875040"/>
              <a:ext cx="3686400" cy="27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Прямоугольник 15"/>
            <p:cNvSpPr/>
            <p:nvPr/>
          </p:nvSpPr>
          <p:spPr>
            <a:xfrm>
              <a:off x="4559040" y="5067360"/>
              <a:ext cx="26035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0"/>
            <p:cNvSpPr/>
            <p:nvPr/>
          </p:nvSpPr>
          <p:spPr>
            <a:xfrm>
              <a:off x="4635360" y="5004000"/>
              <a:ext cx="393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БУКВА</a:t>
              </a:r>
              <a:r>
                <a:rPr b="1" lang="ru-RU" sz="48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 «</a:t>
              </a:r>
              <a:r>
                <a:rPr b="1" lang="ru-RU" sz="6000" spc="-1" strike="noStrike">
                  <a:solidFill>
                    <a:srgbClr val="c00000"/>
                  </a:solidFill>
                  <a:latin typeface="Myriad Pro"/>
                  <a:ea typeface="Segoe UI Black"/>
                </a:rPr>
                <a:t>И</a:t>
              </a:r>
              <a:r>
                <a:rPr b="1" lang="ru-RU" sz="4800" spc="-1" strike="noStrike">
                  <a:solidFill>
                    <a:srgbClr val="80725b"/>
                  </a:solidFill>
                  <a:latin typeface="Myriad Pro"/>
                  <a:ea typeface="Segoe UI Black"/>
                </a:rPr>
                <a:t>»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16"/>
          <p:cNvSpPr/>
          <p:nvPr/>
        </p:nvSpPr>
        <p:spPr>
          <a:xfrm>
            <a:off x="4074120" y="1022400"/>
            <a:ext cx="22611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c00000"/>
                </a:solidFill>
                <a:latin typeface="Myriad Pro"/>
                <a:ea typeface="Segoe UI Black"/>
              </a:rPr>
              <a:t>И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5"/>
          <p:cNvSpPr/>
          <p:nvPr/>
        </p:nvSpPr>
        <p:spPr>
          <a:xfrm>
            <a:off x="5914080" y="1047600"/>
            <a:ext cx="20005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c00000"/>
                </a:solidFill>
                <a:latin typeface="Myriad Pro"/>
                <a:ea typeface="Segoe UI Black"/>
              </a:rPr>
              <a:t>и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7T06:32:48Z</dcterms:created>
  <dc:creator>RePack by Diakov</dc:creator>
  <dc:description/>
  <dc:language>en-US</dc:language>
  <cp:lastModifiedBy>user</cp:lastModifiedBy>
  <dcterms:modified xsi:type="dcterms:W3CDTF">2018-02-06T07:00:55Z</dcterms:modified>
  <cp:revision>147</cp:revision>
  <dc:subject/>
  <dc:title>Презентация PowerPoint</dc:title>
</cp:coreProperties>
</file>