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F36D-D593-443B-8348-615A837684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1FD0-FEFF-44E4-B53D-CAB6652EB7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16FB-7E1B-4FAF-8175-5264246F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4FC4-6A4A-4011-B6A4-584C9414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1219-E2A7-44F1-8F2E-36AB0A74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477D-78B9-4FF1-958F-DCCD7703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9F2E-15E1-41D7-BFFB-568988C7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674F-F405-4BED-87B2-ABF15185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C202-E10F-4DF0-8F8D-22CF3B12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6EA9-DB2E-4240-84C2-4CCB1A57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4194-0EAE-48B2-85B1-D06A3ABB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E0BB-2F1E-408D-946B-55B737DB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9445-675D-4016-8CDE-377B26EF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6932-3F11-414A-818D-B7227647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3B71-5602-41BD-BC44-1B6A7292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8B72-219A-420E-96FF-89F7AFA9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0662-BA74-4295-AD3D-EE7A06DC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6E98-4879-4CB1-B24D-5BCBA51C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7A14-56FE-40B6-9126-F80F7D4A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3354F-BEA4-45AC-8DE4-F6A8BBAC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B1E6A-1A7C-4179-A5BD-02B56450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7EDC2-B978-4327-AA69-D215403B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9E263-6F5D-44C3-BD1C-B88677CB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16DB1-1980-48A5-A1E4-EEFC1998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1F7A-5A30-4B48-8531-E411B565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AEF1F-0404-4591-8D5A-964F6654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C552B-5762-41EC-97CA-8BF30A8E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28EE1-A323-4D10-8842-A12E8DFF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28E48-ABB4-4A52-BEF5-25E46D3B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7DED4-35FE-4111-A5C3-D8D47A68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C4912-D240-4DB0-A65D-7BEEB425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6CC9C-B73F-4FC5-8A78-086EBBF7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4B66D-2B9A-4ED3-8096-3064EC41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F8A04-6BD3-4D2D-A63A-55389475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BA18A-6C82-4362-A8C7-962EE5DA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FFE1-C7B1-4F8E-9F55-D16F9810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5DA61-0128-4522-A630-F872360C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667C9-FF43-49A6-A1C3-16157454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59B8E-42BA-4C6A-9C6E-EA25D3E2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ED4C1-F966-4FE6-8A51-B03AA235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FDBFE-AC6F-4211-A865-E09A2103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DA536-5733-4BF0-A3A5-F1A5D86C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DB1F7-E5CC-4023-9B23-3C2A7B90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C2832-947A-4C79-806A-11C1FBF4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94F30-D2B6-4453-A755-7F6CD63A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6C62-CBDE-4D27-B09F-4A1926C0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6FC3-16F3-47C8-8953-9FFD4146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9A63-A585-4175-BE66-4FADAB33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9450-DF74-4C20-B075-62EAD7E5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6630-15F7-4653-ACFC-4FE51997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6643-9B44-4E2F-906D-47BE1443DE9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1BAD-A9D0-4C62-9E97-5B1DE705911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52C3-7CFD-4A80-8639-C4107775597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2E12-08E1-43F5-B342-D5691C69C76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В гости к Мойдодыру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Picture 2" descr="http://proonline-akopyan.ru/images/cms/data/0_project/mojdodyr.jpg"/>
          <p:cNvPicPr/>
          <p:nvPr/>
        </p:nvPicPr>
        <p:blipFill>
          <a:blip r:embed="rId2"/>
          <a:stretch/>
        </p:blipFill>
        <p:spPr>
          <a:xfrm>
            <a:off x="324000" y="1773360"/>
            <a:ext cx="5760720" cy="4608360"/>
          </a:xfrm>
          <a:prstGeom prst="rect">
            <a:avLst/>
          </a:prstGeom>
          <a:ln w="0">
            <a:noFill/>
          </a:ln>
        </p:spPr>
      </p:pic>
      <p:sp>
        <p:nvSpPr>
          <p:cNvPr id="204" name="Овальная выноска 6"/>
          <p:cNvSpPr/>
          <p:nvPr/>
        </p:nvSpPr>
        <p:spPr>
          <a:xfrm>
            <a:off x="5651640" y="1628640"/>
            <a:ext cx="3241440" cy="2737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Я — Великий Умывальник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Знаменитый Мойдодыр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Умывальников Начальник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И мочалок Командир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http://www.londonderryimages.com/Other/Coloring-Books/WashMyHands/799955609_xTfhi-S.jpg"/>
          <p:cNvPicPr/>
          <p:nvPr/>
        </p:nvPicPr>
        <p:blipFill>
          <a:blip r:embed="rId1"/>
          <a:stretch/>
        </p:blipFill>
        <p:spPr>
          <a:xfrm>
            <a:off x="1835280" y="1268280"/>
            <a:ext cx="56163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елых 25 зубков,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кудрей и хохолков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под каждым, под зубком –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ягут волосы рядк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://t1.ftcdn.net/jpg/00/54/49/34/400_F_54493404_XY2VCzIHUgqULJ2IzGCmIYGnHMKMzMbM.jpg"/>
          <p:cNvPicPr/>
          <p:nvPr/>
        </p:nvPicPr>
        <p:blipFill>
          <a:blip r:embed="rId1"/>
          <a:stretch/>
        </p:blipFill>
        <p:spPr>
          <a:xfrm>
            <a:off x="2556000" y="134136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себя я труд беру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ятки, локти с мылом тру,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коленки оттираю,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ичего не забываю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fictionbook.ru/static/bookimages/02/04/03/02040335.bin.dir/h/i_005.jpg"/>
          <p:cNvPicPr/>
          <p:nvPr/>
        </p:nvPicPr>
        <p:blipFill>
          <a:blip r:embed="rId1"/>
          <a:stretch/>
        </p:blipFill>
        <p:spPr>
          <a:xfrm>
            <a:off x="2124000" y="1557360"/>
            <a:ext cx="48243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 не море и не речка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 не озеро, не пруд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о как утро или вечер —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юди все ко мне бегу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https://im1-tub-ru.yandex.net/i?id=7ae50d4e0c4fd8a4648f6a704a135ed8&amp;n=33&amp;h=190&amp;w=186"/>
          <p:cNvPicPr/>
          <p:nvPr/>
        </p:nvPicPr>
        <p:blipFill>
          <a:blip r:embed="rId1"/>
          <a:stretch/>
        </p:blipFill>
        <p:spPr>
          <a:xfrm>
            <a:off x="1692360" y="1125360"/>
            <a:ext cx="5327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6836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еребряная труба,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 трубы – вода,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да бежит и льётся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белизну колодца,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трубе – два братца,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дят да веселятся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дин в кафтане красном,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торой – в голубом,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а друга-брата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ведуют вод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http://www.cliparthut.com/clip-arts/667/cartoon-hand-washing-clip-art-667919.jpg"/>
          <p:cNvPicPr/>
          <p:nvPr/>
        </p:nvPicPr>
        <p:blipFill>
          <a:blip r:embed="rId1"/>
          <a:stretch/>
        </p:blipFill>
        <p:spPr>
          <a:xfrm>
            <a:off x="2340000" y="981000"/>
            <a:ext cx="417672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остяная спинка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Жесткая щетинк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 мятной пастой дружит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Нам усердно служи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http://proonline-akopyan.ru/images/cms/data/0_project/mojdodyr.jpg"/>
          <p:cNvPicPr/>
          <p:nvPr/>
        </p:nvPicPr>
        <p:blipFill>
          <a:blip r:embed="rId2"/>
          <a:stretch/>
        </p:blipFill>
        <p:spPr>
          <a:xfrm>
            <a:off x="108000" y="2421000"/>
            <a:ext cx="4968720" cy="4032360"/>
          </a:xfrm>
          <a:prstGeom prst="rect">
            <a:avLst/>
          </a:prstGeom>
          <a:ln w="0">
            <a:noFill/>
          </a:ln>
        </p:spPr>
      </p:pic>
      <p:sp>
        <p:nvSpPr>
          <p:cNvPr id="206" name="Овальная выноска 4"/>
          <p:cNvSpPr/>
          <p:nvPr/>
        </p:nvSpPr>
        <p:spPr>
          <a:xfrm>
            <a:off x="3780000" y="333360"/>
            <a:ext cx="5113080" cy="2448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Дорогие, ребята!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Сегодня 1 декабря. В нашей школе проводится акция под названием «Мы выбираем жизнь». Сегодня я хочу с вами поговорить об очень важной составляющей нашей жизни: о здоровье и как его сохранить. Здоровье считается главной ценностью, так как, его не купишь ни за какие деньги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http://900igr.net/datai/predmety/Vannaja.files/0008-007-Zubnaja-schetka.png"/>
          <p:cNvPicPr/>
          <p:nvPr/>
        </p:nvPicPr>
        <p:blipFill>
          <a:blip r:embed="rId1"/>
          <a:stretch/>
        </p:blipFill>
        <p:spPr>
          <a:xfrm>
            <a:off x="2556000" y="1557360"/>
            <a:ext cx="45720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Задание №3</a:t>
            </a: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Физминутка с Мойдодыро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2" descr="http://proonline-akopyan.ru/images/cms/data/0_project/mojdodyr.jpg"/>
          <p:cNvPicPr/>
          <p:nvPr/>
        </p:nvPicPr>
        <p:blipFill>
          <a:blip r:embed="rId1"/>
          <a:stretch/>
        </p:blipFill>
        <p:spPr>
          <a:xfrm>
            <a:off x="395280" y="1916280"/>
            <a:ext cx="2592360" cy="3168360"/>
          </a:xfrm>
          <a:prstGeom prst="rect">
            <a:avLst/>
          </a:prstGeom>
          <a:ln w="0">
            <a:noFill/>
          </a:ln>
        </p:spPr>
      </p:pic>
      <p:sp>
        <p:nvSpPr>
          <p:cNvPr id="231" name="Заголовок 1"/>
          <p:cNvSpPr/>
          <p:nvPr/>
        </p:nvSpPr>
        <p:spPr>
          <a:xfrm>
            <a:off x="3780000" y="1773360"/>
            <a:ext cx="3456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4617b"/>
                </a:solidFill>
                <a:latin typeface="Calibri"/>
              </a:rPr>
              <a:t>Руки к пяткам и к ушам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4617b"/>
                </a:solidFill>
                <a:latin typeface="Calibri"/>
              </a:rPr>
              <a:t>На колени и к плечам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4617b"/>
                </a:solidFill>
                <a:latin typeface="Calibri"/>
              </a:rPr>
              <a:t>В стороны, на пояс, вверх!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4617b"/>
                </a:solidFill>
                <a:latin typeface="Calibri"/>
              </a:rPr>
              <a:t>А теперь веселый смех!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4617b"/>
                </a:solidFill>
                <a:latin typeface="Calibri"/>
              </a:rPr>
              <a:t>Все мальчишки: «Ха-ха-ха!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4617b"/>
                </a:solidFill>
                <a:latin typeface="Calibri"/>
              </a:rPr>
              <a:t>Все девчонки: «Хи-хи-хи!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4617b"/>
                </a:solidFill>
                <a:latin typeface="Calibri"/>
              </a:rPr>
              <a:t>А все вместе «Хо-хо-хо!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2" descr="http://cs625324.vk.me/v625324470/40ead/pBwkTIucChQ.jpg"/>
          <p:cNvPicPr/>
          <p:nvPr/>
        </p:nvPicPr>
        <p:blipFill>
          <a:blip r:embed="rId2"/>
          <a:stretch/>
        </p:blipFill>
        <p:spPr>
          <a:xfrm>
            <a:off x="3924360" y="3860640"/>
            <a:ext cx="42480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Задание №4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Что в мешке у Мойдодыра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Picture 2" descr="http://top-bal.ru/pars_docs/refs/21/20710/20710_html_m565ed5a4.jpg"/>
          <p:cNvPicPr/>
          <p:nvPr/>
        </p:nvPicPr>
        <p:blipFill>
          <a:blip r:embed="rId1"/>
          <a:stretch/>
        </p:blipFill>
        <p:spPr>
          <a:xfrm>
            <a:off x="4427640" y="2565360"/>
            <a:ext cx="4381560" cy="3657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savepic.ru/1119292.jpg"/>
          <p:cNvPicPr/>
          <p:nvPr/>
        </p:nvPicPr>
        <p:blipFill>
          <a:blip r:embed="rId2"/>
          <a:stretch/>
        </p:blipFill>
        <p:spPr>
          <a:xfrm>
            <a:off x="971640" y="1916280"/>
            <a:ext cx="36194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ем спасибо за внимание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 задор и звонкий смех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 огонь соревнованья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еспечивший успе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т настал момент прощ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удет краткой моя реч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оворю всем: «До свидания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 счастливых новых встреч!»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http://proonline-akopyan.ru/images/cms/data/0_project/mojdodyr.jpg"/>
          <p:cNvPicPr/>
          <p:nvPr/>
        </p:nvPicPr>
        <p:blipFill>
          <a:blip r:embed="rId1"/>
          <a:stretch/>
        </p:blipFill>
        <p:spPr>
          <a:xfrm>
            <a:off x="395280" y="1916280"/>
            <a:ext cx="1800360" cy="21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Задание №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должите строки из стихотворения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.И. Чуковского «Мойдодыр»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 тебя такие руки…………………………….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яло убежало, улетела простыня……………………………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до, надо умываться по утрам и вечерам … ………………………………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а здравствует мыло душистое и полотенце пушистое... ……………………………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 в ванне, и в бане, всегда и везде………………………………………………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от теперь тебя люблю я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от теперь тебя…………………………………………………………………………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7. А от бешеной мочалк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Я помчался…………………………………………………………………………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Ты один не умывался………………………………………………………………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Задание №2</a:t>
            </a:r>
            <a:br>
              <a:rPr sz="4500"/>
            </a:br>
            <a:r>
              <a:rPr b="1" lang="ru-RU" sz="4900" spc="-1" strike="noStrike">
                <a:solidFill>
                  <a:srgbClr val="0b5395"/>
                </a:solidFill>
                <a:latin typeface="Calibri"/>
              </a:rPr>
              <a:t>Отгадайте загадки</a:t>
            </a:r>
            <a:br>
              <a:rPr sz="4900"/>
            </a:b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5000"/>
            <a:ext cx="822960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http://www2.maxwell.syr.edu/plegal/ppac/question.jpg"/>
          <p:cNvPicPr/>
          <p:nvPr/>
        </p:nvPicPr>
        <p:blipFill>
          <a:blip r:embed="rId1"/>
          <a:stretch/>
        </p:blipFill>
        <p:spPr>
          <a:xfrm>
            <a:off x="2484360" y="2637000"/>
            <a:ext cx="38322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 сияет, и блестит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икому оно не льстит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А любому правду скажет —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сё как есть ему покаже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cs624925.vk.me/v624925039/2b9b9/Q5nYDaJC3vw.jpg"/>
          <p:cNvPicPr/>
          <p:nvPr/>
        </p:nvPicPr>
        <p:blipFill>
          <a:blip r:embed="rId1"/>
          <a:stretch/>
        </p:blipFill>
        <p:spPr>
          <a:xfrm>
            <a:off x="2700360" y="692280"/>
            <a:ext cx="355284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т такой забавный случай!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селилась в ванной туч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ждик льется с потолк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не на спину и бок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 чего ж приятно это!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ждик теплый, подогретый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полу не видно луж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е ребята любят..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http://www.hel.fi/hel2/helsinkikaikille/kuvasymbolit/Ladattavat%20kuvat/Suihku.jpg"/>
          <p:cNvPicPr/>
          <p:nvPr/>
        </p:nvPicPr>
        <p:blipFill>
          <a:blip r:embed="rId1"/>
          <a:stretch/>
        </p:blipFill>
        <p:spPr>
          <a:xfrm>
            <a:off x="2268360" y="1052640"/>
            <a:ext cx="4104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скользает как живое,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о не выпущу его я,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лой пеной пенится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уки мыть не пенит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2T15:06:33Z</dcterms:created>
  <dc:creator>Юдина</dc:creator>
  <dc:description/>
  <dc:language>en-US</dc:language>
  <cp:lastModifiedBy>1</cp:lastModifiedBy>
  <dcterms:modified xsi:type="dcterms:W3CDTF">2015-11-23T10:39:09Z</dcterms:modified>
  <cp:revision>18</cp:revision>
  <dc:subject/>
  <dc:title>Слайд 1</dc:title>
</cp:coreProperties>
</file>